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D21-C078-4055-A907-67A0AD41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B4D-DBDE-43A2-860B-433B020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2E3-6C0A-414A-936B-E5EE4ED4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A4F-32C6-436B-B32B-E153AA8D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DED5-B605-4C97-BCFD-1F7C9922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B0F-06B7-43E0-8236-7A431D4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937-D68B-4572-BF62-DA5BA7CD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4DB7-9F4A-46FD-A428-1DAAA3AD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5DA1-4150-49C7-96E2-CBF5FDF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25E-6C0E-4465-8576-9B13E01C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E85D-1422-457E-97AB-903DBE7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0D0-9160-4AC9-9558-6F8CA09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D94-D465-4DA0-96D3-D058419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EA9A-11E6-40C4-A306-C5C0CF6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BC6-6290-46C6-BF5B-DF6BD46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803-554F-4EA9-AEBB-05E450DB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7EE-46DA-4019-9EC5-896491F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6AA-E951-45E7-8A13-F0D137B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8AD-674F-4C6B-8A2B-E59388D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56C-FB10-4F7C-A611-5E6CA4F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C40-5154-4511-B863-D30EA4E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D3C-88D8-43DA-BEA4-DA90C2F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F34-148A-49DD-A340-4C1AF74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EBB-700B-4A48-9F47-5F392C8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FE1-8E6F-4305-8E77-000BFAAA1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DDEA-8E80-4F69-8CB4-5017F43C1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vline.abacusline.co.uk/pictures/jpeg/pics/mona.jpg&amp;imgrefurl=http://www.nipnzip.com/auction_details.php%3Fname%3DThe-real-Mona-Lisa%26auction_id%3D100007&amp;usg=__EeorN2biZIkzl0qoqDZl9S6rt1U=&amp;h=1143&amp;w=800&amp;sz=217&amp;hl=en&amp;start=1&amp;tbnid=V3bPjgNSYjL4mM:&amp;tbnh=150&amp;tbnw=105&amp;prev=/images%3Fq%3Dmona%2Blisa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express direct and inverse variation in algebraic te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use algebra to find unknown quantities in direct/inverse vari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increase and decrease a quantity by a given rati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1-62 Q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crease 200 by a ratio of 3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ree parts for every tw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57240" y="3143160"/>
            <a:ext cx="625680" cy="473040"/>
          </a:xfrm>
          <a:custGeom>
            <a:avLst/>
            <a:gdLst/>
            <a:ahLst/>
            <a:rect l="l" t="t" r="r" b="b"/>
            <a:pathLst>
              <a:path w="1738" h="1316">
                <a:moveTo>
                  <a:pt x="5283" y="9004"/>
                </a:moveTo>
                <a:cubicBezTo>
                  <a:pt x="5244" y="9014"/>
                  <a:pt x="5220" y="9042"/>
                  <a:pt x="5184" y="9054"/>
                </a:cubicBezTo>
                <a:cubicBezTo>
                  <a:pt x="5176" y="9054"/>
                  <a:pt x="5167" y="9054"/>
                  <a:pt x="5159" y="9054"/>
                </a:cubicBezTo>
                <a:cubicBezTo>
                  <a:pt x="5159" y="9000"/>
                  <a:pt x="5160" y="8981"/>
                  <a:pt x="5184" y="8930"/>
                </a:cubicBezTo>
                <a:cubicBezTo>
                  <a:pt x="5215" y="8865"/>
                  <a:pt x="5262" y="8762"/>
                  <a:pt x="5333" y="8731"/>
                </a:cubicBezTo>
                <a:cubicBezTo>
                  <a:pt x="5414" y="8695"/>
                  <a:pt x="5478" y="8763"/>
                  <a:pt x="5507" y="8830"/>
                </a:cubicBezTo>
                <a:cubicBezTo>
                  <a:pt x="5542" y="8911"/>
                  <a:pt x="5549" y="9041"/>
                  <a:pt x="5531" y="9128"/>
                </a:cubicBezTo>
                <a:cubicBezTo>
                  <a:pt x="5519" y="9190"/>
                  <a:pt x="5488" y="9247"/>
                  <a:pt x="5482" y="9302"/>
                </a:cubicBezTo>
                <a:cubicBezTo>
                  <a:pt x="5482" y="9327"/>
                  <a:pt x="5482" y="9335"/>
                  <a:pt x="5482" y="9351"/>
                </a:cubicBezTo>
                <a:cubicBezTo>
                  <a:pt x="5531" y="9339"/>
                  <a:pt x="5577" y="9315"/>
                  <a:pt x="5631" y="9302"/>
                </a:cubicBezTo>
                <a:cubicBezTo>
                  <a:pt x="5664" y="9294"/>
                  <a:pt x="5696" y="9284"/>
                  <a:pt x="5730" y="9277"/>
                </a:cubicBezTo>
              </a:path>
              <a:path w="1738" h="1316">
                <a:moveTo>
                  <a:pt x="6003" y="9029"/>
                </a:moveTo>
                <a:cubicBezTo>
                  <a:pt x="5964" y="9000"/>
                  <a:pt x="5903" y="9008"/>
                  <a:pt x="5879" y="8954"/>
                </a:cubicBezTo>
                <a:cubicBezTo>
                  <a:pt x="5866" y="8926"/>
                  <a:pt x="5932" y="8869"/>
                  <a:pt x="5953" y="8855"/>
                </a:cubicBezTo>
                <a:cubicBezTo>
                  <a:pt x="6026" y="8808"/>
                  <a:pt x="6114" y="8886"/>
                  <a:pt x="6152" y="8954"/>
                </a:cubicBezTo>
                <a:cubicBezTo>
                  <a:pt x="6176" y="8997"/>
                  <a:pt x="6200" y="9128"/>
                  <a:pt x="6176" y="9178"/>
                </a:cubicBezTo>
                <a:cubicBezTo>
                  <a:pt x="6154" y="9224"/>
                  <a:pt x="6068" y="9203"/>
                  <a:pt x="6028" y="9203"/>
                </a:cubicBezTo>
                <a:cubicBezTo>
                  <a:pt x="6020" y="9203"/>
                  <a:pt x="6011" y="9203"/>
                  <a:pt x="6003" y="9203"/>
                </a:cubicBezTo>
              </a:path>
              <a:path w="1738" h="1316">
                <a:moveTo>
                  <a:pt x="6424" y="9029"/>
                </a:moveTo>
                <a:cubicBezTo>
                  <a:pt x="6416" y="9037"/>
                  <a:pt x="6408" y="9046"/>
                  <a:pt x="6400" y="9054"/>
                </a:cubicBezTo>
                <a:cubicBezTo>
                  <a:pt x="6371" y="9044"/>
                  <a:pt x="6354" y="8995"/>
                  <a:pt x="6375" y="8954"/>
                </a:cubicBezTo>
                <a:cubicBezTo>
                  <a:pt x="6396" y="8914"/>
                  <a:pt x="6471" y="8848"/>
                  <a:pt x="6524" y="8880"/>
                </a:cubicBezTo>
                <a:cubicBezTo>
                  <a:pt x="6595" y="8922"/>
                  <a:pt x="6678" y="9024"/>
                  <a:pt x="6697" y="9103"/>
                </a:cubicBezTo>
                <a:cubicBezTo>
                  <a:pt x="6697" y="9120"/>
                  <a:pt x="6697" y="9136"/>
                  <a:pt x="6697" y="9153"/>
                </a:cubicBezTo>
                <a:cubicBezTo>
                  <a:pt x="6640" y="9175"/>
                  <a:pt x="6563" y="9196"/>
                  <a:pt x="6499" y="9178"/>
                </a:cubicBezTo>
                <a:cubicBezTo>
                  <a:pt x="6452" y="9165"/>
                  <a:pt x="6411" y="9132"/>
                  <a:pt x="6375" y="9103"/>
                </a:cubicBezTo>
              </a:path>
              <a:path w="1738" h="1316">
                <a:moveTo>
                  <a:pt x="6871" y="9376"/>
                </a:moveTo>
                <a:cubicBezTo>
                  <a:pt x="6932" y="9376"/>
                  <a:pt x="6764" y="9396"/>
                  <a:pt x="6747" y="9401"/>
                </a:cubicBezTo>
                <a:cubicBezTo>
                  <a:pt x="6621" y="9440"/>
                  <a:pt x="6503" y="9450"/>
                  <a:pt x="6375" y="9475"/>
                </a:cubicBezTo>
                <a:cubicBezTo>
                  <a:pt x="6231" y="9503"/>
                  <a:pt x="6114" y="9551"/>
                  <a:pt x="5978" y="9599"/>
                </a:cubicBezTo>
                <a:cubicBezTo>
                  <a:pt x="5955" y="9607"/>
                  <a:pt x="5843" y="9653"/>
                  <a:pt x="5829" y="9674"/>
                </a:cubicBezTo>
                <a:cubicBezTo>
                  <a:pt x="5829" y="9699"/>
                  <a:pt x="5829" y="9707"/>
                  <a:pt x="5804" y="9699"/>
                </a:cubicBezTo>
              </a:path>
              <a:path w="1738" h="1316">
                <a:moveTo>
                  <a:pt x="6251" y="9823"/>
                </a:moveTo>
                <a:cubicBezTo>
                  <a:pt x="6243" y="9831"/>
                  <a:pt x="6234" y="9839"/>
                  <a:pt x="6226" y="9847"/>
                </a:cubicBezTo>
                <a:cubicBezTo>
                  <a:pt x="6238" y="9802"/>
                  <a:pt x="6257" y="9755"/>
                  <a:pt x="6300" y="9723"/>
                </a:cubicBezTo>
                <a:cubicBezTo>
                  <a:pt x="6348" y="9687"/>
                  <a:pt x="6406" y="9689"/>
                  <a:pt x="6449" y="9723"/>
                </a:cubicBezTo>
                <a:cubicBezTo>
                  <a:pt x="6511" y="9772"/>
                  <a:pt x="6458" y="9841"/>
                  <a:pt x="6449" y="9897"/>
                </a:cubicBezTo>
                <a:cubicBezTo>
                  <a:pt x="6440" y="9949"/>
                  <a:pt x="6424" y="9993"/>
                  <a:pt x="6424" y="10046"/>
                </a:cubicBezTo>
                <a:cubicBezTo>
                  <a:pt x="6462" y="10046"/>
                  <a:pt x="6521" y="10041"/>
                  <a:pt x="6548" y="10021"/>
                </a:cubicBezTo>
                <a:cubicBezTo>
                  <a:pt x="6602" y="9981"/>
                  <a:pt x="6636" y="9953"/>
                  <a:pt x="6697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30680" y="3286080"/>
            <a:ext cx="10764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8037" y="9178"/>
                </a:moveTo>
                <a:cubicBezTo>
                  <a:pt x="8060" y="9155"/>
                  <a:pt x="8068" y="9151"/>
                  <a:pt x="8062" y="9128"/>
                </a:cubicBezTo>
                <a:cubicBezTo>
                  <a:pt x="8021" y="9128"/>
                  <a:pt x="7996" y="9138"/>
                  <a:pt x="7962" y="9153"/>
                </a:cubicBezTo>
                <a:cubicBezTo>
                  <a:pt x="7916" y="9173"/>
                  <a:pt x="7899" y="9176"/>
                  <a:pt x="7863" y="9203"/>
                </a:cubicBezTo>
              </a:path>
              <a:path w="299" h="324">
                <a:moveTo>
                  <a:pt x="8086" y="9351"/>
                </a:moveTo>
                <a:cubicBezTo>
                  <a:pt x="8131" y="9351"/>
                  <a:pt x="8144" y="9348"/>
                  <a:pt x="8161" y="9376"/>
                </a:cubicBezTo>
                <a:cubicBezTo>
                  <a:pt x="8109" y="9407"/>
                  <a:pt x="8068" y="9406"/>
                  <a:pt x="8012" y="9426"/>
                </a:cubicBezTo>
                <a:cubicBezTo>
                  <a:pt x="7972" y="9446"/>
                  <a:pt x="7965" y="9455"/>
                  <a:pt x="793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89160" y="3205080"/>
            <a:ext cx="447840" cy="179640"/>
          </a:xfrm>
          <a:custGeom>
            <a:avLst/>
            <a:gdLst/>
            <a:ahLst/>
            <a:rect l="l" t="t" r="r" b="b"/>
            <a:pathLst>
              <a:path w="1242" h="497">
                <a:moveTo>
                  <a:pt x="8582" y="9103"/>
                </a:moveTo>
                <a:cubicBezTo>
                  <a:pt x="8590" y="9078"/>
                  <a:pt x="8599" y="9054"/>
                  <a:pt x="8607" y="9029"/>
                </a:cubicBezTo>
                <a:cubicBezTo>
                  <a:pt x="8607" y="9135"/>
                  <a:pt x="8617" y="9225"/>
                  <a:pt x="8632" y="9327"/>
                </a:cubicBezTo>
                <a:cubicBezTo>
                  <a:pt x="8632" y="9371"/>
                  <a:pt x="8629" y="9385"/>
                  <a:pt x="8657" y="9401"/>
                </a:cubicBezTo>
              </a:path>
              <a:path w="1242" h="497">
                <a:moveTo>
                  <a:pt x="8979" y="9128"/>
                </a:moveTo>
                <a:cubicBezTo>
                  <a:pt x="8963" y="9123"/>
                  <a:pt x="8915" y="9088"/>
                  <a:pt x="8930" y="9054"/>
                </a:cubicBezTo>
                <a:cubicBezTo>
                  <a:pt x="8961" y="8983"/>
                  <a:pt x="9005" y="8958"/>
                  <a:pt x="9079" y="8954"/>
                </a:cubicBezTo>
                <a:cubicBezTo>
                  <a:pt x="9157" y="8950"/>
                  <a:pt x="9238" y="9079"/>
                  <a:pt x="9252" y="9153"/>
                </a:cubicBezTo>
                <a:cubicBezTo>
                  <a:pt x="9265" y="9222"/>
                  <a:pt x="9239" y="9318"/>
                  <a:pt x="9153" y="9302"/>
                </a:cubicBezTo>
                <a:cubicBezTo>
                  <a:pt x="9062" y="9285"/>
                  <a:pt x="8985" y="9238"/>
                  <a:pt x="8930" y="9178"/>
                </a:cubicBezTo>
                <a:cubicBezTo>
                  <a:pt x="8922" y="9170"/>
                  <a:pt x="8913" y="9161"/>
                  <a:pt x="8905" y="9153"/>
                </a:cubicBezTo>
              </a:path>
              <a:path w="1242" h="497">
                <a:moveTo>
                  <a:pt x="9500" y="9079"/>
                </a:moveTo>
                <a:cubicBezTo>
                  <a:pt x="9483" y="9057"/>
                  <a:pt x="9456" y="9013"/>
                  <a:pt x="9475" y="8979"/>
                </a:cubicBezTo>
                <a:cubicBezTo>
                  <a:pt x="9506" y="8924"/>
                  <a:pt x="9619" y="8894"/>
                  <a:pt x="9674" y="8905"/>
                </a:cubicBezTo>
                <a:cubicBezTo>
                  <a:pt x="9779" y="8925"/>
                  <a:pt x="9815" y="9043"/>
                  <a:pt x="9823" y="9128"/>
                </a:cubicBezTo>
                <a:cubicBezTo>
                  <a:pt x="9832" y="9225"/>
                  <a:pt x="9767" y="9266"/>
                  <a:pt x="9674" y="9252"/>
                </a:cubicBezTo>
                <a:cubicBezTo>
                  <a:pt x="9601" y="9241"/>
                  <a:pt x="9503" y="9170"/>
                  <a:pt x="9475" y="9103"/>
                </a:cubicBezTo>
                <a:cubicBezTo>
                  <a:pt x="9475" y="9095"/>
                  <a:pt x="9475" y="9087"/>
                  <a:pt x="947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0280" y="3044880"/>
            <a:ext cx="1920960" cy="403200"/>
          </a:xfrm>
          <a:custGeom>
            <a:avLst/>
            <a:gdLst/>
            <a:ahLst/>
            <a:rect l="l" t="t" r="r" b="b"/>
            <a:pathLst>
              <a:path w="5334" h="1118">
                <a:moveTo>
                  <a:pt x="12973" y="8880"/>
                </a:moveTo>
                <a:cubicBezTo>
                  <a:pt x="12973" y="8872"/>
                  <a:pt x="12973" y="8863"/>
                  <a:pt x="12973" y="8855"/>
                </a:cubicBezTo>
                <a:cubicBezTo>
                  <a:pt x="12973" y="8793"/>
                  <a:pt x="12995" y="8938"/>
                  <a:pt x="12998" y="8954"/>
                </a:cubicBezTo>
                <a:cubicBezTo>
                  <a:pt x="13014" y="9048"/>
                  <a:pt x="12998" y="9157"/>
                  <a:pt x="12998" y="9252"/>
                </a:cubicBezTo>
                <a:cubicBezTo>
                  <a:pt x="13022" y="9236"/>
                  <a:pt x="13053" y="9152"/>
                  <a:pt x="13072" y="9103"/>
                </a:cubicBezTo>
                <a:cubicBezTo>
                  <a:pt x="13099" y="9034"/>
                  <a:pt x="13114" y="8908"/>
                  <a:pt x="13171" y="8855"/>
                </a:cubicBezTo>
                <a:cubicBezTo>
                  <a:pt x="13215" y="8814"/>
                  <a:pt x="13291" y="8826"/>
                  <a:pt x="13320" y="8880"/>
                </a:cubicBezTo>
                <a:cubicBezTo>
                  <a:pt x="13365" y="8964"/>
                  <a:pt x="13383" y="9065"/>
                  <a:pt x="13419" y="9153"/>
                </a:cubicBezTo>
                <a:cubicBezTo>
                  <a:pt x="13444" y="9215"/>
                  <a:pt x="13444" y="9210"/>
                  <a:pt x="13444" y="9277"/>
                </a:cubicBezTo>
              </a:path>
              <a:path w="5334" h="1118">
                <a:moveTo>
                  <a:pt x="13543" y="9128"/>
                </a:moveTo>
                <a:cubicBezTo>
                  <a:pt x="13551" y="9151"/>
                  <a:pt x="13586" y="9167"/>
                  <a:pt x="13618" y="9178"/>
                </a:cubicBezTo>
                <a:cubicBezTo>
                  <a:pt x="13674" y="9197"/>
                  <a:pt x="13728" y="9121"/>
                  <a:pt x="13742" y="9079"/>
                </a:cubicBezTo>
                <a:cubicBezTo>
                  <a:pt x="13757" y="9035"/>
                  <a:pt x="13737" y="8974"/>
                  <a:pt x="13692" y="8954"/>
                </a:cubicBezTo>
                <a:cubicBezTo>
                  <a:pt x="13684" y="8954"/>
                  <a:pt x="13675" y="8954"/>
                  <a:pt x="13667" y="8954"/>
                </a:cubicBezTo>
                <a:cubicBezTo>
                  <a:pt x="13636" y="8994"/>
                  <a:pt x="13570" y="9070"/>
                  <a:pt x="13593" y="9128"/>
                </a:cubicBezTo>
                <a:cubicBezTo>
                  <a:pt x="13620" y="9197"/>
                  <a:pt x="13691" y="9306"/>
                  <a:pt x="13767" y="9327"/>
                </a:cubicBezTo>
                <a:cubicBezTo>
                  <a:pt x="13833" y="9346"/>
                  <a:pt x="13893" y="9320"/>
                  <a:pt x="13940" y="9277"/>
                </a:cubicBezTo>
                <a:cubicBezTo>
                  <a:pt x="13948" y="9269"/>
                  <a:pt x="13957" y="9260"/>
                  <a:pt x="13965" y="9252"/>
                </a:cubicBezTo>
              </a:path>
              <a:path w="5334" h="1118">
                <a:moveTo>
                  <a:pt x="14163" y="8979"/>
                </a:moveTo>
                <a:cubicBezTo>
                  <a:pt x="14163" y="8915"/>
                  <a:pt x="14186" y="9066"/>
                  <a:pt x="14188" y="9079"/>
                </a:cubicBezTo>
                <a:cubicBezTo>
                  <a:pt x="14199" y="9160"/>
                  <a:pt x="14227" y="9241"/>
                  <a:pt x="14312" y="9277"/>
                </a:cubicBezTo>
                <a:cubicBezTo>
                  <a:pt x="14359" y="9297"/>
                  <a:pt x="14355" y="9256"/>
                  <a:pt x="14387" y="9252"/>
                </a:cubicBezTo>
                <a:cubicBezTo>
                  <a:pt x="14423" y="9248"/>
                  <a:pt x="14463" y="9277"/>
                  <a:pt x="14511" y="9277"/>
                </a:cubicBezTo>
                <a:cubicBezTo>
                  <a:pt x="14605" y="9277"/>
                  <a:pt x="14541" y="9144"/>
                  <a:pt x="14536" y="9103"/>
                </a:cubicBezTo>
                <a:cubicBezTo>
                  <a:pt x="14529" y="9036"/>
                  <a:pt x="14511" y="8972"/>
                  <a:pt x="14511" y="8905"/>
                </a:cubicBezTo>
              </a:path>
              <a:path w="5334" h="1118">
                <a:moveTo>
                  <a:pt x="14982" y="8930"/>
                </a:moveTo>
                <a:cubicBezTo>
                  <a:pt x="14974" y="8913"/>
                  <a:pt x="14965" y="8897"/>
                  <a:pt x="14957" y="8880"/>
                </a:cubicBezTo>
              </a:path>
              <a:path w="5334" h="1118">
                <a:moveTo>
                  <a:pt x="14982" y="8930"/>
                </a:moveTo>
                <a:cubicBezTo>
                  <a:pt x="14982" y="9021"/>
                  <a:pt x="14982" y="9029"/>
                  <a:pt x="14982" y="9079"/>
                </a:cubicBezTo>
              </a:path>
              <a:path w="5334" h="1118">
                <a:moveTo>
                  <a:pt x="15007" y="9252"/>
                </a:moveTo>
                <a:cubicBezTo>
                  <a:pt x="15029" y="9230"/>
                  <a:pt x="15034" y="9221"/>
                  <a:pt x="15056" y="9227"/>
                </a:cubicBezTo>
                <a:cubicBezTo>
                  <a:pt x="15047" y="9263"/>
                  <a:pt x="15041" y="9298"/>
                  <a:pt x="15007" y="9302"/>
                </a:cubicBezTo>
                <a:cubicBezTo>
                  <a:pt x="14999" y="9302"/>
                  <a:pt x="14990" y="9302"/>
                  <a:pt x="14982" y="9302"/>
                </a:cubicBezTo>
                <a:cubicBezTo>
                  <a:pt x="14982" y="9261"/>
                  <a:pt x="14982" y="9219"/>
                  <a:pt x="14982" y="9178"/>
                </a:cubicBezTo>
                <a:cubicBezTo>
                  <a:pt x="15014" y="9189"/>
                  <a:pt x="15022" y="9212"/>
                  <a:pt x="15032" y="9252"/>
                </a:cubicBezTo>
              </a:path>
              <a:path w="5334" h="1118">
                <a:moveTo>
                  <a:pt x="15007" y="8930"/>
                </a:moveTo>
                <a:cubicBezTo>
                  <a:pt x="15007" y="8980"/>
                  <a:pt x="14999" y="8897"/>
                  <a:pt x="15032" y="8880"/>
                </a:cubicBezTo>
                <a:cubicBezTo>
                  <a:pt x="15040" y="8880"/>
                  <a:pt x="15048" y="8880"/>
                  <a:pt x="15056" y="8880"/>
                </a:cubicBezTo>
                <a:cubicBezTo>
                  <a:pt x="15062" y="8884"/>
                  <a:pt x="15111" y="8956"/>
                  <a:pt x="15081" y="8979"/>
                </a:cubicBezTo>
                <a:cubicBezTo>
                  <a:pt x="15056" y="8979"/>
                  <a:pt x="15048" y="8979"/>
                  <a:pt x="15032" y="8979"/>
                </a:cubicBezTo>
              </a:path>
              <a:path w="5334" h="1118">
                <a:moveTo>
                  <a:pt x="15553" y="9103"/>
                </a:moveTo>
                <a:cubicBezTo>
                  <a:pt x="15528" y="9103"/>
                  <a:pt x="15503" y="9103"/>
                  <a:pt x="15478" y="9103"/>
                </a:cubicBezTo>
                <a:cubicBezTo>
                  <a:pt x="15478" y="9048"/>
                  <a:pt x="15482" y="9049"/>
                  <a:pt x="15528" y="9029"/>
                </a:cubicBezTo>
                <a:cubicBezTo>
                  <a:pt x="15600" y="8998"/>
                  <a:pt x="15632" y="9006"/>
                  <a:pt x="15701" y="9054"/>
                </a:cubicBezTo>
                <a:cubicBezTo>
                  <a:pt x="15754" y="9091"/>
                  <a:pt x="15751" y="9146"/>
                  <a:pt x="15751" y="9203"/>
                </a:cubicBezTo>
                <a:cubicBezTo>
                  <a:pt x="15751" y="9285"/>
                  <a:pt x="15723" y="9277"/>
                  <a:pt x="15652" y="9277"/>
                </a:cubicBezTo>
                <a:cubicBezTo>
                  <a:pt x="15598" y="9277"/>
                  <a:pt x="15542" y="9238"/>
                  <a:pt x="15503" y="9203"/>
                </a:cubicBezTo>
                <a:cubicBezTo>
                  <a:pt x="15480" y="9180"/>
                  <a:pt x="15472" y="9176"/>
                  <a:pt x="15478" y="9153"/>
                </a:cubicBezTo>
              </a:path>
              <a:path w="5334" h="1118">
                <a:moveTo>
                  <a:pt x="16024" y="9252"/>
                </a:moveTo>
                <a:cubicBezTo>
                  <a:pt x="15983" y="9242"/>
                  <a:pt x="15954" y="9224"/>
                  <a:pt x="15949" y="9178"/>
                </a:cubicBezTo>
                <a:cubicBezTo>
                  <a:pt x="15943" y="9126"/>
                  <a:pt x="15964" y="9114"/>
                  <a:pt x="15999" y="9079"/>
                </a:cubicBezTo>
                <a:cubicBezTo>
                  <a:pt x="16040" y="9039"/>
                  <a:pt x="16093" y="9054"/>
                  <a:pt x="16148" y="9054"/>
                </a:cubicBezTo>
              </a:path>
              <a:path w="5334" h="1118">
                <a:moveTo>
                  <a:pt x="16321" y="9054"/>
                </a:moveTo>
                <a:cubicBezTo>
                  <a:pt x="16321" y="9046"/>
                  <a:pt x="16321" y="9037"/>
                  <a:pt x="16321" y="9029"/>
                </a:cubicBezTo>
                <a:cubicBezTo>
                  <a:pt x="16321" y="9070"/>
                  <a:pt x="16321" y="9112"/>
                  <a:pt x="16321" y="9153"/>
                </a:cubicBezTo>
              </a:path>
              <a:path w="5334" h="1118">
                <a:moveTo>
                  <a:pt x="16272" y="8954"/>
                </a:moveTo>
                <a:cubicBezTo>
                  <a:pt x="16272" y="8896"/>
                  <a:pt x="16272" y="8888"/>
                  <a:pt x="16272" y="8855"/>
                </a:cubicBezTo>
              </a:path>
              <a:path w="5334" h="1118">
                <a:moveTo>
                  <a:pt x="16570" y="9054"/>
                </a:moveTo>
                <a:cubicBezTo>
                  <a:pt x="16570" y="9029"/>
                  <a:pt x="16570" y="9021"/>
                  <a:pt x="16570" y="9004"/>
                </a:cubicBezTo>
                <a:cubicBezTo>
                  <a:pt x="16522" y="9016"/>
                  <a:pt x="16488" y="9051"/>
                  <a:pt x="16470" y="9103"/>
                </a:cubicBezTo>
                <a:cubicBezTo>
                  <a:pt x="16470" y="9128"/>
                  <a:pt x="16470" y="9136"/>
                  <a:pt x="16470" y="9153"/>
                </a:cubicBezTo>
                <a:cubicBezTo>
                  <a:pt x="16529" y="9153"/>
                  <a:pt x="16523" y="9117"/>
                  <a:pt x="16570" y="9103"/>
                </a:cubicBezTo>
                <a:cubicBezTo>
                  <a:pt x="16657" y="9078"/>
                  <a:pt x="16702" y="9139"/>
                  <a:pt x="16743" y="9203"/>
                </a:cubicBezTo>
                <a:cubicBezTo>
                  <a:pt x="16804" y="9297"/>
                  <a:pt x="16818" y="9367"/>
                  <a:pt x="16818" y="9475"/>
                </a:cubicBezTo>
                <a:cubicBezTo>
                  <a:pt x="16818" y="9546"/>
                  <a:pt x="16772" y="9589"/>
                  <a:pt x="16694" y="9575"/>
                </a:cubicBezTo>
                <a:cubicBezTo>
                  <a:pt x="16611" y="9560"/>
                  <a:pt x="16493" y="9520"/>
                  <a:pt x="16421" y="9475"/>
                </a:cubicBezTo>
                <a:cubicBezTo>
                  <a:pt x="16398" y="9453"/>
                  <a:pt x="16393" y="9445"/>
                  <a:pt x="16371" y="9451"/>
                </a:cubicBezTo>
              </a:path>
              <a:path w="5334" h="1118">
                <a:moveTo>
                  <a:pt x="16966" y="9004"/>
                </a:moveTo>
                <a:cubicBezTo>
                  <a:pt x="16966" y="9057"/>
                  <a:pt x="16965" y="9084"/>
                  <a:pt x="16991" y="9128"/>
                </a:cubicBezTo>
              </a:path>
              <a:path w="5334" h="1118">
                <a:moveTo>
                  <a:pt x="16991" y="8930"/>
                </a:moveTo>
                <a:cubicBezTo>
                  <a:pt x="16962" y="8870"/>
                  <a:pt x="16930" y="8818"/>
                  <a:pt x="16917" y="8756"/>
                </a:cubicBezTo>
              </a:path>
              <a:path w="5334" h="1118">
                <a:moveTo>
                  <a:pt x="17090" y="9004"/>
                </a:moveTo>
                <a:cubicBezTo>
                  <a:pt x="17097" y="9069"/>
                  <a:pt x="17115" y="9094"/>
                  <a:pt x="17115" y="9153"/>
                </a:cubicBezTo>
                <a:cubicBezTo>
                  <a:pt x="17115" y="9105"/>
                  <a:pt x="17126" y="9047"/>
                  <a:pt x="17140" y="9004"/>
                </a:cubicBezTo>
                <a:cubicBezTo>
                  <a:pt x="17157" y="8952"/>
                  <a:pt x="17191" y="8917"/>
                  <a:pt x="17239" y="8905"/>
                </a:cubicBezTo>
                <a:cubicBezTo>
                  <a:pt x="17276" y="8950"/>
                  <a:pt x="17332" y="9023"/>
                  <a:pt x="17338" y="9079"/>
                </a:cubicBezTo>
                <a:cubicBezTo>
                  <a:pt x="17338" y="9103"/>
                  <a:pt x="17338" y="9111"/>
                  <a:pt x="17363" y="9103"/>
                </a:cubicBezTo>
              </a:path>
              <a:path w="5334" h="1118">
                <a:moveTo>
                  <a:pt x="17611" y="8979"/>
                </a:moveTo>
                <a:cubicBezTo>
                  <a:pt x="17591" y="8939"/>
                  <a:pt x="17583" y="8932"/>
                  <a:pt x="17587" y="8905"/>
                </a:cubicBezTo>
                <a:cubicBezTo>
                  <a:pt x="17539" y="8905"/>
                  <a:pt x="17500" y="8929"/>
                  <a:pt x="17487" y="8979"/>
                </a:cubicBezTo>
                <a:cubicBezTo>
                  <a:pt x="17470" y="9041"/>
                  <a:pt x="17497" y="9065"/>
                  <a:pt x="17537" y="9103"/>
                </a:cubicBezTo>
                <a:cubicBezTo>
                  <a:pt x="17565" y="9075"/>
                  <a:pt x="17601" y="9041"/>
                  <a:pt x="17636" y="9029"/>
                </a:cubicBezTo>
                <a:cubicBezTo>
                  <a:pt x="17685" y="9013"/>
                  <a:pt x="17698" y="9093"/>
                  <a:pt x="17735" y="9103"/>
                </a:cubicBezTo>
                <a:cubicBezTo>
                  <a:pt x="17827" y="9129"/>
                  <a:pt x="17864" y="8993"/>
                  <a:pt x="17884" y="8930"/>
                </a:cubicBezTo>
                <a:cubicBezTo>
                  <a:pt x="17922" y="8808"/>
                  <a:pt x="17965" y="8659"/>
                  <a:pt x="17983" y="8533"/>
                </a:cubicBezTo>
                <a:cubicBezTo>
                  <a:pt x="17983" y="8508"/>
                  <a:pt x="17983" y="8483"/>
                  <a:pt x="17983" y="8458"/>
                </a:cubicBezTo>
                <a:cubicBezTo>
                  <a:pt x="17983" y="8554"/>
                  <a:pt x="18001" y="8667"/>
                  <a:pt x="18033" y="8756"/>
                </a:cubicBezTo>
                <a:cubicBezTo>
                  <a:pt x="18078" y="8880"/>
                  <a:pt x="18143" y="8944"/>
                  <a:pt x="18256" y="9004"/>
                </a:cubicBezTo>
                <a:cubicBezTo>
                  <a:pt x="18273" y="9012"/>
                  <a:pt x="18289" y="9021"/>
                  <a:pt x="1830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54760" y="3848040"/>
            <a:ext cx="527040" cy="223920"/>
          </a:xfrm>
          <a:custGeom>
            <a:avLst/>
            <a:gdLst/>
            <a:ahLst/>
            <a:rect l="l" t="t" r="r" b="b"/>
            <a:pathLst>
              <a:path w="1465" h="621">
                <a:moveTo>
                  <a:pt x="14188" y="10939"/>
                </a:moveTo>
                <a:cubicBezTo>
                  <a:pt x="14138" y="10989"/>
                  <a:pt x="14130" y="11013"/>
                  <a:pt x="14064" y="11013"/>
                </a:cubicBezTo>
                <a:cubicBezTo>
                  <a:pt x="14017" y="10951"/>
                  <a:pt x="14036" y="10923"/>
                  <a:pt x="14089" y="10864"/>
                </a:cubicBezTo>
                <a:cubicBezTo>
                  <a:pt x="14158" y="10787"/>
                  <a:pt x="14257" y="10707"/>
                  <a:pt x="14362" y="10765"/>
                </a:cubicBezTo>
                <a:cubicBezTo>
                  <a:pt x="14486" y="10833"/>
                  <a:pt x="14483" y="11022"/>
                  <a:pt x="14486" y="11137"/>
                </a:cubicBezTo>
                <a:cubicBezTo>
                  <a:pt x="14489" y="11227"/>
                  <a:pt x="14447" y="11330"/>
                  <a:pt x="14337" y="11311"/>
                </a:cubicBezTo>
                <a:cubicBezTo>
                  <a:pt x="14271" y="11299"/>
                  <a:pt x="14158" y="11229"/>
                  <a:pt x="14139" y="11162"/>
                </a:cubicBezTo>
                <a:cubicBezTo>
                  <a:pt x="14139" y="11145"/>
                  <a:pt x="14139" y="11129"/>
                  <a:pt x="14139" y="11112"/>
                </a:cubicBezTo>
              </a:path>
              <a:path w="1465" h="621">
                <a:moveTo>
                  <a:pt x="14660" y="10914"/>
                </a:moveTo>
                <a:cubicBezTo>
                  <a:pt x="14702" y="10929"/>
                  <a:pt x="14720" y="11007"/>
                  <a:pt x="14709" y="11063"/>
                </a:cubicBezTo>
                <a:cubicBezTo>
                  <a:pt x="14697" y="11124"/>
                  <a:pt x="14658" y="11218"/>
                  <a:pt x="14684" y="11286"/>
                </a:cubicBezTo>
                <a:cubicBezTo>
                  <a:pt x="14692" y="11294"/>
                  <a:pt x="14701" y="11303"/>
                  <a:pt x="14709" y="11311"/>
                </a:cubicBezTo>
              </a:path>
              <a:path w="1465" h="621">
                <a:moveTo>
                  <a:pt x="14759" y="10914"/>
                </a:moveTo>
                <a:cubicBezTo>
                  <a:pt x="14759" y="10849"/>
                  <a:pt x="14755" y="10817"/>
                  <a:pt x="14784" y="10765"/>
                </a:cubicBezTo>
                <a:cubicBezTo>
                  <a:pt x="14817" y="10707"/>
                  <a:pt x="14852" y="10660"/>
                  <a:pt x="14932" y="10691"/>
                </a:cubicBezTo>
                <a:cubicBezTo>
                  <a:pt x="15028" y="10728"/>
                  <a:pt x="15007" y="10799"/>
                  <a:pt x="15007" y="10889"/>
                </a:cubicBezTo>
                <a:cubicBezTo>
                  <a:pt x="15007" y="10979"/>
                  <a:pt x="14963" y="11046"/>
                  <a:pt x="14908" y="11112"/>
                </a:cubicBezTo>
                <a:cubicBezTo>
                  <a:pt x="14851" y="11181"/>
                  <a:pt x="14845" y="11156"/>
                  <a:pt x="14833" y="11237"/>
                </a:cubicBezTo>
                <a:cubicBezTo>
                  <a:pt x="14906" y="11237"/>
                  <a:pt x="14961" y="11239"/>
                  <a:pt x="15032" y="11212"/>
                </a:cubicBezTo>
                <a:cubicBezTo>
                  <a:pt x="15092" y="11189"/>
                  <a:pt x="15166" y="11166"/>
                  <a:pt x="15230" y="11162"/>
                </a:cubicBezTo>
                <a:cubicBezTo>
                  <a:pt x="15247" y="11162"/>
                  <a:pt x="15263" y="11162"/>
                  <a:pt x="15280" y="11162"/>
                </a:cubicBezTo>
              </a:path>
              <a:path w="1465" h="621">
                <a:moveTo>
                  <a:pt x="15404" y="10815"/>
                </a:moveTo>
                <a:cubicBezTo>
                  <a:pt x="15424" y="10774"/>
                  <a:pt x="15433" y="10747"/>
                  <a:pt x="15429" y="10790"/>
                </a:cubicBezTo>
              </a:path>
              <a:path w="1465" h="621">
                <a:moveTo>
                  <a:pt x="15478" y="11013"/>
                </a:moveTo>
                <a:cubicBezTo>
                  <a:pt x="15478" y="11058"/>
                  <a:pt x="15475" y="11071"/>
                  <a:pt x="1550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72120" y="3759120"/>
            <a:ext cx="777960" cy="214560"/>
          </a:xfrm>
          <a:custGeom>
            <a:avLst/>
            <a:gdLst/>
            <a:ahLst/>
            <a:rect l="l" t="t" r="r" b="b"/>
            <a:pathLst>
              <a:path w="2159" h="596">
                <a:moveTo>
                  <a:pt x="16991" y="10666"/>
                </a:moveTo>
                <a:cubicBezTo>
                  <a:pt x="16955" y="10666"/>
                  <a:pt x="16928" y="10699"/>
                  <a:pt x="16892" y="10691"/>
                </a:cubicBezTo>
                <a:cubicBezTo>
                  <a:pt x="16884" y="10683"/>
                  <a:pt x="16875" y="10674"/>
                  <a:pt x="16867" y="10666"/>
                </a:cubicBezTo>
                <a:cubicBezTo>
                  <a:pt x="16885" y="10592"/>
                  <a:pt x="16933" y="10569"/>
                  <a:pt x="16991" y="10517"/>
                </a:cubicBezTo>
                <a:cubicBezTo>
                  <a:pt x="17047" y="10467"/>
                  <a:pt x="17157" y="10401"/>
                  <a:pt x="17239" y="10443"/>
                </a:cubicBezTo>
                <a:cubicBezTo>
                  <a:pt x="17310" y="10480"/>
                  <a:pt x="17311" y="10673"/>
                  <a:pt x="17289" y="10740"/>
                </a:cubicBezTo>
                <a:cubicBezTo>
                  <a:pt x="17257" y="10837"/>
                  <a:pt x="17186" y="10917"/>
                  <a:pt x="17115" y="10988"/>
                </a:cubicBezTo>
                <a:cubicBezTo>
                  <a:pt x="17092" y="11011"/>
                  <a:pt x="17084" y="11015"/>
                  <a:pt x="17090" y="11038"/>
                </a:cubicBezTo>
                <a:cubicBezTo>
                  <a:pt x="17145" y="11024"/>
                  <a:pt x="17200" y="10997"/>
                  <a:pt x="17264" y="10988"/>
                </a:cubicBezTo>
                <a:cubicBezTo>
                  <a:pt x="17346" y="10976"/>
                  <a:pt x="17430" y="10968"/>
                  <a:pt x="17512" y="10964"/>
                </a:cubicBezTo>
                <a:cubicBezTo>
                  <a:pt x="17529" y="10964"/>
                  <a:pt x="17545" y="10964"/>
                  <a:pt x="17562" y="10964"/>
                </a:cubicBezTo>
              </a:path>
              <a:path w="2159" h="596">
                <a:moveTo>
                  <a:pt x="17611" y="10765"/>
                </a:moveTo>
                <a:cubicBezTo>
                  <a:pt x="17575" y="10679"/>
                  <a:pt x="17593" y="10708"/>
                  <a:pt x="17636" y="10641"/>
                </a:cubicBezTo>
                <a:cubicBezTo>
                  <a:pt x="17666" y="10595"/>
                  <a:pt x="17751" y="10511"/>
                  <a:pt x="17810" y="10592"/>
                </a:cubicBezTo>
                <a:cubicBezTo>
                  <a:pt x="17866" y="10669"/>
                  <a:pt x="17869" y="10783"/>
                  <a:pt x="17835" y="10864"/>
                </a:cubicBezTo>
                <a:cubicBezTo>
                  <a:pt x="17800" y="10948"/>
                  <a:pt x="17709" y="10917"/>
                  <a:pt x="17636" y="10889"/>
                </a:cubicBezTo>
                <a:cubicBezTo>
                  <a:pt x="17570" y="10863"/>
                  <a:pt x="17550" y="10804"/>
                  <a:pt x="17537" y="10740"/>
                </a:cubicBezTo>
              </a:path>
              <a:path w="2159" h="596">
                <a:moveTo>
                  <a:pt x="18083" y="10765"/>
                </a:moveTo>
                <a:cubicBezTo>
                  <a:pt x="18072" y="10721"/>
                  <a:pt x="18031" y="10690"/>
                  <a:pt x="18083" y="10641"/>
                </a:cubicBezTo>
                <a:cubicBezTo>
                  <a:pt x="18147" y="10581"/>
                  <a:pt x="18257" y="10611"/>
                  <a:pt x="18306" y="10666"/>
                </a:cubicBezTo>
                <a:cubicBezTo>
                  <a:pt x="18350" y="10715"/>
                  <a:pt x="18466" y="10864"/>
                  <a:pt x="18430" y="10939"/>
                </a:cubicBezTo>
                <a:cubicBezTo>
                  <a:pt x="18385" y="11034"/>
                  <a:pt x="18297" y="10975"/>
                  <a:pt x="18231" y="10964"/>
                </a:cubicBezTo>
                <a:cubicBezTo>
                  <a:pt x="18178" y="10955"/>
                  <a:pt x="18139" y="10952"/>
                  <a:pt x="18132" y="10889"/>
                </a:cubicBezTo>
                <a:cubicBezTo>
                  <a:pt x="18132" y="10881"/>
                  <a:pt x="18132" y="10872"/>
                  <a:pt x="18132" y="10864"/>
                </a:cubicBezTo>
              </a:path>
              <a:path w="2159" h="596">
                <a:moveTo>
                  <a:pt x="19000" y="10592"/>
                </a:moveTo>
                <a:cubicBezTo>
                  <a:pt x="19008" y="10584"/>
                  <a:pt x="19017" y="10575"/>
                  <a:pt x="19025" y="10567"/>
                </a:cubicBezTo>
                <a:cubicBezTo>
                  <a:pt x="19014" y="10610"/>
                  <a:pt x="18985" y="10632"/>
                  <a:pt x="18951" y="10666"/>
                </a:cubicBezTo>
                <a:cubicBezTo>
                  <a:pt x="18912" y="10705"/>
                  <a:pt x="18822" y="10732"/>
                  <a:pt x="18802" y="10765"/>
                </a:cubicBezTo>
                <a:cubicBezTo>
                  <a:pt x="18802" y="10773"/>
                  <a:pt x="18802" y="10782"/>
                  <a:pt x="18802" y="10790"/>
                </a:cubicBezTo>
              </a:path>
              <a:path w="2159" h="596">
                <a:moveTo>
                  <a:pt x="18951" y="10765"/>
                </a:moveTo>
                <a:cubicBezTo>
                  <a:pt x="18973" y="10743"/>
                  <a:pt x="18982" y="10738"/>
                  <a:pt x="18976" y="10716"/>
                </a:cubicBezTo>
                <a:cubicBezTo>
                  <a:pt x="18925" y="10703"/>
                  <a:pt x="18869" y="10630"/>
                  <a:pt x="18827" y="10592"/>
                </a:cubicBezTo>
                <a:cubicBezTo>
                  <a:pt x="18810" y="10575"/>
                  <a:pt x="18794" y="10559"/>
                  <a:pt x="18777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26200" y="3517920"/>
            <a:ext cx="268200" cy="44748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9893" y="10021"/>
                </a:moveTo>
                <a:cubicBezTo>
                  <a:pt x="19851" y="9989"/>
                  <a:pt x="19844" y="10002"/>
                  <a:pt x="19844" y="9947"/>
                </a:cubicBezTo>
                <a:cubicBezTo>
                  <a:pt x="19844" y="9891"/>
                  <a:pt x="19899" y="9849"/>
                  <a:pt x="19943" y="9823"/>
                </a:cubicBezTo>
                <a:cubicBezTo>
                  <a:pt x="20013" y="9782"/>
                  <a:pt x="20066" y="9751"/>
                  <a:pt x="20141" y="9798"/>
                </a:cubicBezTo>
                <a:cubicBezTo>
                  <a:pt x="20193" y="9830"/>
                  <a:pt x="20169" y="9911"/>
                  <a:pt x="20141" y="9947"/>
                </a:cubicBezTo>
                <a:cubicBezTo>
                  <a:pt x="20113" y="9982"/>
                  <a:pt x="20032" y="10023"/>
                  <a:pt x="20017" y="10046"/>
                </a:cubicBezTo>
                <a:cubicBezTo>
                  <a:pt x="20017" y="10071"/>
                  <a:pt x="20017" y="10079"/>
                  <a:pt x="20017" y="10096"/>
                </a:cubicBezTo>
                <a:cubicBezTo>
                  <a:pt x="20071" y="10127"/>
                  <a:pt x="20131" y="10125"/>
                  <a:pt x="20191" y="10145"/>
                </a:cubicBezTo>
                <a:cubicBezTo>
                  <a:pt x="20235" y="10167"/>
                  <a:pt x="20246" y="10170"/>
                  <a:pt x="20265" y="10195"/>
                </a:cubicBezTo>
                <a:cubicBezTo>
                  <a:pt x="20251" y="10253"/>
                  <a:pt x="20227" y="10265"/>
                  <a:pt x="20166" y="10269"/>
                </a:cubicBezTo>
                <a:cubicBezTo>
                  <a:pt x="20107" y="10272"/>
                  <a:pt x="19934" y="10291"/>
                  <a:pt x="19918" y="10244"/>
                </a:cubicBezTo>
              </a:path>
              <a:path w="745" h="1241">
                <a:moveTo>
                  <a:pt x="20513" y="10468"/>
                </a:moveTo>
                <a:cubicBezTo>
                  <a:pt x="20521" y="10468"/>
                  <a:pt x="20530" y="10468"/>
                  <a:pt x="20538" y="10468"/>
                </a:cubicBezTo>
                <a:cubicBezTo>
                  <a:pt x="20513" y="10505"/>
                  <a:pt x="20424" y="10479"/>
                  <a:pt x="20365" y="10468"/>
                </a:cubicBezTo>
                <a:cubicBezTo>
                  <a:pt x="20238" y="10444"/>
                  <a:pt x="20122" y="10443"/>
                  <a:pt x="19993" y="10443"/>
                </a:cubicBezTo>
                <a:cubicBezTo>
                  <a:pt x="19939" y="10443"/>
                  <a:pt x="19810" y="10421"/>
                  <a:pt x="19794" y="10468"/>
                </a:cubicBezTo>
              </a:path>
              <a:path w="745" h="1241">
                <a:moveTo>
                  <a:pt x="19968" y="10716"/>
                </a:moveTo>
                <a:cubicBezTo>
                  <a:pt x="19923" y="10716"/>
                  <a:pt x="19990" y="10709"/>
                  <a:pt x="20017" y="10691"/>
                </a:cubicBezTo>
                <a:cubicBezTo>
                  <a:pt x="20093" y="10639"/>
                  <a:pt x="20167" y="10590"/>
                  <a:pt x="20265" y="10616"/>
                </a:cubicBezTo>
                <a:cubicBezTo>
                  <a:pt x="20356" y="10640"/>
                  <a:pt x="20358" y="10746"/>
                  <a:pt x="20315" y="10815"/>
                </a:cubicBezTo>
                <a:cubicBezTo>
                  <a:pt x="20269" y="10888"/>
                  <a:pt x="20178" y="10950"/>
                  <a:pt x="20117" y="11013"/>
                </a:cubicBezTo>
                <a:cubicBezTo>
                  <a:pt x="20204" y="11013"/>
                  <a:pt x="20281" y="11018"/>
                  <a:pt x="20365" y="10988"/>
                </a:cubicBezTo>
                <a:cubicBezTo>
                  <a:pt x="20423" y="10967"/>
                  <a:pt x="20451" y="10964"/>
                  <a:pt x="20513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96160" y="3571920"/>
            <a:ext cx="839880" cy="258840"/>
          </a:xfrm>
          <a:custGeom>
            <a:avLst/>
            <a:gdLst/>
            <a:ahLst/>
            <a:rect l="l" t="t" r="r" b="b"/>
            <a:pathLst>
              <a:path w="2333" h="720">
                <a:moveTo>
                  <a:pt x="21878" y="10021"/>
                </a:moveTo>
                <a:cubicBezTo>
                  <a:pt x="21903" y="10021"/>
                  <a:pt x="21911" y="10021"/>
                  <a:pt x="21927" y="10021"/>
                </a:cubicBezTo>
                <a:cubicBezTo>
                  <a:pt x="21888" y="10031"/>
                  <a:pt x="21864" y="10059"/>
                  <a:pt x="21828" y="10071"/>
                </a:cubicBezTo>
                <a:cubicBezTo>
                  <a:pt x="21791" y="10083"/>
                  <a:pt x="21773" y="10096"/>
                  <a:pt x="21729" y="10096"/>
                </a:cubicBezTo>
              </a:path>
              <a:path w="2333" h="720">
                <a:moveTo>
                  <a:pt x="21853" y="10195"/>
                </a:moveTo>
                <a:cubicBezTo>
                  <a:pt x="21884" y="10237"/>
                  <a:pt x="21890" y="10252"/>
                  <a:pt x="21853" y="10294"/>
                </a:cubicBezTo>
                <a:cubicBezTo>
                  <a:pt x="21806" y="10346"/>
                  <a:pt x="21751" y="10331"/>
                  <a:pt x="21704" y="10368"/>
                </a:cubicBezTo>
                <a:cubicBezTo>
                  <a:pt x="21681" y="10391"/>
                  <a:pt x="21677" y="10399"/>
                  <a:pt x="21654" y="10393"/>
                </a:cubicBezTo>
              </a:path>
              <a:path w="2333" h="720">
                <a:moveTo>
                  <a:pt x="22250" y="10120"/>
                </a:moveTo>
                <a:cubicBezTo>
                  <a:pt x="22273" y="10039"/>
                  <a:pt x="22308" y="10050"/>
                  <a:pt x="22374" y="9996"/>
                </a:cubicBezTo>
                <a:cubicBezTo>
                  <a:pt x="22437" y="9944"/>
                  <a:pt x="22508" y="9897"/>
                  <a:pt x="22597" y="9922"/>
                </a:cubicBezTo>
                <a:cubicBezTo>
                  <a:pt x="22679" y="9945"/>
                  <a:pt x="22655" y="10038"/>
                  <a:pt x="22622" y="10096"/>
                </a:cubicBezTo>
                <a:cubicBezTo>
                  <a:pt x="22585" y="10161"/>
                  <a:pt x="22470" y="10202"/>
                  <a:pt x="22448" y="10269"/>
                </a:cubicBezTo>
                <a:cubicBezTo>
                  <a:pt x="22417" y="10362"/>
                  <a:pt x="22506" y="10370"/>
                  <a:pt x="22572" y="10393"/>
                </a:cubicBezTo>
                <a:cubicBezTo>
                  <a:pt x="22658" y="10423"/>
                  <a:pt x="22748" y="10442"/>
                  <a:pt x="22796" y="10517"/>
                </a:cubicBezTo>
                <a:cubicBezTo>
                  <a:pt x="22826" y="10564"/>
                  <a:pt x="22820" y="10588"/>
                  <a:pt x="22820" y="10641"/>
                </a:cubicBezTo>
                <a:cubicBezTo>
                  <a:pt x="22737" y="10641"/>
                  <a:pt x="22677" y="10640"/>
                  <a:pt x="22597" y="10616"/>
                </a:cubicBezTo>
                <a:cubicBezTo>
                  <a:pt x="22532" y="10596"/>
                  <a:pt x="22477" y="10578"/>
                  <a:pt x="22423" y="10542"/>
                </a:cubicBezTo>
              </a:path>
              <a:path w="2333" h="720">
                <a:moveTo>
                  <a:pt x="22994" y="10393"/>
                </a:moveTo>
                <a:cubicBezTo>
                  <a:pt x="22937" y="10355"/>
                  <a:pt x="22924" y="10342"/>
                  <a:pt x="22920" y="10269"/>
                </a:cubicBezTo>
                <a:cubicBezTo>
                  <a:pt x="22915" y="10182"/>
                  <a:pt x="23013" y="10111"/>
                  <a:pt x="23093" y="10096"/>
                </a:cubicBezTo>
                <a:cubicBezTo>
                  <a:pt x="23247" y="10067"/>
                  <a:pt x="23281" y="10172"/>
                  <a:pt x="23316" y="10294"/>
                </a:cubicBezTo>
                <a:cubicBezTo>
                  <a:pt x="23342" y="10386"/>
                  <a:pt x="23342" y="10556"/>
                  <a:pt x="23217" y="10592"/>
                </a:cubicBezTo>
                <a:cubicBezTo>
                  <a:pt x="23114" y="10622"/>
                  <a:pt x="22964" y="10541"/>
                  <a:pt x="22895" y="10468"/>
                </a:cubicBezTo>
                <a:cubicBezTo>
                  <a:pt x="22846" y="10416"/>
                  <a:pt x="22875" y="10372"/>
                  <a:pt x="22895" y="10319"/>
                </a:cubicBezTo>
              </a:path>
              <a:path w="2333" h="720">
                <a:moveTo>
                  <a:pt x="23540" y="10344"/>
                </a:moveTo>
                <a:cubicBezTo>
                  <a:pt x="23540" y="10277"/>
                  <a:pt x="23537" y="10232"/>
                  <a:pt x="23564" y="10170"/>
                </a:cubicBezTo>
                <a:cubicBezTo>
                  <a:pt x="23610" y="10064"/>
                  <a:pt x="23700" y="10018"/>
                  <a:pt x="23812" y="10071"/>
                </a:cubicBezTo>
                <a:cubicBezTo>
                  <a:pt x="23927" y="10126"/>
                  <a:pt x="23990" y="10300"/>
                  <a:pt x="23986" y="10418"/>
                </a:cubicBezTo>
                <a:cubicBezTo>
                  <a:pt x="23982" y="10525"/>
                  <a:pt x="23873" y="10629"/>
                  <a:pt x="23763" y="10592"/>
                </a:cubicBezTo>
                <a:cubicBezTo>
                  <a:pt x="23653" y="10555"/>
                  <a:pt x="23583" y="10464"/>
                  <a:pt x="23540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4240" y="3956040"/>
            <a:ext cx="44604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5234" y="10988"/>
                </a:moveTo>
                <a:cubicBezTo>
                  <a:pt x="5234" y="11049"/>
                  <a:pt x="5245" y="11105"/>
                  <a:pt x="5259" y="11162"/>
                </a:cubicBezTo>
                <a:cubicBezTo>
                  <a:pt x="5284" y="11263"/>
                  <a:pt x="5319" y="11406"/>
                  <a:pt x="5383" y="11485"/>
                </a:cubicBezTo>
                <a:cubicBezTo>
                  <a:pt x="5391" y="11493"/>
                  <a:pt x="5399" y="11501"/>
                  <a:pt x="5407" y="11509"/>
                </a:cubicBezTo>
              </a:path>
              <a:path w="1241" h="522">
                <a:moveTo>
                  <a:pt x="5606" y="11237"/>
                </a:moveTo>
                <a:cubicBezTo>
                  <a:pt x="5557" y="11221"/>
                  <a:pt x="5584" y="11200"/>
                  <a:pt x="5606" y="11162"/>
                </a:cubicBezTo>
                <a:cubicBezTo>
                  <a:pt x="5645" y="11094"/>
                  <a:pt x="5736" y="11088"/>
                  <a:pt x="5804" y="11137"/>
                </a:cubicBezTo>
                <a:cubicBezTo>
                  <a:pt x="5869" y="11184"/>
                  <a:pt x="5900" y="11261"/>
                  <a:pt x="5904" y="11336"/>
                </a:cubicBezTo>
                <a:cubicBezTo>
                  <a:pt x="5909" y="11419"/>
                  <a:pt x="5852" y="11432"/>
                  <a:pt x="5779" y="11435"/>
                </a:cubicBezTo>
                <a:cubicBezTo>
                  <a:pt x="5706" y="11438"/>
                  <a:pt x="5639" y="11445"/>
                  <a:pt x="5581" y="11410"/>
                </a:cubicBezTo>
              </a:path>
              <a:path w="1241" h="522">
                <a:moveTo>
                  <a:pt x="6226" y="11212"/>
                </a:moveTo>
                <a:cubicBezTo>
                  <a:pt x="6234" y="11220"/>
                  <a:pt x="6243" y="11229"/>
                  <a:pt x="6251" y="11237"/>
                </a:cubicBezTo>
                <a:cubicBezTo>
                  <a:pt x="6205" y="11237"/>
                  <a:pt x="6187" y="11243"/>
                  <a:pt x="6152" y="11212"/>
                </a:cubicBezTo>
                <a:cubicBezTo>
                  <a:pt x="6118" y="11181"/>
                  <a:pt x="6113" y="11124"/>
                  <a:pt x="6152" y="11088"/>
                </a:cubicBezTo>
                <a:cubicBezTo>
                  <a:pt x="6207" y="11037"/>
                  <a:pt x="6293" y="11063"/>
                  <a:pt x="6350" y="11088"/>
                </a:cubicBezTo>
                <a:cubicBezTo>
                  <a:pt x="6418" y="11117"/>
                  <a:pt x="6466" y="11162"/>
                  <a:pt x="6474" y="11237"/>
                </a:cubicBezTo>
                <a:cubicBezTo>
                  <a:pt x="6474" y="11245"/>
                  <a:pt x="6474" y="11253"/>
                  <a:pt x="6474" y="11261"/>
                </a:cubicBezTo>
                <a:cubicBezTo>
                  <a:pt x="6419" y="11294"/>
                  <a:pt x="6368" y="11286"/>
                  <a:pt x="6300" y="11286"/>
                </a:cubicBezTo>
                <a:cubicBezTo>
                  <a:pt x="6256" y="11286"/>
                  <a:pt x="6242" y="11289"/>
                  <a:pt x="622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0200" y="3830760"/>
            <a:ext cx="401760" cy="206280"/>
          </a:xfrm>
          <a:custGeom>
            <a:avLst/>
            <a:gdLst/>
            <a:ahLst/>
            <a:rect l="l" t="t" r="r" b="b"/>
            <a:pathLst>
              <a:path w="1118" h="572">
                <a:moveTo>
                  <a:pt x="7193" y="10988"/>
                </a:moveTo>
                <a:cubicBezTo>
                  <a:pt x="7201" y="10980"/>
                  <a:pt x="7210" y="10972"/>
                  <a:pt x="7218" y="10964"/>
                </a:cubicBezTo>
                <a:cubicBezTo>
                  <a:pt x="7205" y="11025"/>
                  <a:pt x="7175" y="11040"/>
                  <a:pt x="7144" y="11088"/>
                </a:cubicBezTo>
                <a:cubicBezTo>
                  <a:pt x="7118" y="11128"/>
                  <a:pt x="7080" y="11170"/>
                  <a:pt x="7069" y="11212"/>
                </a:cubicBezTo>
              </a:path>
              <a:path w="1118" h="572">
                <a:moveTo>
                  <a:pt x="7268" y="11162"/>
                </a:moveTo>
                <a:cubicBezTo>
                  <a:pt x="7251" y="11111"/>
                  <a:pt x="7223" y="11153"/>
                  <a:pt x="7169" y="11137"/>
                </a:cubicBezTo>
                <a:cubicBezTo>
                  <a:pt x="7094" y="11115"/>
                  <a:pt x="7023" y="11097"/>
                  <a:pt x="6945" y="11088"/>
                </a:cubicBezTo>
              </a:path>
              <a:path w="1118" h="572">
                <a:moveTo>
                  <a:pt x="7590" y="10914"/>
                </a:moveTo>
                <a:cubicBezTo>
                  <a:pt x="7574" y="10906"/>
                  <a:pt x="7557" y="10897"/>
                  <a:pt x="7541" y="10889"/>
                </a:cubicBezTo>
                <a:cubicBezTo>
                  <a:pt x="7541" y="10837"/>
                  <a:pt x="7553" y="10828"/>
                  <a:pt x="7590" y="10790"/>
                </a:cubicBezTo>
                <a:cubicBezTo>
                  <a:pt x="7661" y="10719"/>
                  <a:pt x="7739" y="10666"/>
                  <a:pt x="7838" y="10641"/>
                </a:cubicBezTo>
                <a:cubicBezTo>
                  <a:pt x="7917" y="10621"/>
                  <a:pt x="7928" y="10711"/>
                  <a:pt x="7913" y="10765"/>
                </a:cubicBezTo>
                <a:cubicBezTo>
                  <a:pt x="7892" y="10841"/>
                  <a:pt x="7813" y="10887"/>
                  <a:pt x="7789" y="10939"/>
                </a:cubicBezTo>
                <a:cubicBezTo>
                  <a:pt x="7768" y="10984"/>
                  <a:pt x="7798" y="11030"/>
                  <a:pt x="7838" y="11038"/>
                </a:cubicBezTo>
                <a:cubicBezTo>
                  <a:pt x="7905" y="11052"/>
                  <a:pt x="7956" y="11018"/>
                  <a:pt x="8012" y="11063"/>
                </a:cubicBezTo>
                <a:cubicBezTo>
                  <a:pt x="8043" y="11088"/>
                  <a:pt x="8053" y="11103"/>
                  <a:pt x="8062" y="11137"/>
                </a:cubicBezTo>
                <a:cubicBezTo>
                  <a:pt x="8007" y="11170"/>
                  <a:pt x="7956" y="11162"/>
                  <a:pt x="7888" y="11162"/>
                </a:cubicBezTo>
                <a:cubicBezTo>
                  <a:pt x="7830" y="11162"/>
                  <a:pt x="7822" y="11162"/>
                  <a:pt x="778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16160" y="3848040"/>
            <a:ext cx="90720" cy="637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8830" y="10691"/>
                </a:moveTo>
                <a:cubicBezTo>
                  <a:pt x="8838" y="10691"/>
                  <a:pt x="8847" y="10691"/>
                  <a:pt x="8855" y="10691"/>
                </a:cubicBezTo>
                <a:cubicBezTo>
                  <a:pt x="8795" y="10691"/>
                  <a:pt x="8756" y="10701"/>
                  <a:pt x="8706" y="10716"/>
                </a:cubicBezTo>
                <a:cubicBezTo>
                  <a:pt x="8678" y="10716"/>
                  <a:pt x="8668" y="10718"/>
                  <a:pt x="8657" y="10740"/>
                </a:cubicBezTo>
              </a:path>
              <a:path w="249" h="174">
                <a:moveTo>
                  <a:pt x="8855" y="10790"/>
                </a:moveTo>
                <a:cubicBezTo>
                  <a:pt x="8896" y="10810"/>
                  <a:pt x="8912" y="10808"/>
                  <a:pt x="8905" y="10840"/>
                </a:cubicBezTo>
                <a:cubicBezTo>
                  <a:pt x="8859" y="10866"/>
                  <a:pt x="8838" y="10864"/>
                  <a:pt x="8781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73280" y="3724200"/>
            <a:ext cx="642960" cy="196920"/>
          </a:xfrm>
          <a:custGeom>
            <a:avLst/>
            <a:gdLst/>
            <a:ahLst/>
            <a:rect l="l" t="t" r="r" b="b"/>
            <a:pathLst>
              <a:path w="1787" h="546">
                <a:moveTo>
                  <a:pt x="9649" y="10492"/>
                </a:moveTo>
                <a:cubicBezTo>
                  <a:pt x="9722" y="10478"/>
                  <a:pt x="9758" y="10433"/>
                  <a:pt x="9823" y="10393"/>
                </a:cubicBezTo>
                <a:cubicBezTo>
                  <a:pt x="9890" y="10352"/>
                  <a:pt x="9953" y="10319"/>
                  <a:pt x="10021" y="10368"/>
                </a:cubicBezTo>
                <a:cubicBezTo>
                  <a:pt x="10094" y="10420"/>
                  <a:pt x="10075" y="10498"/>
                  <a:pt x="10046" y="10567"/>
                </a:cubicBezTo>
                <a:cubicBezTo>
                  <a:pt x="10021" y="10626"/>
                  <a:pt x="9991" y="10670"/>
                  <a:pt x="9947" y="10716"/>
                </a:cubicBezTo>
                <a:cubicBezTo>
                  <a:pt x="10028" y="10716"/>
                  <a:pt x="10124" y="10697"/>
                  <a:pt x="10195" y="10740"/>
                </a:cubicBezTo>
                <a:cubicBezTo>
                  <a:pt x="10227" y="10760"/>
                  <a:pt x="10237" y="10784"/>
                  <a:pt x="10244" y="10815"/>
                </a:cubicBezTo>
                <a:cubicBezTo>
                  <a:pt x="10190" y="10859"/>
                  <a:pt x="10142" y="10886"/>
                  <a:pt x="10071" y="10889"/>
                </a:cubicBezTo>
                <a:cubicBezTo>
                  <a:pt x="9997" y="10892"/>
                  <a:pt x="9921" y="10889"/>
                  <a:pt x="9847" y="10889"/>
                </a:cubicBezTo>
              </a:path>
              <a:path w="1787" h="546">
                <a:moveTo>
                  <a:pt x="10542" y="10616"/>
                </a:moveTo>
                <a:cubicBezTo>
                  <a:pt x="10510" y="10593"/>
                  <a:pt x="10499" y="10591"/>
                  <a:pt x="10468" y="10567"/>
                </a:cubicBezTo>
                <a:cubicBezTo>
                  <a:pt x="10477" y="10528"/>
                  <a:pt x="10505" y="10470"/>
                  <a:pt x="10542" y="10443"/>
                </a:cubicBezTo>
                <a:cubicBezTo>
                  <a:pt x="10615" y="10391"/>
                  <a:pt x="10702" y="10415"/>
                  <a:pt x="10740" y="10492"/>
                </a:cubicBezTo>
                <a:cubicBezTo>
                  <a:pt x="10782" y="10577"/>
                  <a:pt x="10814" y="10679"/>
                  <a:pt x="10765" y="10765"/>
                </a:cubicBezTo>
                <a:cubicBezTo>
                  <a:pt x="10733" y="10821"/>
                  <a:pt x="10610" y="10794"/>
                  <a:pt x="10567" y="10765"/>
                </a:cubicBezTo>
                <a:cubicBezTo>
                  <a:pt x="10501" y="10720"/>
                  <a:pt x="10439" y="10657"/>
                  <a:pt x="10468" y="10592"/>
                </a:cubicBezTo>
                <a:cubicBezTo>
                  <a:pt x="10476" y="10575"/>
                  <a:pt x="10484" y="10559"/>
                  <a:pt x="10492" y="10542"/>
                </a:cubicBezTo>
              </a:path>
              <a:path w="1787" h="546">
                <a:moveTo>
                  <a:pt x="11112" y="10517"/>
                </a:moveTo>
                <a:cubicBezTo>
                  <a:pt x="11112" y="10453"/>
                  <a:pt x="11128" y="10449"/>
                  <a:pt x="11187" y="10418"/>
                </a:cubicBezTo>
                <a:cubicBezTo>
                  <a:pt x="11280" y="10369"/>
                  <a:pt x="11336" y="10398"/>
                  <a:pt x="11385" y="10492"/>
                </a:cubicBezTo>
                <a:cubicBezTo>
                  <a:pt x="11424" y="10568"/>
                  <a:pt x="11458" y="10663"/>
                  <a:pt x="11410" y="10740"/>
                </a:cubicBezTo>
                <a:cubicBezTo>
                  <a:pt x="11378" y="10791"/>
                  <a:pt x="11277" y="10769"/>
                  <a:pt x="11237" y="10740"/>
                </a:cubicBezTo>
                <a:cubicBezTo>
                  <a:pt x="11161" y="10686"/>
                  <a:pt x="11187" y="10600"/>
                  <a:pt x="11187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8920" y="4643280"/>
            <a:ext cx="1482840" cy="384480"/>
          </a:xfrm>
          <a:custGeom>
            <a:avLst/>
            <a:gdLst/>
            <a:ahLst/>
            <a:rect l="l" t="t" r="r" b="b"/>
            <a:pathLst>
              <a:path w="4118" h="1068">
                <a:moveTo>
                  <a:pt x="6871" y="13419"/>
                </a:moveTo>
                <a:cubicBezTo>
                  <a:pt x="6819" y="13441"/>
                  <a:pt x="6801" y="13444"/>
                  <a:pt x="6747" y="13444"/>
                </a:cubicBezTo>
                <a:cubicBezTo>
                  <a:pt x="6747" y="13358"/>
                  <a:pt x="6778" y="13327"/>
                  <a:pt x="6846" y="13271"/>
                </a:cubicBezTo>
                <a:cubicBezTo>
                  <a:pt x="6945" y="13190"/>
                  <a:pt x="7066" y="13123"/>
                  <a:pt x="7193" y="13196"/>
                </a:cubicBezTo>
                <a:cubicBezTo>
                  <a:pt x="7307" y="13261"/>
                  <a:pt x="7300" y="13364"/>
                  <a:pt x="7268" y="13469"/>
                </a:cubicBezTo>
                <a:cubicBezTo>
                  <a:pt x="7245" y="13547"/>
                  <a:pt x="7163" y="13596"/>
                  <a:pt x="7144" y="13667"/>
                </a:cubicBezTo>
                <a:cubicBezTo>
                  <a:pt x="7144" y="13684"/>
                  <a:pt x="7144" y="13700"/>
                  <a:pt x="7144" y="13717"/>
                </a:cubicBezTo>
                <a:cubicBezTo>
                  <a:pt x="7206" y="13717"/>
                  <a:pt x="7284" y="13725"/>
                  <a:pt x="7342" y="13742"/>
                </a:cubicBezTo>
                <a:cubicBezTo>
                  <a:pt x="7404" y="13760"/>
                  <a:pt x="7413" y="13790"/>
                  <a:pt x="7441" y="13841"/>
                </a:cubicBezTo>
                <a:cubicBezTo>
                  <a:pt x="7429" y="13891"/>
                  <a:pt x="7373" y="13930"/>
                  <a:pt x="7317" y="13940"/>
                </a:cubicBezTo>
                <a:cubicBezTo>
                  <a:pt x="7216" y="13958"/>
                  <a:pt x="7099" y="13940"/>
                  <a:pt x="6995" y="13940"/>
                </a:cubicBezTo>
              </a:path>
              <a:path w="4118" h="1068">
                <a:moveTo>
                  <a:pt x="7689" y="13692"/>
                </a:moveTo>
                <a:cubicBezTo>
                  <a:pt x="7651" y="13687"/>
                  <a:pt x="7562" y="13685"/>
                  <a:pt x="7541" y="13643"/>
                </a:cubicBezTo>
                <a:cubicBezTo>
                  <a:pt x="7515" y="13591"/>
                  <a:pt x="7556" y="13501"/>
                  <a:pt x="7590" y="13469"/>
                </a:cubicBezTo>
                <a:cubicBezTo>
                  <a:pt x="7663" y="13401"/>
                  <a:pt x="7767" y="13401"/>
                  <a:pt x="7838" y="13469"/>
                </a:cubicBezTo>
                <a:cubicBezTo>
                  <a:pt x="7920" y="13547"/>
                  <a:pt x="7977" y="13704"/>
                  <a:pt x="7962" y="13816"/>
                </a:cubicBezTo>
                <a:cubicBezTo>
                  <a:pt x="7946" y="13930"/>
                  <a:pt x="7879" y="13982"/>
                  <a:pt x="7764" y="13965"/>
                </a:cubicBezTo>
                <a:cubicBezTo>
                  <a:pt x="7698" y="13955"/>
                  <a:pt x="7585" y="13910"/>
                  <a:pt x="7565" y="13841"/>
                </a:cubicBezTo>
                <a:cubicBezTo>
                  <a:pt x="7565" y="13824"/>
                  <a:pt x="7565" y="13808"/>
                  <a:pt x="7565" y="13791"/>
                </a:cubicBezTo>
              </a:path>
              <a:path w="4118" h="1068">
                <a:moveTo>
                  <a:pt x="8136" y="13519"/>
                </a:moveTo>
                <a:cubicBezTo>
                  <a:pt x="8101" y="13544"/>
                  <a:pt x="8104" y="13543"/>
                  <a:pt x="8062" y="13543"/>
                </a:cubicBezTo>
                <a:cubicBezTo>
                  <a:pt x="8062" y="13448"/>
                  <a:pt x="8062" y="13481"/>
                  <a:pt x="8111" y="13419"/>
                </a:cubicBezTo>
                <a:cubicBezTo>
                  <a:pt x="8174" y="13339"/>
                  <a:pt x="8274" y="13353"/>
                  <a:pt x="8359" y="13419"/>
                </a:cubicBezTo>
                <a:cubicBezTo>
                  <a:pt x="8482" y="13514"/>
                  <a:pt x="8535" y="13642"/>
                  <a:pt x="8558" y="13791"/>
                </a:cubicBezTo>
                <a:cubicBezTo>
                  <a:pt x="8575" y="13901"/>
                  <a:pt x="8475" y="13928"/>
                  <a:pt x="8384" y="13915"/>
                </a:cubicBezTo>
                <a:cubicBezTo>
                  <a:pt x="8306" y="13904"/>
                  <a:pt x="8170" y="13818"/>
                  <a:pt x="8136" y="13742"/>
                </a:cubicBezTo>
                <a:cubicBezTo>
                  <a:pt x="8136" y="13690"/>
                  <a:pt x="8137" y="13672"/>
                  <a:pt x="8161" y="13643"/>
                </a:cubicBezTo>
              </a:path>
              <a:path w="4118" h="1068">
                <a:moveTo>
                  <a:pt x="8756" y="13370"/>
                </a:moveTo>
                <a:cubicBezTo>
                  <a:pt x="8733" y="13347"/>
                  <a:pt x="8725" y="13343"/>
                  <a:pt x="8731" y="13320"/>
                </a:cubicBezTo>
              </a:path>
              <a:path w="4118" h="1068">
                <a:moveTo>
                  <a:pt x="8830" y="13568"/>
                </a:moveTo>
                <a:cubicBezTo>
                  <a:pt x="8830" y="13598"/>
                  <a:pt x="8830" y="13675"/>
                  <a:pt x="8855" y="13692"/>
                </a:cubicBezTo>
                <a:cubicBezTo>
                  <a:pt x="8863" y="13692"/>
                  <a:pt x="8872" y="13692"/>
                  <a:pt x="8880" y="13692"/>
                </a:cubicBezTo>
              </a:path>
              <a:path w="4118" h="1068">
                <a:moveTo>
                  <a:pt x="9153" y="13419"/>
                </a:moveTo>
                <a:cubicBezTo>
                  <a:pt x="9116" y="13398"/>
                  <a:pt x="9048" y="13364"/>
                  <a:pt x="9029" y="13320"/>
                </a:cubicBezTo>
                <a:cubicBezTo>
                  <a:pt x="9005" y="13265"/>
                  <a:pt x="9040" y="13203"/>
                  <a:pt x="9079" y="13171"/>
                </a:cubicBezTo>
                <a:cubicBezTo>
                  <a:pt x="9108" y="13147"/>
                  <a:pt x="9215" y="13087"/>
                  <a:pt x="9252" y="13097"/>
                </a:cubicBezTo>
                <a:cubicBezTo>
                  <a:pt x="9334" y="13119"/>
                  <a:pt x="9302" y="13202"/>
                  <a:pt x="9302" y="13271"/>
                </a:cubicBezTo>
                <a:cubicBezTo>
                  <a:pt x="9302" y="13362"/>
                  <a:pt x="9266" y="13436"/>
                  <a:pt x="9227" y="13519"/>
                </a:cubicBezTo>
                <a:cubicBezTo>
                  <a:pt x="9205" y="13567"/>
                  <a:pt x="9137" y="13650"/>
                  <a:pt x="9203" y="13692"/>
                </a:cubicBezTo>
                <a:cubicBezTo>
                  <a:pt x="9255" y="13725"/>
                  <a:pt x="9377" y="13657"/>
                  <a:pt x="9426" y="13643"/>
                </a:cubicBezTo>
                <a:cubicBezTo>
                  <a:pt x="9536" y="13612"/>
                  <a:pt x="9640" y="13595"/>
                  <a:pt x="9748" y="13568"/>
                </a:cubicBezTo>
              </a:path>
              <a:path w="4118" h="1068">
                <a:moveTo>
                  <a:pt x="9798" y="13395"/>
                </a:moveTo>
                <a:cubicBezTo>
                  <a:pt x="9798" y="13313"/>
                  <a:pt x="9797" y="13248"/>
                  <a:pt x="9823" y="13171"/>
                </a:cubicBezTo>
                <a:cubicBezTo>
                  <a:pt x="9851" y="13090"/>
                  <a:pt x="9878" y="12948"/>
                  <a:pt x="9996" y="12948"/>
                </a:cubicBezTo>
                <a:cubicBezTo>
                  <a:pt x="10097" y="12948"/>
                  <a:pt x="10160" y="13175"/>
                  <a:pt x="10170" y="13246"/>
                </a:cubicBezTo>
                <a:cubicBezTo>
                  <a:pt x="10181" y="13324"/>
                  <a:pt x="10170" y="13451"/>
                  <a:pt x="10071" y="13469"/>
                </a:cubicBezTo>
                <a:cubicBezTo>
                  <a:pt x="9979" y="13486"/>
                  <a:pt x="9842" y="13456"/>
                  <a:pt x="9773" y="13395"/>
                </a:cubicBezTo>
                <a:cubicBezTo>
                  <a:pt x="9751" y="13351"/>
                  <a:pt x="9738" y="13339"/>
                  <a:pt x="9773" y="13320"/>
                </a:cubicBezTo>
              </a:path>
              <a:path w="4118" h="1068">
                <a:moveTo>
                  <a:pt x="10468" y="13271"/>
                </a:moveTo>
                <a:cubicBezTo>
                  <a:pt x="10416" y="13271"/>
                  <a:pt x="10418" y="13273"/>
                  <a:pt x="10418" y="13221"/>
                </a:cubicBezTo>
                <a:cubicBezTo>
                  <a:pt x="10418" y="13123"/>
                  <a:pt x="10424" y="13074"/>
                  <a:pt x="10492" y="12998"/>
                </a:cubicBezTo>
                <a:cubicBezTo>
                  <a:pt x="10574" y="12906"/>
                  <a:pt x="10621" y="12865"/>
                  <a:pt x="10716" y="12973"/>
                </a:cubicBezTo>
                <a:cubicBezTo>
                  <a:pt x="10798" y="13066"/>
                  <a:pt x="10905" y="13237"/>
                  <a:pt x="10864" y="13370"/>
                </a:cubicBezTo>
                <a:cubicBezTo>
                  <a:pt x="10830" y="13481"/>
                  <a:pt x="10705" y="13496"/>
                  <a:pt x="10616" y="13444"/>
                </a:cubicBezTo>
                <a:cubicBezTo>
                  <a:pt x="10536" y="13397"/>
                  <a:pt x="10531" y="13349"/>
                  <a:pt x="10517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99000" y="3562200"/>
            <a:ext cx="465120" cy="2475000"/>
          </a:xfrm>
          <a:custGeom>
            <a:avLst/>
            <a:gdLst/>
            <a:ahLst/>
            <a:rect l="l" t="t" r="r" b="b"/>
            <a:pathLst>
              <a:path w="1291" h="6872">
                <a:moveTo>
                  <a:pt x="12774" y="9947"/>
                </a:moveTo>
                <a:cubicBezTo>
                  <a:pt x="12774" y="9919"/>
                  <a:pt x="12776" y="9908"/>
                  <a:pt x="12799" y="9897"/>
                </a:cubicBezTo>
                <a:cubicBezTo>
                  <a:pt x="12809" y="9937"/>
                  <a:pt x="12815" y="9956"/>
                  <a:pt x="12824" y="9996"/>
                </a:cubicBezTo>
                <a:cubicBezTo>
                  <a:pt x="12847" y="10102"/>
                  <a:pt x="12858" y="10211"/>
                  <a:pt x="12874" y="10319"/>
                </a:cubicBezTo>
                <a:cubicBezTo>
                  <a:pt x="12904" y="10521"/>
                  <a:pt x="12970" y="10717"/>
                  <a:pt x="13022" y="10914"/>
                </a:cubicBezTo>
                <a:cubicBezTo>
                  <a:pt x="13087" y="11162"/>
                  <a:pt x="13136" y="11409"/>
                  <a:pt x="13196" y="11658"/>
                </a:cubicBezTo>
                <a:cubicBezTo>
                  <a:pt x="13294" y="12064"/>
                  <a:pt x="13387" y="12466"/>
                  <a:pt x="13469" y="12874"/>
                </a:cubicBezTo>
                <a:cubicBezTo>
                  <a:pt x="13524" y="13146"/>
                  <a:pt x="13577" y="13417"/>
                  <a:pt x="13618" y="13692"/>
                </a:cubicBezTo>
                <a:cubicBezTo>
                  <a:pt x="13658" y="13957"/>
                  <a:pt x="13708" y="14220"/>
                  <a:pt x="13742" y="14486"/>
                </a:cubicBezTo>
                <a:cubicBezTo>
                  <a:pt x="13779" y="14770"/>
                  <a:pt x="13827" y="15047"/>
                  <a:pt x="13866" y="15329"/>
                </a:cubicBezTo>
                <a:cubicBezTo>
                  <a:pt x="13903" y="15596"/>
                  <a:pt x="13954" y="15857"/>
                  <a:pt x="13990" y="16123"/>
                </a:cubicBezTo>
                <a:cubicBezTo>
                  <a:pt x="14019" y="16338"/>
                  <a:pt x="14054" y="16552"/>
                  <a:pt x="14064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crease 210 by a ratio of 3: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71760" y="2795760"/>
            <a:ext cx="590400" cy="517320"/>
          </a:xfrm>
          <a:custGeom>
            <a:avLst/>
            <a:gdLst/>
            <a:ahLst/>
            <a:rect l="l" t="t" r="r" b="b"/>
            <a:pathLst>
              <a:path w="1638" h="1440">
                <a:moveTo>
                  <a:pt x="4366" y="8186"/>
                </a:moveTo>
                <a:cubicBezTo>
                  <a:pt x="4366" y="8132"/>
                  <a:pt x="4377" y="8114"/>
                  <a:pt x="4390" y="8062"/>
                </a:cubicBezTo>
                <a:cubicBezTo>
                  <a:pt x="4402" y="8013"/>
                  <a:pt x="4419" y="7946"/>
                  <a:pt x="4465" y="7913"/>
                </a:cubicBezTo>
                <a:cubicBezTo>
                  <a:pt x="4502" y="7886"/>
                  <a:pt x="4562" y="7841"/>
                  <a:pt x="4614" y="7863"/>
                </a:cubicBezTo>
                <a:cubicBezTo>
                  <a:pt x="4661" y="7883"/>
                  <a:pt x="4686" y="7971"/>
                  <a:pt x="4688" y="8012"/>
                </a:cubicBezTo>
                <a:cubicBezTo>
                  <a:pt x="4692" y="8092"/>
                  <a:pt x="4695" y="8163"/>
                  <a:pt x="4663" y="8235"/>
                </a:cubicBezTo>
                <a:cubicBezTo>
                  <a:pt x="4637" y="8292"/>
                  <a:pt x="4611" y="8353"/>
                  <a:pt x="4589" y="8409"/>
                </a:cubicBezTo>
                <a:cubicBezTo>
                  <a:pt x="4582" y="8426"/>
                  <a:pt x="4589" y="8465"/>
                  <a:pt x="4589" y="8483"/>
                </a:cubicBezTo>
                <a:cubicBezTo>
                  <a:pt x="4634" y="8472"/>
                  <a:pt x="4693" y="8462"/>
                  <a:pt x="4738" y="8434"/>
                </a:cubicBezTo>
                <a:cubicBezTo>
                  <a:pt x="4790" y="8402"/>
                  <a:pt x="4840" y="8383"/>
                  <a:pt x="4887" y="8359"/>
                </a:cubicBezTo>
                <a:cubicBezTo>
                  <a:pt x="4909" y="8336"/>
                  <a:pt x="4914" y="8328"/>
                  <a:pt x="4936" y="8334"/>
                </a:cubicBezTo>
              </a:path>
              <a:path w="1638" h="1440">
                <a:moveTo>
                  <a:pt x="5035" y="7913"/>
                </a:moveTo>
                <a:cubicBezTo>
                  <a:pt x="5043" y="7905"/>
                  <a:pt x="5052" y="7896"/>
                  <a:pt x="5060" y="7888"/>
                </a:cubicBezTo>
                <a:cubicBezTo>
                  <a:pt x="5071" y="7941"/>
                  <a:pt x="5070" y="8010"/>
                  <a:pt x="5085" y="8062"/>
                </a:cubicBezTo>
                <a:cubicBezTo>
                  <a:pt x="5103" y="8126"/>
                  <a:pt x="5129" y="8208"/>
                  <a:pt x="5159" y="8260"/>
                </a:cubicBezTo>
              </a:path>
              <a:path w="1638" h="1440">
                <a:moveTo>
                  <a:pt x="5407" y="8037"/>
                </a:moveTo>
                <a:cubicBezTo>
                  <a:pt x="5369" y="8024"/>
                  <a:pt x="5381" y="7996"/>
                  <a:pt x="5358" y="7962"/>
                </a:cubicBezTo>
                <a:cubicBezTo>
                  <a:pt x="5321" y="7908"/>
                  <a:pt x="5337" y="7890"/>
                  <a:pt x="5383" y="7838"/>
                </a:cubicBezTo>
                <a:cubicBezTo>
                  <a:pt x="5418" y="7798"/>
                  <a:pt x="5452" y="7768"/>
                  <a:pt x="5507" y="7764"/>
                </a:cubicBezTo>
                <a:cubicBezTo>
                  <a:pt x="5600" y="7758"/>
                  <a:pt x="5645" y="7828"/>
                  <a:pt x="5705" y="7888"/>
                </a:cubicBezTo>
                <a:cubicBezTo>
                  <a:pt x="5777" y="7960"/>
                  <a:pt x="5798" y="8038"/>
                  <a:pt x="5804" y="8136"/>
                </a:cubicBezTo>
                <a:cubicBezTo>
                  <a:pt x="5808" y="8200"/>
                  <a:pt x="5758" y="8238"/>
                  <a:pt x="5705" y="8260"/>
                </a:cubicBezTo>
                <a:cubicBezTo>
                  <a:pt x="5625" y="8293"/>
                  <a:pt x="5554" y="8296"/>
                  <a:pt x="5482" y="8260"/>
                </a:cubicBezTo>
                <a:cubicBezTo>
                  <a:pt x="5412" y="8225"/>
                  <a:pt x="5395" y="8160"/>
                  <a:pt x="5383" y="8086"/>
                </a:cubicBezTo>
                <a:cubicBezTo>
                  <a:pt x="5383" y="8070"/>
                  <a:pt x="5383" y="8053"/>
                  <a:pt x="5383" y="8037"/>
                </a:cubicBezTo>
              </a:path>
              <a:path w="1638" h="1440">
                <a:moveTo>
                  <a:pt x="6003" y="8458"/>
                </a:moveTo>
                <a:cubicBezTo>
                  <a:pt x="5928" y="8458"/>
                  <a:pt x="5867" y="8470"/>
                  <a:pt x="5804" y="8483"/>
                </a:cubicBezTo>
                <a:cubicBezTo>
                  <a:pt x="5726" y="8499"/>
                  <a:pt x="5635" y="8524"/>
                  <a:pt x="5556" y="8533"/>
                </a:cubicBezTo>
                <a:cubicBezTo>
                  <a:pt x="5471" y="8543"/>
                  <a:pt x="5388" y="8548"/>
                  <a:pt x="5308" y="8582"/>
                </a:cubicBezTo>
                <a:cubicBezTo>
                  <a:pt x="5253" y="8605"/>
                  <a:pt x="5185" y="8634"/>
                  <a:pt x="5135" y="8657"/>
                </a:cubicBezTo>
                <a:cubicBezTo>
                  <a:pt x="5090" y="8678"/>
                  <a:pt x="5047" y="8720"/>
                  <a:pt x="5011" y="8756"/>
                </a:cubicBezTo>
                <a:cubicBezTo>
                  <a:pt x="4973" y="8795"/>
                  <a:pt x="4926" y="8815"/>
                  <a:pt x="4887" y="8855"/>
                </a:cubicBezTo>
                <a:cubicBezTo>
                  <a:pt x="4848" y="8895"/>
                  <a:pt x="4807" y="8885"/>
                  <a:pt x="4762" y="8930"/>
                </a:cubicBezTo>
                <a:cubicBezTo>
                  <a:pt x="4730" y="8962"/>
                  <a:pt x="4712" y="8960"/>
                  <a:pt x="4688" y="8979"/>
                </a:cubicBezTo>
              </a:path>
              <a:path w="1638" h="1440">
                <a:moveTo>
                  <a:pt x="5259" y="8880"/>
                </a:moveTo>
                <a:cubicBezTo>
                  <a:pt x="5307" y="8868"/>
                  <a:pt x="5358" y="8830"/>
                  <a:pt x="5407" y="8806"/>
                </a:cubicBezTo>
                <a:cubicBezTo>
                  <a:pt x="5480" y="8770"/>
                  <a:pt x="5574" y="8721"/>
                  <a:pt x="5655" y="8706"/>
                </a:cubicBezTo>
                <a:cubicBezTo>
                  <a:pt x="5711" y="8695"/>
                  <a:pt x="5764" y="8695"/>
                  <a:pt x="5779" y="8756"/>
                </a:cubicBezTo>
                <a:cubicBezTo>
                  <a:pt x="5804" y="8859"/>
                  <a:pt x="5768" y="8980"/>
                  <a:pt x="5755" y="9079"/>
                </a:cubicBezTo>
                <a:cubicBezTo>
                  <a:pt x="5750" y="9119"/>
                  <a:pt x="5755" y="9163"/>
                  <a:pt x="575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6200" y="2820960"/>
            <a:ext cx="581040" cy="233280"/>
          </a:xfrm>
          <a:custGeom>
            <a:avLst/>
            <a:gdLst/>
            <a:ahLst/>
            <a:rect l="l" t="t" r="r" b="b"/>
            <a:pathLst>
              <a:path w="1614" h="646">
                <a:moveTo>
                  <a:pt x="6970" y="8310"/>
                </a:moveTo>
                <a:cubicBezTo>
                  <a:pt x="6978" y="8310"/>
                  <a:pt x="6987" y="8310"/>
                  <a:pt x="6995" y="8310"/>
                </a:cubicBezTo>
                <a:cubicBezTo>
                  <a:pt x="6988" y="8288"/>
                  <a:pt x="6956" y="8265"/>
                  <a:pt x="6921" y="8285"/>
                </a:cubicBezTo>
                <a:cubicBezTo>
                  <a:pt x="6872" y="8313"/>
                  <a:pt x="6888" y="8310"/>
                  <a:pt x="6821" y="8310"/>
                </a:cubicBezTo>
                <a:cubicBezTo>
                  <a:pt x="6821" y="8334"/>
                  <a:pt x="6821" y="8342"/>
                  <a:pt x="6796" y="8334"/>
                </a:cubicBezTo>
              </a:path>
              <a:path w="1614" h="646">
                <a:moveTo>
                  <a:pt x="6970" y="8359"/>
                </a:moveTo>
                <a:cubicBezTo>
                  <a:pt x="6993" y="8382"/>
                  <a:pt x="6997" y="8390"/>
                  <a:pt x="7020" y="8384"/>
                </a:cubicBezTo>
                <a:cubicBezTo>
                  <a:pt x="7014" y="8403"/>
                  <a:pt x="6977" y="8444"/>
                  <a:pt x="6945" y="8458"/>
                </a:cubicBezTo>
                <a:cubicBezTo>
                  <a:pt x="6917" y="8458"/>
                  <a:pt x="6907" y="8461"/>
                  <a:pt x="6896" y="8483"/>
                </a:cubicBezTo>
              </a:path>
              <a:path w="1614" h="646">
                <a:moveTo>
                  <a:pt x="7367" y="8012"/>
                </a:moveTo>
                <a:cubicBezTo>
                  <a:pt x="7328" y="8051"/>
                  <a:pt x="7380" y="7979"/>
                  <a:pt x="7417" y="7938"/>
                </a:cubicBezTo>
                <a:cubicBezTo>
                  <a:pt x="7474" y="7876"/>
                  <a:pt x="7507" y="7844"/>
                  <a:pt x="7590" y="7838"/>
                </a:cubicBezTo>
                <a:cubicBezTo>
                  <a:pt x="7664" y="7832"/>
                  <a:pt x="7686" y="7879"/>
                  <a:pt x="7689" y="7938"/>
                </a:cubicBezTo>
                <a:cubicBezTo>
                  <a:pt x="7693" y="8011"/>
                  <a:pt x="7684" y="8052"/>
                  <a:pt x="7640" y="8111"/>
                </a:cubicBezTo>
                <a:cubicBezTo>
                  <a:pt x="7615" y="8144"/>
                  <a:pt x="7600" y="8147"/>
                  <a:pt x="7590" y="8186"/>
                </a:cubicBezTo>
                <a:cubicBezTo>
                  <a:pt x="7640" y="8215"/>
                  <a:pt x="7678" y="8210"/>
                  <a:pt x="7739" y="8210"/>
                </a:cubicBezTo>
                <a:cubicBezTo>
                  <a:pt x="7785" y="8210"/>
                  <a:pt x="7841" y="8236"/>
                  <a:pt x="7863" y="8285"/>
                </a:cubicBezTo>
                <a:cubicBezTo>
                  <a:pt x="7887" y="8340"/>
                  <a:pt x="7790" y="8357"/>
                  <a:pt x="7764" y="8359"/>
                </a:cubicBezTo>
                <a:cubicBezTo>
                  <a:pt x="7701" y="8363"/>
                  <a:pt x="7655" y="8384"/>
                  <a:pt x="7590" y="8384"/>
                </a:cubicBezTo>
                <a:cubicBezTo>
                  <a:pt x="7582" y="8384"/>
                  <a:pt x="7573" y="8384"/>
                  <a:pt x="7565" y="8384"/>
                </a:cubicBezTo>
              </a:path>
              <a:path w="1614" h="646">
                <a:moveTo>
                  <a:pt x="8062" y="8136"/>
                </a:moveTo>
                <a:cubicBezTo>
                  <a:pt x="8039" y="8083"/>
                  <a:pt x="8037" y="8066"/>
                  <a:pt x="8037" y="8012"/>
                </a:cubicBezTo>
                <a:cubicBezTo>
                  <a:pt x="8037" y="7941"/>
                  <a:pt x="8076" y="7899"/>
                  <a:pt x="8136" y="7863"/>
                </a:cubicBezTo>
                <a:cubicBezTo>
                  <a:pt x="8209" y="7820"/>
                  <a:pt x="8306" y="7877"/>
                  <a:pt x="8359" y="7938"/>
                </a:cubicBezTo>
                <a:cubicBezTo>
                  <a:pt x="8406" y="7993"/>
                  <a:pt x="8448" y="8122"/>
                  <a:pt x="8384" y="8186"/>
                </a:cubicBezTo>
                <a:cubicBezTo>
                  <a:pt x="8326" y="8243"/>
                  <a:pt x="8193" y="8199"/>
                  <a:pt x="8136" y="8161"/>
                </a:cubicBezTo>
                <a:cubicBezTo>
                  <a:pt x="8040" y="8097"/>
                  <a:pt x="8037" y="8043"/>
                  <a:pt x="8037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3571920"/>
            <a:ext cx="838080" cy="312840"/>
          </a:xfrm>
          <a:custGeom>
            <a:avLst/>
            <a:gdLst/>
            <a:ahLst/>
            <a:rect l="l" t="t" r="r" b="b"/>
            <a:pathLst>
              <a:path w="2332" h="869">
                <a:moveTo>
                  <a:pt x="5259" y="10492"/>
                </a:moveTo>
                <a:cubicBezTo>
                  <a:pt x="5259" y="10544"/>
                  <a:pt x="5264" y="10442"/>
                  <a:pt x="5283" y="10418"/>
                </a:cubicBezTo>
                <a:cubicBezTo>
                  <a:pt x="5328" y="10359"/>
                  <a:pt x="5415" y="10302"/>
                  <a:pt x="5482" y="10294"/>
                </a:cubicBezTo>
                <a:cubicBezTo>
                  <a:pt x="5539" y="10288"/>
                  <a:pt x="5610" y="10306"/>
                  <a:pt x="5631" y="10368"/>
                </a:cubicBezTo>
                <a:cubicBezTo>
                  <a:pt x="5651" y="10428"/>
                  <a:pt x="5582" y="10516"/>
                  <a:pt x="5556" y="10567"/>
                </a:cubicBezTo>
                <a:cubicBezTo>
                  <a:pt x="5536" y="10607"/>
                  <a:pt x="5516" y="10627"/>
                  <a:pt x="5507" y="10666"/>
                </a:cubicBezTo>
                <a:cubicBezTo>
                  <a:pt x="5553" y="10702"/>
                  <a:pt x="5594" y="10691"/>
                  <a:pt x="5655" y="10691"/>
                </a:cubicBezTo>
                <a:cubicBezTo>
                  <a:pt x="5715" y="10691"/>
                  <a:pt x="5712" y="10684"/>
                  <a:pt x="5755" y="10716"/>
                </a:cubicBezTo>
                <a:cubicBezTo>
                  <a:pt x="5740" y="10774"/>
                  <a:pt x="5716" y="10786"/>
                  <a:pt x="5655" y="10790"/>
                </a:cubicBezTo>
                <a:cubicBezTo>
                  <a:pt x="5586" y="10794"/>
                  <a:pt x="5543" y="10792"/>
                  <a:pt x="5482" y="10765"/>
                </a:cubicBezTo>
              </a:path>
              <a:path w="2332" h="869">
                <a:moveTo>
                  <a:pt x="5953" y="10542"/>
                </a:moveTo>
                <a:cubicBezTo>
                  <a:pt x="5943" y="10503"/>
                  <a:pt x="5928" y="10487"/>
                  <a:pt x="5928" y="10443"/>
                </a:cubicBezTo>
                <a:cubicBezTo>
                  <a:pt x="5928" y="10374"/>
                  <a:pt x="5964" y="10347"/>
                  <a:pt x="6028" y="10319"/>
                </a:cubicBezTo>
                <a:cubicBezTo>
                  <a:pt x="6129" y="10275"/>
                  <a:pt x="6221" y="10277"/>
                  <a:pt x="6300" y="10344"/>
                </a:cubicBezTo>
                <a:cubicBezTo>
                  <a:pt x="6332" y="10371"/>
                  <a:pt x="6419" y="10490"/>
                  <a:pt x="6375" y="10542"/>
                </a:cubicBezTo>
                <a:cubicBezTo>
                  <a:pt x="6339" y="10585"/>
                  <a:pt x="6247" y="10567"/>
                  <a:pt x="6201" y="10567"/>
                </a:cubicBezTo>
                <a:cubicBezTo>
                  <a:pt x="6152" y="10567"/>
                  <a:pt x="6101" y="10572"/>
                  <a:pt x="6077" y="10517"/>
                </a:cubicBezTo>
                <a:cubicBezTo>
                  <a:pt x="6077" y="10509"/>
                  <a:pt x="6077" y="10500"/>
                  <a:pt x="6077" y="10492"/>
                </a:cubicBezTo>
              </a:path>
              <a:path w="2332" h="869">
                <a:moveTo>
                  <a:pt x="6697" y="10170"/>
                </a:moveTo>
                <a:cubicBezTo>
                  <a:pt x="6705" y="10162"/>
                  <a:pt x="6714" y="10153"/>
                  <a:pt x="6722" y="10145"/>
                </a:cubicBezTo>
                <a:cubicBezTo>
                  <a:pt x="6722" y="10199"/>
                  <a:pt x="6721" y="10218"/>
                  <a:pt x="6697" y="10269"/>
                </a:cubicBezTo>
                <a:cubicBezTo>
                  <a:pt x="6665" y="10336"/>
                  <a:pt x="6639" y="10398"/>
                  <a:pt x="6623" y="10468"/>
                </a:cubicBezTo>
                <a:cubicBezTo>
                  <a:pt x="6623" y="10476"/>
                  <a:pt x="6623" y="10484"/>
                  <a:pt x="6623" y="10492"/>
                </a:cubicBezTo>
              </a:path>
              <a:path w="2332" h="869">
                <a:moveTo>
                  <a:pt x="6772" y="10393"/>
                </a:moveTo>
                <a:cubicBezTo>
                  <a:pt x="6772" y="10368"/>
                  <a:pt x="6772" y="10360"/>
                  <a:pt x="6772" y="10344"/>
                </a:cubicBezTo>
                <a:cubicBezTo>
                  <a:pt x="6733" y="10334"/>
                  <a:pt x="6717" y="10319"/>
                  <a:pt x="6672" y="10319"/>
                </a:cubicBezTo>
                <a:cubicBezTo>
                  <a:pt x="6631" y="10319"/>
                  <a:pt x="6623" y="10319"/>
                  <a:pt x="6598" y="10319"/>
                </a:cubicBezTo>
              </a:path>
              <a:path w="2332" h="869">
                <a:moveTo>
                  <a:pt x="7094" y="10145"/>
                </a:moveTo>
                <a:cubicBezTo>
                  <a:pt x="7072" y="10123"/>
                  <a:pt x="7067" y="10114"/>
                  <a:pt x="7045" y="10120"/>
                </a:cubicBezTo>
                <a:cubicBezTo>
                  <a:pt x="7058" y="10080"/>
                  <a:pt x="7103" y="10081"/>
                  <a:pt x="7144" y="10046"/>
                </a:cubicBezTo>
                <a:cubicBezTo>
                  <a:pt x="7194" y="10005"/>
                  <a:pt x="7257" y="9946"/>
                  <a:pt x="7317" y="9922"/>
                </a:cubicBezTo>
                <a:cubicBezTo>
                  <a:pt x="7325" y="9922"/>
                  <a:pt x="7334" y="9922"/>
                  <a:pt x="7342" y="9922"/>
                </a:cubicBezTo>
                <a:cubicBezTo>
                  <a:pt x="7375" y="9966"/>
                  <a:pt x="7367" y="9988"/>
                  <a:pt x="7367" y="10046"/>
                </a:cubicBezTo>
                <a:cubicBezTo>
                  <a:pt x="7367" y="10119"/>
                  <a:pt x="7318" y="10122"/>
                  <a:pt x="7367" y="10195"/>
                </a:cubicBezTo>
                <a:cubicBezTo>
                  <a:pt x="7399" y="10243"/>
                  <a:pt x="7473" y="10224"/>
                  <a:pt x="7516" y="10244"/>
                </a:cubicBezTo>
                <a:cubicBezTo>
                  <a:pt x="7566" y="10267"/>
                  <a:pt x="7586" y="10322"/>
                  <a:pt x="7590" y="10368"/>
                </a:cubicBezTo>
                <a:cubicBezTo>
                  <a:pt x="7594" y="10413"/>
                  <a:pt x="7505" y="10416"/>
                  <a:pt x="7466" y="10418"/>
                </a:cubicBezTo>
                <a:cubicBezTo>
                  <a:pt x="7417" y="10418"/>
                  <a:pt x="7400" y="10418"/>
                  <a:pt x="7367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1960" y="359892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8161" y="10021"/>
                </a:moveTo>
                <a:cubicBezTo>
                  <a:pt x="8161" y="10013"/>
                  <a:pt x="8161" y="10004"/>
                  <a:pt x="8161" y="9996"/>
                </a:cubicBezTo>
                <a:cubicBezTo>
                  <a:pt x="8128" y="9996"/>
                  <a:pt x="8095" y="9996"/>
                  <a:pt x="8062" y="9996"/>
                </a:cubicBezTo>
              </a:path>
              <a:path w="100" h="125">
                <a:moveTo>
                  <a:pt x="8161" y="10021"/>
                </a:moveTo>
                <a:cubicBezTo>
                  <a:pt x="8161" y="10054"/>
                  <a:pt x="8161" y="10087"/>
                  <a:pt x="816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5880" y="3473280"/>
            <a:ext cx="37440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8855" y="9798"/>
                </a:moveTo>
                <a:cubicBezTo>
                  <a:pt x="8878" y="9775"/>
                  <a:pt x="8886" y="9771"/>
                  <a:pt x="8880" y="9748"/>
                </a:cubicBezTo>
                <a:cubicBezTo>
                  <a:pt x="8845" y="9727"/>
                  <a:pt x="8787" y="9710"/>
                  <a:pt x="8756" y="9748"/>
                </a:cubicBezTo>
                <a:cubicBezTo>
                  <a:pt x="8713" y="9800"/>
                  <a:pt x="8687" y="9856"/>
                  <a:pt x="8682" y="9922"/>
                </a:cubicBezTo>
                <a:cubicBezTo>
                  <a:pt x="8679" y="9958"/>
                  <a:pt x="8738" y="10028"/>
                  <a:pt x="8781" y="9996"/>
                </a:cubicBezTo>
                <a:cubicBezTo>
                  <a:pt x="8834" y="9957"/>
                  <a:pt x="8833" y="9871"/>
                  <a:pt x="8855" y="9823"/>
                </a:cubicBezTo>
                <a:cubicBezTo>
                  <a:pt x="8878" y="9800"/>
                  <a:pt x="8886" y="9796"/>
                  <a:pt x="8880" y="9773"/>
                </a:cubicBezTo>
                <a:cubicBezTo>
                  <a:pt x="8917" y="9834"/>
                  <a:pt x="8929" y="9921"/>
                  <a:pt x="8954" y="9996"/>
                </a:cubicBezTo>
                <a:cubicBezTo>
                  <a:pt x="8981" y="10078"/>
                  <a:pt x="9004" y="10172"/>
                  <a:pt x="9054" y="10244"/>
                </a:cubicBezTo>
                <a:cubicBezTo>
                  <a:pt x="9062" y="10252"/>
                  <a:pt x="9071" y="10261"/>
                  <a:pt x="9079" y="10269"/>
                </a:cubicBezTo>
              </a:path>
              <a:path w="1042" h="621">
                <a:moveTo>
                  <a:pt x="9277" y="9922"/>
                </a:moveTo>
                <a:cubicBezTo>
                  <a:pt x="9235" y="9866"/>
                  <a:pt x="9259" y="9876"/>
                  <a:pt x="9277" y="9823"/>
                </a:cubicBezTo>
                <a:cubicBezTo>
                  <a:pt x="9303" y="9746"/>
                  <a:pt x="9326" y="9716"/>
                  <a:pt x="9401" y="9674"/>
                </a:cubicBezTo>
                <a:cubicBezTo>
                  <a:pt x="9491" y="9624"/>
                  <a:pt x="9583" y="9646"/>
                  <a:pt x="9649" y="9723"/>
                </a:cubicBezTo>
                <a:cubicBezTo>
                  <a:pt x="9716" y="9800"/>
                  <a:pt x="9752" y="9903"/>
                  <a:pt x="9699" y="9996"/>
                </a:cubicBezTo>
                <a:cubicBezTo>
                  <a:pt x="9638" y="10104"/>
                  <a:pt x="9518" y="10023"/>
                  <a:pt x="9451" y="9996"/>
                </a:cubicBezTo>
                <a:cubicBezTo>
                  <a:pt x="9331" y="9947"/>
                  <a:pt x="9344" y="9916"/>
                  <a:pt x="937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2500200"/>
            <a:ext cx="1035000" cy="554040"/>
          </a:xfrm>
          <a:custGeom>
            <a:avLst/>
            <a:gdLst/>
            <a:ahLst/>
            <a:rect l="l" t="t" r="r" b="b"/>
            <a:pathLst>
              <a:path w="2878" h="1539">
                <a:moveTo>
                  <a:pt x="13519" y="7293"/>
                </a:moveTo>
                <a:cubicBezTo>
                  <a:pt x="13519" y="7321"/>
                  <a:pt x="13516" y="7331"/>
                  <a:pt x="13494" y="7342"/>
                </a:cubicBezTo>
                <a:cubicBezTo>
                  <a:pt x="13445" y="7330"/>
                  <a:pt x="13444" y="7318"/>
                  <a:pt x="13444" y="7268"/>
                </a:cubicBezTo>
                <a:cubicBezTo>
                  <a:pt x="13444" y="7225"/>
                  <a:pt x="13554" y="7134"/>
                  <a:pt x="13593" y="7119"/>
                </a:cubicBezTo>
                <a:cubicBezTo>
                  <a:pt x="13632" y="7104"/>
                  <a:pt x="13731" y="7116"/>
                  <a:pt x="13742" y="7169"/>
                </a:cubicBezTo>
                <a:cubicBezTo>
                  <a:pt x="13766" y="7281"/>
                  <a:pt x="13727" y="7388"/>
                  <a:pt x="13692" y="7491"/>
                </a:cubicBezTo>
                <a:cubicBezTo>
                  <a:pt x="13676" y="7538"/>
                  <a:pt x="13617" y="7635"/>
                  <a:pt x="13643" y="7689"/>
                </a:cubicBezTo>
                <a:cubicBezTo>
                  <a:pt x="13662" y="7729"/>
                  <a:pt x="13757" y="7724"/>
                  <a:pt x="13791" y="7714"/>
                </a:cubicBezTo>
                <a:cubicBezTo>
                  <a:pt x="13857" y="7696"/>
                  <a:pt x="13923" y="7655"/>
                  <a:pt x="13990" y="7640"/>
                </a:cubicBezTo>
                <a:cubicBezTo>
                  <a:pt x="14041" y="7640"/>
                  <a:pt x="14060" y="7639"/>
                  <a:pt x="14089" y="7615"/>
                </a:cubicBezTo>
              </a:path>
              <a:path w="2878" h="1539">
                <a:moveTo>
                  <a:pt x="14213" y="7169"/>
                </a:moveTo>
                <a:cubicBezTo>
                  <a:pt x="14269" y="7150"/>
                  <a:pt x="14238" y="7269"/>
                  <a:pt x="14238" y="7342"/>
                </a:cubicBezTo>
                <a:cubicBezTo>
                  <a:pt x="14238" y="7422"/>
                  <a:pt x="14248" y="7521"/>
                  <a:pt x="14288" y="7590"/>
                </a:cubicBezTo>
                <a:cubicBezTo>
                  <a:pt x="14296" y="7598"/>
                  <a:pt x="14304" y="7607"/>
                  <a:pt x="14312" y="7615"/>
                </a:cubicBezTo>
              </a:path>
              <a:path w="2878" h="1539">
                <a:moveTo>
                  <a:pt x="14536" y="7417"/>
                </a:moveTo>
                <a:cubicBezTo>
                  <a:pt x="14498" y="7379"/>
                  <a:pt x="14486" y="7370"/>
                  <a:pt x="14486" y="7317"/>
                </a:cubicBezTo>
                <a:cubicBezTo>
                  <a:pt x="14486" y="7241"/>
                  <a:pt x="14542" y="7224"/>
                  <a:pt x="14610" y="7243"/>
                </a:cubicBezTo>
                <a:cubicBezTo>
                  <a:pt x="14710" y="7271"/>
                  <a:pt x="14767" y="7399"/>
                  <a:pt x="14784" y="7491"/>
                </a:cubicBezTo>
                <a:cubicBezTo>
                  <a:pt x="14793" y="7542"/>
                  <a:pt x="14806" y="7669"/>
                  <a:pt x="14734" y="7689"/>
                </a:cubicBezTo>
                <a:cubicBezTo>
                  <a:pt x="14674" y="7706"/>
                  <a:pt x="14601" y="7652"/>
                  <a:pt x="14560" y="7615"/>
                </a:cubicBezTo>
                <a:cubicBezTo>
                  <a:pt x="14533" y="7587"/>
                  <a:pt x="14525" y="7573"/>
                  <a:pt x="14536" y="7541"/>
                </a:cubicBezTo>
              </a:path>
              <a:path w="2878" h="1539">
                <a:moveTo>
                  <a:pt x="15577" y="7293"/>
                </a:moveTo>
                <a:cubicBezTo>
                  <a:pt x="15613" y="7266"/>
                  <a:pt x="15616" y="7276"/>
                  <a:pt x="15627" y="7243"/>
                </a:cubicBezTo>
                <a:cubicBezTo>
                  <a:pt x="15587" y="7283"/>
                  <a:pt x="15541" y="7336"/>
                  <a:pt x="15503" y="7367"/>
                </a:cubicBezTo>
                <a:cubicBezTo>
                  <a:pt x="15450" y="7409"/>
                  <a:pt x="15444" y="7421"/>
                  <a:pt x="15404" y="7466"/>
                </a:cubicBezTo>
                <a:cubicBezTo>
                  <a:pt x="15396" y="7474"/>
                  <a:pt x="15387" y="7483"/>
                  <a:pt x="15379" y="7491"/>
                </a:cubicBezTo>
              </a:path>
              <a:path w="2878" h="1539">
                <a:moveTo>
                  <a:pt x="15528" y="7491"/>
                </a:moveTo>
                <a:cubicBezTo>
                  <a:pt x="15528" y="7466"/>
                  <a:pt x="15528" y="7458"/>
                  <a:pt x="15528" y="7441"/>
                </a:cubicBezTo>
                <a:cubicBezTo>
                  <a:pt x="15480" y="7430"/>
                  <a:pt x="15447" y="7393"/>
                  <a:pt x="15404" y="7367"/>
                </a:cubicBezTo>
                <a:cubicBezTo>
                  <a:pt x="15361" y="7341"/>
                  <a:pt x="15339" y="7327"/>
                  <a:pt x="15304" y="7293"/>
                </a:cubicBezTo>
              </a:path>
              <a:path w="2878" h="1539">
                <a:moveTo>
                  <a:pt x="15776" y="7193"/>
                </a:moveTo>
                <a:cubicBezTo>
                  <a:pt x="15759" y="7160"/>
                  <a:pt x="15702" y="7087"/>
                  <a:pt x="15726" y="7045"/>
                </a:cubicBezTo>
                <a:cubicBezTo>
                  <a:pt x="15754" y="6994"/>
                  <a:pt x="15822" y="6956"/>
                  <a:pt x="15875" y="6945"/>
                </a:cubicBezTo>
                <a:cubicBezTo>
                  <a:pt x="15927" y="6935"/>
                  <a:pt x="15987" y="6943"/>
                  <a:pt x="15999" y="6995"/>
                </a:cubicBezTo>
                <a:cubicBezTo>
                  <a:pt x="16012" y="7053"/>
                  <a:pt x="15984" y="7124"/>
                  <a:pt x="15949" y="7169"/>
                </a:cubicBezTo>
                <a:cubicBezTo>
                  <a:pt x="15914" y="7214"/>
                  <a:pt x="15845" y="7245"/>
                  <a:pt x="15875" y="7317"/>
                </a:cubicBezTo>
                <a:cubicBezTo>
                  <a:pt x="15895" y="7365"/>
                  <a:pt x="15982" y="7385"/>
                  <a:pt x="16024" y="7392"/>
                </a:cubicBezTo>
                <a:cubicBezTo>
                  <a:pt x="16065" y="7392"/>
                  <a:pt x="16073" y="7392"/>
                  <a:pt x="16098" y="7392"/>
                </a:cubicBezTo>
                <a:cubicBezTo>
                  <a:pt x="16098" y="7448"/>
                  <a:pt x="16085" y="7462"/>
                  <a:pt x="16024" y="7466"/>
                </a:cubicBezTo>
                <a:cubicBezTo>
                  <a:pt x="15961" y="7470"/>
                  <a:pt x="15915" y="7491"/>
                  <a:pt x="15850" y="7491"/>
                </a:cubicBezTo>
              </a:path>
              <a:path w="2878" h="1539">
                <a:moveTo>
                  <a:pt x="16297" y="7689"/>
                </a:moveTo>
                <a:cubicBezTo>
                  <a:pt x="16291" y="7698"/>
                  <a:pt x="16267" y="7714"/>
                  <a:pt x="16173" y="7714"/>
                </a:cubicBezTo>
                <a:cubicBezTo>
                  <a:pt x="16014" y="7714"/>
                  <a:pt x="15860" y="7755"/>
                  <a:pt x="15701" y="7764"/>
                </a:cubicBezTo>
                <a:cubicBezTo>
                  <a:pt x="15495" y="7776"/>
                  <a:pt x="15287" y="7785"/>
                  <a:pt x="15081" y="7789"/>
                </a:cubicBezTo>
                <a:cubicBezTo>
                  <a:pt x="14863" y="7793"/>
                  <a:pt x="14651" y="7797"/>
                  <a:pt x="14436" y="7813"/>
                </a:cubicBezTo>
                <a:cubicBezTo>
                  <a:pt x="14318" y="7822"/>
                  <a:pt x="14210" y="7838"/>
                  <a:pt x="14089" y="7838"/>
                </a:cubicBezTo>
                <a:cubicBezTo>
                  <a:pt x="14022" y="7838"/>
                  <a:pt x="13907" y="7847"/>
                  <a:pt x="13841" y="7863"/>
                </a:cubicBezTo>
                <a:cubicBezTo>
                  <a:pt x="13782" y="7877"/>
                  <a:pt x="13756" y="7885"/>
                  <a:pt x="13692" y="7888"/>
                </a:cubicBezTo>
                <a:cubicBezTo>
                  <a:pt x="13640" y="7890"/>
                  <a:pt x="13665" y="7877"/>
                  <a:pt x="13643" y="7863"/>
                </a:cubicBezTo>
              </a:path>
              <a:path w="2878" h="1539">
                <a:moveTo>
                  <a:pt x="14684" y="7987"/>
                </a:moveTo>
                <a:cubicBezTo>
                  <a:pt x="14643" y="7987"/>
                  <a:pt x="14627" y="7979"/>
                  <a:pt x="14635" y="8012"/>
                </a:cubicBezTo>
                <a:cubicBezTo>
                  <a:pt x="14749" y="8012"/>
                  <a:pt x="14971" y="7968"/>
                  <a:pt x="15056" y="8037"/>
                </a:cubicBezTo>
                <a:cubicBezTo>
                  <a:pt x="15118" y="8087"/>
                  <a:pt x="15056" y="8201"/>
                  <a:pt x="15032" y="8260"/>
                </a:cubicBezTo>
                <a:cubicBezTo>
                  <a:pt x="15006" y="8323"/>
                  <a:pt x="14964" y="8391"/>
                  <a:pt x="14957" y="8458"/>
                </a:cubicBezTo>
                <a:cubicBezTo>
                  <a:pt x="14957" y="8466"/>
                  <a:pt x="14957" y="8475"/>
                  <a:pt x="1495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9240" y="2705040"/>
            <a:ext cx="8892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8058" y="7541"/>
                </a:moveTo>
                <a:cubicBezTo>
                  <a:pt x="18103" y="7507"/>
                  <a:pt x="18118" y="7516"/>
                  <a:pt x="18058" y="7516"/>
                </a:cubicBezTo>
                <a:cubicBezTo>
                  <a:pt x="18015" y="7516"/>
                  <a:pt x="17973" y="7558"/>
                  <a:pt x="17934" y="7565"/>
                </a:cubicBezTo>
                <a:cubicBezTo>
                  <a:pt x="17889" y="7565"/>
                  <a:pt x="17876" y="7562"/>
                  <a:pt x="17859" y="7590"/>
                </a:cubicBezTo>
              </a:path>
              <a:path w="249" h="249">
                <a:moveTo>
                  <a:pt x="18008" y="7665"/>
                </a:moveTo>
                <a:cubicBezTo>
                  <a:pt x="18025" y="7665"/>
                  <a:pt x="18041" y="7665"/>
                  <a:pt x="18058" y="7665"/>
                </a:cubicBezTo>
                <a:cubicBezTo>
                  <a:pt x="18058" y="7719"/>
                  <a:pt x="18045" y="7723"/>
                  <a:pt x="17983" y="7739"/>
                </a:cubicBezTo>
                <a:cubicBezTo>
                  <a:pt x="17950" y="7747"/>
                  <a:pt x="17918" y="7757"/>
                  <a:pt x="17884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42080" y="2581200"/>
            <a:ext cx="384120" cy="241200"/>
          </a:xfrm>
          <a:custGeom>
            <a:avLst/>
            <a:gdLst/>
            <a:ahLst/>
            <a:rect l="l" t="t" r="r" b="b"/>
            <a:pathLst>
              <a:path w="1067" h="670">
                <a:moveTo>
                  <a:pt x="18976" y="7268"/>
                </a:moveTo>
                <a:cubicBezTo>
                  <a:pt x="19017" y="7268"/>
                  <a:pt x="19025" y="7268"/>
                  <a:pt x="19050" y="7268"/>
                </a:cubicBezTo>
                <a:cubicBezTo>
                  <a:pt x="19050" y="7214"/>
                  <a:pt x="19039" y="7183"/>
                  <a:pt x="18976" y="7169"/>
                </a:cubicBezTo>
                <a:cubicBezTo>
                  <a:pt x="18899" y="7151"/>
                  <a:pt x="18826" y="7221"/>
                  <a:pt x="18777" y="7268"/>
                </a:cubicBezTo>
                <a:cubicBezTo>
                  <a:pt x="18734" y="7308"/>
                  <a:pt x="18689" y="7393"/>
                  <a:pt x="18752" y="7441"/>
                </a:cubicBezTo>
                <a:cubicBezTo>
                  <a:pt x="18818" y="7492"/>
                  <a:pt x="18887" y="7423"/>
                  <a:pt x="18926" y="7367"/>
                </a:cubicBezTo>
                <a:cubicBezTo>
                  <a:pt x="18954" y="7328"/>
                  <a:pt x="18966" y="7303"/>
                  <a:pt x="19000" y="7268"/>
                </a:cubicBezTo>
                <a:cubicBezTo>
                  <a:pt x="19051" y="7332"/>
                  <a:pt x="19066" y="7408"/>
                  <a:pt x="19075" y="7491"/>
                </a:cubicBezTo>
                <a:cubicBezTo>
                  <a:pt x="19085" y="7587"/>
                  <a:pt x="19095" y="7698"/>
                  <a:pt x="19124" y="7789"/>
                </a:cubicBezTo>
                <a:cubicBezTo>
                  <a:pt x="19132" y="7805"/>
                  <a:pt x="19141" y="7822"/>
                  <a:pt x="19149" y="7838"/>
                </a:cubicBezTo>
              </a:path>
              <a:path w="1067" h="670">
                <a:moveTo>
                  <a:pt x="19372" y="7590"/>
                </a:moveTo>
                <a:cubicBezTo>
                  <a:pt x="19381" y="7554"/>
                  <a:pt x="19399" y="7501"/>
                  <a:pt x="19422" y="7466"/>
                </a:cubicBezTo>
                <a:cubicBezTo>
                  <a:pt x="19461" y="7407"/>
                  <a:pt x="19519" y="7310"/>
                  <a:pt x="19596" y="7293"/>
                </a:cubicBezTo>
                <a:cubicBezTo>
                  <a:pt x="19736" y="7263"/>
                  <a:pt x="19778" y="7404"/>
                  <a:pt x="19794" y="7516"/>
                </a:cubicBezTo>
                <a:cubicBezTo>
                  <a:pt x="19809" y="7623"/>
                  <a:pt x="19764" y="7779"/>
                  <a:pt x="19645" y="7813"/>
                </a:cubicBezTo>
                <a:cubicBezTo>
                  <a:pt x="19532" y="7846"/>
                  <a:pt x="19412" y="7770"/>
                  <a:pt x="19372" y="7665"/>
                </a:cubicBezTo>
                <a:cubicBezTo>
                  <a:pt x="19372" y="7648"/>
                  <a:pt x="19372" y="7632"/>
                  <a:pt x="19372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94160" y="2259000"/>
            <a:ext cx="88920" cy="2590920"/>
          </a:xfrm>
          <a:custGeom>
            <a:avLst/>
            <a:gdLst/>
            <a:ahLst/>
            <a:rect l="l" t="t" r="r" b="b"/>
            <a:pathLst>
              <a:path w="249" h="7194">
                <a:moveTo>
                  <a:pt x="12254" y="6300"/>
                </a:moveTo>
                <a:cubicBezTo>
                  <a:pt x="12251" y="6341"/>
                  <a:pt x="12259" y="6334"/>
                  <a:pt x="12254" y="6375"/>
                </a:cubicBezTo>
                <a:cubicBezTo>
                  <a:pt x="12238" y="6498"/>
                  <a:pt x="12213" y="6623"/>
                  <a:pt x="12204" y="6747"/>
                </a:cubicBezTo>
                <a:cubicBezTo>
                  <a:pt x="12150" y="7454"/>
                  <a:pt x="12234" y="8175"/>
                  <a:pt x="12254" y="8880"/>
                </a:cubicBezTo>
                <a:cubicBezTo>
                  <a:pt x="12266" y="9294"/>
                  <a:pt x="12288" y="9706"/>
                  <a:pt x="12303" y="10120"/>
                </a:cubicBezTo>
                <a:cubicBezTo>
                  <a:pt x="12318" y="10526"/>
                  <a:pt x="12328" y="10930"/>
                  <a:pt x="12328" y="11336"/>
                </a:cubicBezTo>
                <a:cubicBezTo>
                  <a:pt x="12328" y="11709"/>
                  <a:pt x="12318" y="12080"/>
                  <a:pt x="12353" y="12452"/>
                </a:cubicBezTo>
                <a:cubicBezTo>
                  <a:pt x="12377" y="12708"/>
                  <a:pt x="12407" y="12965"/>
                  <a:pt x="12427" y="13221"/>
                </a:cubicBezTo>
                <a:cubicBezTo>
                  <a:pt x="12434" y="13310"/>
                  <a:pt x="12439" y="13383"/>
                  <a:pt x="12452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6836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1824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068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3692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9432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056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32200" y="46260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3146" y="12923"/>
                </a:moveTo>
                <a:cubicBezTo>
                  <a:pt x="13154" y="12923"/>
                  <a:pt x="13163" y="12923"/>
                  <a:pt x="13171" y="12923"/>
                </a:cubicBezTo>
                <a:cubicBezTo>
                  <a:pt x="13171" y="12881"/>
                  <a:pt x="13161" y="12885"/>
                  <a:pt x="13196" y="12874"/>
                </a:cubicBezTo>
                <a:cubicBezTo>
                  <a:pt x="13196" y="12849"/>
                  <a:pt x="13196" y="12841"/>
                  <a:pt x="13221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95880" y="35892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055" y="10021"/>
                </a:moveTo>
                <a:cubicBezTo>
                  <a:pt x="12042" y="10039"/>
                  <a:pt x="11974" y="10181"/>
                  <a:pt x="11931" y="10096"/>
                </a:cubicBezTo>
                <a:cubicBezTo>
                  <a:pt x="11919" y="10073"/>
                  <a:pt x="11967" y="10012"/>
                  <a:pt x="11981" y="9996"/>
                </a:cubicBezTo>
                <a:cubicBezTo>
                  <a:pt x="11989" y="9988"/>
                  <a:pt x="11997" y="9979"/>
                  <a:pt x="12005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stcard is enlarged by 5:2. What are the new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068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64000" y="2852640"/>
            <a:ext cx="2468880" cy="3527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18728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242440" y="3810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0 Ex 3.5 q1-4 a, b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1-62 Q1-3 Ex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3 q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ymaths.co.uk/gold/proportion/propor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240" cy="1252440"/>
        </p:xfrm>
        <a:graphic>
          <a:graphicData uri="http://schemas.openxmlformats.org/drawingml/2006/table">
            <a:tbl>
              <a:tblPr/>
              <a:tblGrid>
                <a:gridCol w="1176480"/>
                <a:gridCol w="1174320"/>
                <a:gridCol w="1176840"/>
                <a:gridCol w="1173960"/>
                <a:gridCol w="1176480"/>
                <a:gridCol w="1174680"/>
                <a:gridCol w="117648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50920" y="3213000"/>
            <a:ext cx="431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directly proportional to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y = x multiplied by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13000"/>
            <a:ext cx="431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  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k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example: 4 = 2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= 2             So 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0120" y="3394080"/>
            <a:ext cx="21420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4486" y="9451"/>
                </a:moveTo>
                <a:cubicBezTo>
                  <a:pt x="14448" y="9438"/>
                  <a:pt x="14465" y="9426"/>
                  <a:pt x="14412" y="9426"/>
                </a:cubicBezTo>
                <a:cubicBezTo>
                  <a:pt x="14355" y="9426"/>
                  <a:pt x="14337" y="9438"/>
                  <a:pt x="14312" y="9451"/>
                </a:cubicBezTo>
                <a:cubicBezTo>
                  <a:pt x="14286" y="9464"/>
                  <a:pt x="14267" y="9465"/>
                  <a:pt x="14263" y="9500"/>
                </a:cubicBezTo>
                <a:cubicBezTo>
                  <a:pt x="14257" y="9552"/>
                  <a:pt x="14243" y="9537"/>
                  <a:pt x="14238" y="9575"/>
                </a:cubicBezTo>
                <a:cubicBezTo>
                  <a:pt x="14232" y="9622"/>
                  <a:pt x="14223" y="9629"/>
                  <a:pt x="14213" y="9649"/>
                </a:cubicBezTo>
                <a:cubicBezTo>
                  <a:pt x="14201" y="9674"/>
                  <a:pt x="14190" y="9705"/>
                  <a:pt x="14188" y="9723"/>
                </a:cubicBezTo>
                <a:cubicBezTo>
                  <a:pt x="14183" y="9762"/>
                  <a:pt x="14150" y="9751"/>
                  <a:pt x="14139" y="9773"/>
                </a:cubicBezTo>
                <a:cubicBezTo>
                  <a:pt x="14128" y="9796"/>
                  <a:pt x="14090" y="9820"/>
                  <a:pt x="14064" y="9823"/>
                </a:cubicBezTo>
                <a:cubicBezTo>
                  <a:pt x="14013" y="9829"/>
                  <a:pt x="14009" y="9808"/>
                  <a:pt x="13990" y="9798"/>
                </a:cubicBezTo>
                <a:cubicBezTo>
                  <a:pt x="13945" y="9775"/>
                  <a:pt x="13940" y="9818"/>
                  <a:pt x="13940" y="9748"/>
                </a:cubicBezTo>
                <a:cubicBezTo>
                  <a:pt x="13940" y="9708"/>
                  <a:pt x="13915" y="9729"/>
                  <a:pt x="13915" y="9674"/>
                </a:cubicBezTo>
                <a:cubicBezTo>
                  <a:pt x="13915" y="9628"/>
                  <a:pt x="13935" y="9615"/>
                  <a:pt x="13940" y="9575"/>
                </a:cubicBezTo>
                <a:cubicBezTo>
                  <a:pt x="13945" y="9534"/>
                  <a:pt x="13979" y="9548"/>
                  <a:pt x="13990" y="9525"/>
                </a:cubicBezTo>
                <a:cubicBezTo>
                  <a:pt x="14015" y="9475"/>
                  <a:pt x="14018" y="9510"/>
                  <a:pt x="14064" y="9525"/>
                </a:cubicBezTo>
                <a:cubicBezTo>
                  <a:pt x="14106" y="9539"/>
                  <a:pt x="14110" y="9528"/>
                  <a:pt x="14139" y="9550"/>
                </a:cubicBezTo>
                <a:cubicBezTo>
                  <a:pt x="14160" y="9566"/>
                  <a:pt x="14208" y="9590"/>
                  <a:pt x="14213" y="9599"/>
                </a:cubicBezTo>
                <a:cubicBezTo>
                  <a:pt x="14225" y="9624"/>
                  <a:pt x="14255" y="9634"/>
                  <a:pt x="14263" y="9649"/>
                </a:cubicBezTo>
                <a:cubicBezTo>
                  <a:pt x="14275" y="9672"/>
                  <a:pt x="14265" y="9732"/>
                  <a:pt x="14288" y="9748"/>
                </a:cubicBezTo>
                <a:cubicBezTo>
                  <a:pt x="14335" y="9780"/>
                  <a:pt x="14447" y="9730"/>
                  <a:pt x="14461" y="9723"/>
                </a:cubicBezTo>
                <a:cubicBezTo>
                  <a:pt x="14486" y="9723"/>
                  <a:pt x="14494" y="9723"/>
                  <a:pt x="14511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284640"/>
            <a:ext cx="433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directly proportional to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8. Find x when y =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0880" y="3081240"/>
            <a:ext cx="250920" cy="357120"/>
          </a:xfrm>
          <a:custGeom>
            <a:avLst/>
            <a:gdLst/>
            <a:ahLst/>
            <a:rect l="l" t="t" r="r" b="b"/>
            <a:pathLst>
              <a:path w="696" h="993">
                <a:moveTo>
                  <a:pt x="5060" y="8706"/>
                </a:moveTo>
                <a:cubicBezTo>
                  <a:pt x="5060" y="8674"/>
                  <a:pt x="5060" y="8490"/>
                  <a:pt x="5060" y="8607"/>
                </a:cubicBezTo>
                <a:cubicBezTo>
                  <a:pt x="5060" y="8719"/>
                  <a:pt x="5070" y="8779"/>
                  <a:pt x="5110" y="8880"/>
                </a:cubicBezTo>
                <a:cubicBezTo>
                  <a:pt x="5144" y="8966"/>
                  <a:pt x="5158" y="8981"/>
                  <a:pt x="5234" y="9029"/>
                </a:cubicBezTo>
                <a:cubicBezTo>
                  <a:pt x="5322" y="8953"/>
                  <a:pt x="5328" y="8849"/>
                  <a:pt x="5358" y="8731"/>
                </a:cubicBezTo>
                <a:cubicBezTo>
                  <a:pt x="5379" y="8647"/>
                  <a:pt x="5381" y="8628"/>
                  <a:pt x="5407" y="8582"/>
                </a:cubicBezTo>
                <a:cubicBezTo>
                  <a:pt x="5505" y="8644"/>
                  <a:pt x="5542" y="8710"/>
                  <a:pt x="5606" y="8830"/>
                </a:cubicBezTo>
                <a:cubicBezTo>
                  <a:pt x="5693" y="8995"/>
                  <a:pt x="5777" y="9184"/>
                  <a:pt x="5755" y="9376"/>
                </a:cubicBezTo>
                <a:cubicBezTo>
                  <a:pt x="5740" y="9509"/>
                  <a:pt x="5587" y="9544"/>
                  <a:pt x="5482" y="9550"/>
                </a:cubicBezTo>
                <a:cubicBezTo>
                  <a:pt x="5391" y="9555"/>
                  <a:pt x="5233" y="9574"/>
                  <a:pt x="5159" y="9500"/>
                </a:cubicBezTo>
                <a:cubicBezTo>
                  <a:pt x="5151" y="9484"/>
                  <a:pt x="5143" y="9467"/>
                  <a:pt x="513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3000240"/>
            <a:ext cx="241560" cy="268560"/>
          </a:xfrm>
          <a:custGeom>
            <a:avLst/>
            <a:gdLst/>
            <a:ahLst/>
            <a:rect l="l" t="t" r="r" b="b"/>
            <a:pathLst>
              <a:path w="671" h="746">
                <a:moveTo>
                  <a:pt x="6796" y="8483"/>
                </a:moveTo>
                <a:cubicBezTo>
                  <a:pt x="6839" y="8483"/>
                  <a:pt x="6834" y="8493"/>
                  <a:pt x="6846" y="8458"/>
                </a:cubicBezTo>
                <a:cubicBezTo>
                  <a:pt x="6818" y="8421"/>
                  <a:pt x="6815" y="8410"/>
                  <a:pt x="6796" y="8384"/>
                </a:cubicBezTo>
                <a:cubicBezTo>
                  <a:pt x="6775" y="8355"/>
                  <a:pt x="6706" y="8338"/>
                  <a:pt x="6672" y="8334"/>
                </a:cubicBezTo>
                <a:cubicBezTo>
                  <a:pt x="6630" y="8329"/>
                  <a:pt x="6611" y="8344"/>
                  <a:pt x="6598" y="8384"/>
                </a:cubicBezTo>
                <a:cubicBezTo>
                  <a:pt x="6589" y="8412"/>
                  <a:pt x="6564" y="8482"/>
                  <a:pt x="6573" y="8508"/>
                </a:cubicBezTo>
                <a:cubicBezTo>
                  <a:pt x="6593" y="8567"/>
                  <a:pt x="6635" y="8636"/>
                  <a:pt x="6648" y="8706"/>
                </a:cubicBezTo>
                <a:cubicBezTo>
                  <a:pt x="6661" y="8774"/>
                  <a:pt x="6672" y="8833"/>
                  <a:pt x="6672" y="8905"/>
                </a:cubicBezTo>
                <a:cubicBezTo>
                  <a:pt x="6672" y="8950"/>
                  <a:pt x="6662" y="9027"/>
                  <a:pt x="6623" y="9054"/>
                </a:cubicBezTo>
                <a:cubicBezTo>
                  <a:pt x="6587" y="9079"/>
                  <a:pt x="6518" y="9094"/>
                  <a:pt x="6474" y="9079"/>
                </a:cubicBezTo>
                <a:cubicBezTo>
                  <a:pt x="6409" y="9057"/>
                  <a:pt x="6385" y="9037"/>
                  <a:pt x="6350" y="8979"/>
                </a:cubicBezTo>
                <a:cubicBezTo>
                  <a:pt x="6307" y="8909"/>
                  <a:pt x="6300" y="8861"/>
                  <a:pt x="6300" y="8781"/>
                </a:cubicBezTo>
                <a:cubicBezTo>
                  <a:pt x="6300" y="8712"/>
                  <a:pt x="6287" y="8643"/>
                  <a:pt x="6325" y="8582"/>
                </a:cubicBezTo>
                <a:cubicBezTo>
                  <a:pt x="6347" y="8547"/>
                  <a:pt x="6354" y="8513"/>
                  <a:pt x="6400" y="8508"/>
                </a:cubicBezTo>
                <a:cubicBezTo>
                  <a:pt x="6444" y="8503"/>
                  <a:pt x="6467" y="8505"/>
                  <a:pt x="6499" y="8533"/>
                </a:cubicBezTo>
                <a:cubicBezTo>
                  <a:pt x="6536" y="8566"/>
                  <a:pt x="6547" y="8655"/>
                  <a:pt x="6573" y="8706"/>
                </a:cubicBezTo>
                <a:cubicBezTo>
                  <a:pt x="6608" y="8775"/>
                  <a:pt x="6634" y="8856"/>
                  <a:pt x="6697" y="8905"/>
                </a:cubicBezTo>
                <a:cubicBezTo>
                  <a:pt x="6740" y="8938"/>
                  <a:pt x="6844" y="8948"/>
                  <a:pt x="6896" y="8930"/>
                </a:cubicBezTo>
                <a:cubicBezTo>
                  <a:pt x="6939" y="8908"/>
                  <a:pt x="6951" y="8904"/>
                  <a:pt x="6970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8760" y="2982960"/>
            <a:ext cx="295200" cy="2142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7714" y="8582"/>
                </a:moveTo>
                <a:cubicBezTo>
                  <a:pt x="7706" y="8582"/>
                  <a:pt x="7697" y="8582"/>
                  <a:pt x="7689" y="8582"/>
                </a:cubicBezTo>
                <a:cubicBezTo>
                  <a:pt x="7689" y="8522"/>
                  <a:pt x="7699" y="8535"/>
                  <a:pt x="7739" y="8508"/>
                </a:cubicBezTo>
                <a:cubicBezTo>
                  <a:pt x="7772" y="8486"/>
                  <a:pt x="7869" y="8458"/>
                  <a:pt x="7913" y="8483"/>
                </a:cubicBezTo>
                <a:cubicBezTo>
                  <a:pt x="7999" y="8531"/>
                  <a:pt x="8044" y="8609"/>
                  <a:pt x="8062" y="8706"/>
                </a:cubicBezTo>
                <a:cubicBezTo>
                  <a:pt x="8076" y="8781"/>
                  <a:pt x="8075" y="8859"/>
                  <a:pt x="7987" y="8880"/>
                </a:cubicBezTo>
                <a:cubicBezTo>
                  <a:pt x="7902" y="8900"/>
                  <a:pt x="7837" y="8866"/>
                  <a:pt x="7764" y="8830"/>
                </a:cubicBezTo>
                <a:cubicBezTo>
                  <a:pt x="7747" y="8822"/>
                  <a:pt x="7731" y="8814"/>
                  <a:pt x="7714" y="8806"/>
                </a:cubicBezTo>
              </a:path>
              <a:path w="820" h="596">
                <a:moveTo>
                  <a:pt x="8260" y="8384"/>
                </a:moveTo>
                <a:cubicBezTo>
                  <a:pt x="8315" y="8329"/>
                  <a:pt x="8340" y="8331"/>
                  <a:pt x="8334" y="8285"/>
                </a:cubicBezTo>
                <a:cubicBezTo>
                  <a:pt x="8308" y="8338"/>
                  <a:pt x="8242" y="8388"/>
                  <a:pt x="8210" y="8458"/>
                </a:cubicBezTo>
                <a:cubicBezTo>
                  <a:pt x="8175" y="8535"/>
                  <a:pt x="8169" y="8665"/>
                  <a:pt x="8235" y="8731"/>
                </a:cubicBezTo>
                <a:cubicBezTo>
                  <a:pt x="8293" y="8789"/>
                  <a:pt x="8404" y="8746"/>
                  <a:pt x="8458" y="8706"/>
                </a:cubicBezTo>
                <a:cubicBezTo>
                  <a:pt x="8475" y="8690"/>
                  <a:pt x="8491" y="8673"/>
                  <a:pt x="850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9960" y="3670200"/>
            <a:ext cx="268200" cy="339840"/>
          </a:xfrm>
          <a:custGeom>
            <a:avLst/>
            <a:gdLst/>
            <a:ahLst/>
            <a:rect l="l" t="t" r="r" b="b"/>
            <a:pathLst>
              <a:path w="745" h="943">
                <a:moveTo>
                  <a:pt x="5135" y="10244"/>
                </a:moveTo>
                <a:cubicBezTo>
                  <a:pt x="5126" y="10207"/>
                  <a:pt x="5126" y="10176"/>
                  <a:pt x="5110" y="10244"/>
                </a:cubicBezTo>
                <a:cubicBezTo>
                  <a:pt x="5091" y="10327"/>
                  <a:pt x="5121" y="10443"/>
                  <a:pt x="5159" y="10517"/>
                </a:cubicBezTo>
                <a:cubicBezTo>
                  <a:pt x="5200" y="10596"/>
                  <a:pt x="5292" y="10674"/>
                  <a:pt x="5358" y="10567"/>
                </a:cubicBezTo>
                <a:cubicBezTo>
                  <a:pt x="5421" y="10465"/>
                  <a:pt x="5378" y="10371"/>
                  <a:pt x="5457" y="10269"/>
                </a:cubicBezTo>
                <a:cubicBezTo>
                  <a:pt x="5601" y="10301"/>
                  <a:pt x="5659" y="10412"/>
                  <a:pt x="5730" y="10542"/>
                </a:cubicBezTo>
                <a:cubicBezTo>
                  <a:pt x="5800" y="10669"/>
                  <a:pt x="5889" y="10868"/>
                  <a:pt x="5829" y="11013"/>
                </a:cubicBezTo>
                <a:cubicBezTo>
                  <a:pt x="5785" y="11120"/>
                  <a:pt x="5636" y="11151"/>
                  <a:pt x="5531" y="11137"/>
                </a:cubicBezTo>
                <a:cubicBezTo>
                  <a:pt x="5420" y="11122"/>
                  <a:pt x="5371" y="11092"/>
                  <a:pt x="5358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41720" y="361620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449" y="10071"/>
                </a:moveTo>
                <a:cubicBezTo>
                  <a:pt x="6449" y="10063"/>
                  <a:pt x="6449" y="10054"/>
                  <a:pt x="6449" y="10046"/>
                </a:cubicBezTo>
                <a:cubicBezTo>
                  <a:pt x="6395" y="10046"/>
                  <a:pt x="6367" y="10059"/>
                  <a:pt x="6325" y="10096"/>
                </a:cubicBezTo>
                <a:cubicBezTo>
                  <a:pt x="6288" y="10128"/>
                  <a:pt x="6271" y="10159"/>
                  <a:pt x="6226" y="10170"/>
                </a:cubicBezTo>
              </a:path>
              <a:path w="274" h="299">
                <a:moveTo>
                  <a:pt x="6424" y="10220"/>
                </a:moveTo>
                <a:cubicBezTo>
                  <a:pt x="6482" y="10239"/>
                  <a:pt x="6507" y="10229"/>
                  <a:pt x="6499" y="10269"/>
                </a:cubicBezTo>
                <a:cubicBezTo>
                  <a:pt x="6475" y="10317"/>
                  <a:pt x="6409" y="10330"/>
                  <a:pt x="6350" y="10344"/>
                </a:cubicBezTo>
                <a:cubicBezTo>
                  <a:pt x="6342" y="10344"/>
                  <a:pt x="6333" y="10344"/>
                  <a:pt x="632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81200" y="3446640"/>
            <a:ext cx="27000" cy="277560"/>
          </a:xfrm>
          <a:custGeom>
            <a:avLst/>
            <a:gdLst/>
            <a:ahLst/>
            <a:rect l="l" t="t" r="r" b="b"/>
            <a:pathLst>
              <a:path w="75" h="770">
                <a:moveTo>
                  <a:pt x="7169" y="9575"/>
                </a:moveTo>
                <a:cubicBezTo>
                  <a:pt x="7169" y="9662"/>
                  <a:pt x="7187" y="9738"/>
                  <a:pt x="7193" y="9823"/>
                </a:cubicBezTo>
                <a:cubicBezTo>
                  <a:pt x="7203" y="9966"/>
                  <a:pt x="7225" y="10104"/>
                  <a:pt x="7243" y="10244"/>
                </a:cubicBezTo>
                <a:cubicBezTo>
                  <a:pt x="7243" y="10294"/>
                  <a:pt x="7243" y="10311"/>
                  <a:pt x="724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97280" y="2938320"/>
            <a:ext cx="204840" cy="731880"/>
          </a:xfrm>
          <a:custGeom>
            <a:avLst/>
            <a:gdLst/>
            <a:ahLst/>
            <a:rect l="l" t="t" r="r" b="b"/>
            <a:pathLst>
              <a:path w="572" h="2035">
                <a:moveTo>
                  <a:pt x="13047" y="8161"/>
                </a:moveTo>
                <a:cubicBezTo>
                  <a:pt x="13100" y="8179"/>
                  <a:pt x="13057" y="8230"/>
                  <a:pt x="13072" y="8285"/>
                </a:cubicBezTo>
                <a:cubicBezTo>
                  <a:pt x="13087" y="8339"/>
                  <a:pt x="13111" y="8401"/>
                  <a:pt x="13171" y="8409"/>
                </a:cubicBezTo>
                <a:cubicBezTo>
                  <a:pt x="13250" y="8420"/>
                  <a:pt x="13265" y="8320"/>
                  <a:pt x="13295" y="8260"/>
                </a:cubicBezTo>
                <a:cubicBezTo>
                  <a:pt x="13320" y="8210"/>
                  <a:pt x="13328" y="8194"/>
                  <a:pt x="13370" y="8186"/>
                </a:cubicBezTo>
                <a:cubicBezTo>
                  <a:pt x="13456" y="8288"/>
                  <a:pt x="13490" y="8378"/>
                  <a:pt x="13519" y="8508"/>
                </a:cubicBezTo>
                <a:cubicBezTo>
                  <a:pt x="13543" y="8616"/>
                  <a:pt x="13586" y="8774"/>
                  <a:pt x="13494" y="8855"/>
                </a:cubicBezTo>
                <a:cubicBezTo>
                  <a:pt x="13423" y="8917"/>
                  <a:pt x="13287" y="8839"/>
                  <a:pt x="13221" y="8806"/>
                </a:cubicBezTo>
                <a:cubicBezTo>
                  <a:pt x="13155" y="8773"/>
                  <a:pt x="13101" y="8729"/>
                  <a:pt x="13047" y="8682"/>
                </a:cubicBezTo>
              </a:path>
              <a:path w="572" h="2035">
                <a:moveTo>
                  <a:pt x="13146" y="9451"/>
                </a:moveTo>
                <a:cubicBezTo>
                  <a:pt x="13157" y="9526"/>
                  <a:pt x="13169" y="9563"/>
                  <a:pt x="13221" y="9624"/>
                </a:cubicBezTo>
                <a:cubicBezTo>
                  <a:pt x="13246" y="9649"/>
                  <a:pt x="13254" y="9657"/>
                  <a:pt x="13271" y="9674"/>
                </a:cubicBezTo>
                <a:cubicBezTo>
                  <a:pt x="13339" y="9635"/>
                  <a:pt x="13350" y="9611"/>
                  <a:pt x="13395" y="9550"/>
                </a:cubicBezTo>
                <a:cubicBezTo>
                  <a:pt x="13403" y="9542"/>
                  <a:pt x="13411" y="9533"/>
                  <a:pt x="13419" y="9525"/>
                </a:cubicBezTo>
                <a:cubicBezTo>
                  <a:pt x="13495" y="9544"/>
                  <a:pt x="13542" y="9652"/>
                  <a:pt x="13568" y="9723"/>
                </a:cubicBezTo>
                <a:cubicBezTo>
                  <a:pt x="13612" y="9842"/>
                  <a:pt x="13640" y="9979"/>
                  <a:pt x="13593" y="10096"/>
                </a:cubicBezTo>
                <a:cubicBezTo>
                  <a:pt x="13559" y="10179"/>
                  <a:pt x="13504" y="10191"/>
                  <a:pt x="13419" y="10195"/>
                </a:cubicBezTo>
                <a:cubicBezTo>
                  <a:pt x="13320" y="10199"/>
                  <a:pt x="13235" y="10160"/>
                  <a:pt x="13146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99040" y="2874960"/>
            <a:ext cx="223920" cy="546120"/>
          </a:xfrm>
          <a:custGeom>
            <a:avLst/>
            <a:gdLst/>
            <a:ahLst/>
            <a:rect l="l" t="t" r="r" b="b"/>
            <a:pathLst>
              <a:path w="622" h="1514">
                <a:moveTo>
                  <a:pt x="14610" y="8037"/>
                </a:moveTo>
                <a:cubicBezTo>
                  <a:pt x="14653" y="8037"/>
                  <a:pt x="14648" y="8047"/>
                  <a:pt x="14660" y="8012"/>
                </a:cubicBezTo>
                <a:cubicBezTo>
                  <a:pt x="14621" y="8002"/>
                  <a:pt x="14605" y="7987"/>
                  <a:pt x="14560" y="7987"/>
                </a:cubicBezTo>
                <a:cubicBezTo>
                  <a:pt x="14495" y="7987"/>
                  <a:pt x="14487" y="7995"/>
                  <a:pt x="14436" y="8012"/>
                </a:cubicBezTo>
                <a:cubicBezTo>
                  <a:pt x="14404" y="8023"/>
                  <a:pt x="14398" y="8067"/>
                  <a:pt x="14412" y="8111"/>
                </a:cubicBezTo>
                <a:cubicBezTo>
                  <a:pt x="14437" y="8188"/>
                  <a:pt x="14436" y="8251"/>
                  <a:pt x="14436" y="8334"/>
                </a:cubicBezTo>
                <a:cubicBezTo>
                  <a:pt x="14436" y="8418"/>
                  <a:pt x="14445" y="8468"/>
                  <a:pt x="14387" y="8533"/>
                </a:cubicBezTo>
                <a:cubicBezTo>
                  <a:pt x="14334" y="8592"/>
                  <a:pt x="14286" y="8549"/>
                  <a:pt x="14238" y="8508"/>
                </a:cubicBezTo>
                <a:cubicBezTo>
                  <a:pt x="14186" y="8464"/>
                  <a:pt x="14167" y="8398"/>
                  <a:pt x="14163" y="8334"/>
                </a:cubicBezTo>
                <a:cubicBezTo>
                  <a:pt x="14158" y="8250"/>
                  <a:pt x="14210" y="8194"/>
                  <a:pt x="14263" y="8136"/>
                </a:cubicBezTo>
                <a:cubicBezTo>
                  <a:pt x="14293" y="8106"/>
                  <a:pt x="14307" y="8095"/>
                  <a:pt x="14337" y="8086"/>
                </a:cubicBezTo>
                <a:cubicBezTo>
                  <a:pt x="14381" y="8108"/>
                  <a:pt x="14431" y="8159"/>
                  <a:pt x="14461" y="8210"/>
                </a:cubicBezTo>
                <a:cubicBezTo>
                  <a:pt x="14501" y="8278"/>
                  <a:pt x="14535" y="8349"/>
                  <a:pt x="14585" y="8409"/>
                </a:cubicBezTo>
                <a:cubicBezTo>
                  <a:pt x="14647" y="8482"/>
                  <a:pt x="14679" y="8492"/>
                  <a:pt x="14759" y="8458"/>
                </a:cubicBezTo>
              </a:path>
              <a:path w="622" h="1514">
                <a:moveTo>
                  <a:pt x="14635" y="9351"/>
                </a:moveTo>
                <a:cubicBezTo>
                  <a:pt x="14643" y="9343"/>
                  <a:pt x="14652" y="9335"/>
                  <a:pt x="14660" y="9327"/>
                </a:cubicBezTo>
                <a:cubicBezTo>
                  <a:pt x="14623" y="9327"/>
                  <a:pt x="14565" y="9336"/>
                  <a:pt x="14536" y="9351"/>
                </a:cubicBezTo>
                <a:cubicBezTo>
                  <a:pt x="14499" y="9369"/>
                  <a:pt x="14442" y="9406"/>
                  <a:pt x="14412" y="9426"/>
                </a:cubicBezTo>
                <a:cubicBezTo>
                  <a:pt x="14404" y="9434"/>
                  <a:pt x="14395" y="9443"/>
                  <a:pt x="14387" y="9451"/>
                </a:cubicBezTo>
              </a:path>
              <a:path w="622" h="1514">
                <a:moveTo>
                  <a:pt x="14734" y="9451"/>
                </a:moveTo>
                <a:cubicBezTo>
                  <a:pt x="14775" y="9451"/>
                  <a:pt x="14792" y="9442"/>
                  <a:pt x="14784" y="9475"/>
                </a:cubicBezTo>
                <a:cubicBezTo>
                  <a:pt x="14721" y="9475"/>
                  <a:pt x="14694" y="9497"/>
                  <a:pt x="14635" y="9500"/>
                </a:cubicBezTo>
                <a:cubicBezTo>
                  <a:pt x="14593" y="9500"/>
                  <a:pt x="14585" y="9500"/>
                  <a:pt x="14560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18080" y="2928960"/>
            <a:ext cx="635040" cy="50940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15354" y="8285"/>
                </a:moveTo>
                <a:cubicBezTo>
                  <a:pt x="15317" y="8266"/>
                  <a:pt x="15364" y="8238"/>
                  <a:pt x="15404" y="8235"/>
                </a:cubicBezTo>
                <a:cubicBezTo>
                  <a:pt x="15460" y="8231"/>
                  <a:pt x="15545" y="8225"/>
                  <a:pt x="15577" y="8285"/>
                </a:cubicBezTo>
                <a:cubicBezTo>
                  <a:pt x="15607" y="8342"/>
                  <a:pt x="15660" y="8449"/>
                  <a:pt x="15602" y="8508"/>
                </a:cubicBezTo>
                <a:cubicBezTo>
                  <a:pt x="15550" y="8561"/>
                  <a:pt x="15458" y="8532"/>
                  <a:pt x="15404" y="8508"/>
                </a:cubicBezTo>
                <a:cubicBezTo>
                  <a:pt x="15354" y="8483"/>
                  <a:pt x="15338" y="8475"/>
                  <a:pt x="15329" y="8434"/>
                </a:cubicBezTo>
              </a:path>
              <a:path w="1762" h="1415">
                <a:moveTo>
                  <a:pt x="15776" y="8161"/>
                </a:moveTo>
                <a:cubicBezTo>
                  <a:pt x="15832" y="8105"/>
                  <a:pt x="15740" y="8254"/>
                  <a:pt x="15726" y="8285"/>
                </a:cubicBezTo>
                <a:cubicBezTo>
                  <a:pt x="15700" y="8345"/>
                  <a:pt x="15681" y="8460"/>
                  <a:pt x="15751" y="8508"/>
                </a:cubicBezTo>
                <a:cubicBezTo>
                  <a:pt x="15844" y="8572"/>
                  <a:pt x="15958" y="8514"/>
                  <a:pt x="16049" y="8483"/>
                </a:cubicBezTo>
              </a:path>
              <a:path w="1762" h="1415">
                <a:moveTo>
                  <a:pt x="15677" y="8930"/>
                </a:moveTo>
                <a:cubicBezTo>
                  <a:pt x="15677" y="8862"/>
                  <a:pt x="15677" y="9015"/>
                  <a:pt x="15677" y="9029"/>
                </a:cubicBezTo>
                <a:cubicBezTo>
                  <a:pt x="15677" y="9203"/>
                  <a:pt x="15677" y="9376"/>
                  <a:pt x="15677" y="9550"/>
                </a:cubicBezTo>
              </a:path>
              <a:path w="1762" h="1415">
                <a:moveTo>
                  <a:pt x="15900" y="9227"/>
                </a:moveTo>
                <a:cubicBezTo>
                  <a:pt x="15920" y="9187"/>
                  <a:pt x="15939" y="9171"/>
                  <a:pt x="15900" y="9178"/>
                </a:cubicBezTo>
                <a:cubicBezTo>
                  <a:pt x="15872" y="9213"/>
                  <a:pt x="15792" y="9289"/>
                  <a:pt x="15776" y="9327"/>
                </a:cubicBezTo>
                <a:cubicBezTo>
                  <a:pt x="15761" y="9364"/>
                  <a:pt x="15765" y="9477"/>
                  <a:pt x="15801" y="9500"/>
                </a:cubicBezTo>
                <a:cubicBezTo>
                  <a:pt x="15835" y="9522"/>
                  <a:pt x="15920" y="9494"/>
                  <a:pt x="15949" y="9475"/>
                </a:cubicBezTo>
                <a:cubicBezTo>
                  <a:pt x="15979" y="9446"/>
                  <a:pt x="15994" y="9435"/>
                  <a:pt x="16024" y="9426"/>
                </a:cubicBezTo>
              </a:path>
              <a:path w="1762" h="1415">
                <a:moveTo>
                  <a:pt x="16495" y="9277"/>
                </a:moveTo>
                <a:cubicBezTo>
                  <a:pt x="16441" y="9268"/>
                  <a:pt x="16435" y="9270"/>
                  <a:pt x="16421" y="9227"/>
                </a:cubicBezTo>
                <a:cubicBezTo>
                  <a:pt x="16470" y="9179"/>
                  <a:pt x="16475" y="9178"/>
                  <a:pt x="16545" y="9178"/>
                </a:cubicBezTo>
                <a:cubicBezTo>
                  <a:pt x="16627" y="9178"/>
                  <a:pt x="16641" y="9233"/>
                  <a:pt x="16644" y="9302"/>
                </a:cubicBezTo>
                <a:cubicBezTo>
                  <a:pt x="16647" y="9375"/>
                  <a:pt x="16664" y="9463"/>
                  <a:pt x="16570" y="9475"/>
                </a:cubicBezTo>
                <a:cubicBezTo>
                  <a:pt x="16507" y="9483"/>
                  <a:pt x="16446" y="9480"/>
                  <a:pt x="16396" y="9451"/>
                </a:cubicBezTo>
              </a:path>
              <a:path w="1762" h="1415">
                <a:moveTo>
                  <a:pt x="16917" y="9128"/>
                </a:moveTo>
                <a:cubicBezTo>
                  <a:pt x="16937" y="9088"/>
                  <a:pt x="16946" y="9082"/>
                  <a:pt x="16942" y="9054"/>
                </a:cubicBezTo>
                <a:cubicBezTo>
                  <a:pt x="16903" y="9081"/>
                  <a:pt x="16813" y="9154"/>
                  <a:pt x="16793" y="9203"/>
                </a:cubicBezTo>
                <a:cubicBezTo>
                  <a:pt x="16765" y="9272"/>
                  <a:pt x="16788" y="9382"/>
                  <a:pt x="16842" y="9426"/>
                </a:cubicBezTo>
                <a:cubicBezTo>
                  <a:pt x="16898" y="9471"/>
                  <a:pt x="16979" y="9496"/>
                  <a:pt x="17041" y="9451"/>
                </a:cubicBezTo>
                <a:cubicBezTo>
                  <a:pt x="17057" y="9434"/>
                  <a:pt x="17074" y="9418"/>
                  <a:pt x="17090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95920" y="3768840"/>
            <a:ext cx="115920" cy="22356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3519" y="10616"/>
                </a:moveTo>
                <a:cubicBezTo>
                  <a:pt x="13549" y="10586"/>
                  <a:pt x="13589" y="10572"/>
                  <a:pt x="13593" y="10542"/>
                </a:cubicBezTo>
                <a:cubicBezTo>
                  <a:pt x="13597" y="10512"/>
                  <a:pt x="13575" y="10496"/>
                  <a:pt x="13568" y="10468"/>
                </a:cubicBezTo>
                <a:cubicBezTo>
                  <a:pt x="13511" y="10468"/>
                  <a:pt x="13491" y="10489"/>
                  <a:pt x="13444" y="10517"/>
                </a:cubicBezTo>
                <a:cubicBezTo>
                  <a:pt x="13393" y="10548"/>
                  <a:pt x="13343" y="10583"/>
                  <a:pt x="13320" y="10641"/>
                </a:cubicBezTo>
                <a:cubicBezTo>
                  <a:pt x="13300" y="10690"/>
                  <a:pt x="13329" y="10739"/>
                  <a:pt x="13370" y="10765"/>
                </a:cubicBezTo>
                <a:cubicBezTo>
                  <a:pt x="13431" y="10804"/>
                  <a:pt x="13484" y="10850"/>
                  <a:pt x="13543" y="10889"/>
                </a:cubicBezTo>
                <a:cubicBezTo>
                  <a:pt x="13590" y="10920"/>
                  <a:pt x="13636" y="10955"/>
                  <a:pt x="13643" y="11013"/>
                </a:cubicBezTo>
                <a:cubicBezTo>
                  <a:pt x="13649" y="11063"/>
                  <a:pt x="13588" y="11099"/>
                  <a:pt x="13543" y="11088"/>
                </a:cubicBezTo>
                <a:cubicBezTo>
                  <a:pt x="13494" y="11076"/>
                  <a:pt x="13423" y="11040"/>
                  <a:pt x="13419" y="10988"/>
                </a:cubicBezTo>
                <a:cubicBezTo>
                  <a:pt x="13412" y="10896"/>
                  <a:pt x="13484" y="10842"/>
                  <a:pt x="13519" y="10765"/>
                </a:cubicBezTo>
                <a:cubicBezTo>
                  <a:pt x="13556" y="10683"/>
                  <a:pt x="13582" y="10635"/>
                  <a:pt x="13643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49880" y="377676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4833" y="10517"/>
                </a:moveTo>
                <a:cubicBezTo>
                  <a:pt x="14833" y="10509"/>
                  <a:pt x="14833" y="10500"/>
                  <a:pt x="14833" y="10492"/>
                </a:cubicBezTo>
                <a:cubicBezTo>
                  <a:pt x="14821" y="10540"/>
                  <a:pt x="14787" y="10554"/>
                  <a:pt x="14734" y="10567"/>
                </a:cubicBezTo>
                <a:cubicBezTo>
                  <a:pt x="14691" y="10578"/>
                  <a:pt x="14631" y="10567"/>
                  <a:pt x="14585" y="10567"/>
                </a:cubicBezTo>
              </a:path>
              <a:path w="249" h="175">
                <a:moveTo>
                  <a:pt x="14784" y="10616"/>
                </a:moveTo>
                <a:cubicBezTo>
                  <a:pt x="14784" y="10624"/>
                  <a:pt x="14784" y="10633"/>
                  <a:pt x="14784" y="10641"/>
                </a:cubicBezTo>
                <a:cubicBezTo>
                  <a:pt x="14738" y="10656"/>
                  <a:pt x="14760" y="10666"/>
                  <a:pt x="14684" y="10666"/>
                </a:cubicBezTo>
                <a:cubicBezTo>
                  <a:pt x="14668" y="10666"/>
                  <a:pt x="14651" y="10666"/>
                  <a:pt x="14635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9080" y="3633840"/>
            <a:ext cx="438120" cy="241200"/>
          </a:xfrm>
          <a:custGeom>
            <a:avLst/>
            <a:gdLst/>
            <a:ahLst/>
            <a:rect l="l" t="t" r="r" b="b"/>
            <a:pathLst>
              <a:path w="1216" h="670">
                <a:moveTo>
                  <a:pt x="15577" y="10443"/>
                </a:moveTo>
                <a:cubicBezTo>
                  <a:pt x="15556" y="10436"/>
                  <a:pt x="15534" y="10403"/>
                  <a:pt x="15553" y="10368"/>
                </a:cubicBezTo>
                <a:cubicBezTo>
                  <a:pt x="15565" y="10345"/>
                  <a:pt x="15636" y="10258"/>
                  <a:pt x="15652" y="10244"/>
                </a:cubicBezTo>
                <a:cubicBezTo>
                  <a:pt x="15705" y="10199"/>
                  <a:pt x="15797" y="10123"/>
                  <a:pt x="15875" y="10145"/>
                </a:cubicBezTo>
                <a:cubicBezTo>
                  <a:pt x="15963" y="10170"/>
                  <a:pt x="15963" y="10266"/>
                  <a:pt x="15949" y="10344"/>
                </a:cubicBezTo>
                <a:cubicBezTo>
                  <a:pt x="15935" y="10423"/>
                  <a:pt x="15898" y="10551"/>
                  <a:pt x="15850" y="10616"/>
                </a:cubicBezTo>
                <a:cubicBezTo>
                  <a:pt x="15798" y="10687"/>
                  <a:pt x="15801" y="10677"/>
                  <a:pt x="15801" y="10765"/>
                </a:cubicBezTo>
                <a:cubicBezTo>
                  <a:pt x="15890" y="10765"/>
                  <a:pt x="15966" y="10754"/>
                  <a:pt x="16049" y="10740"/>
                </a:cubicBezTo>
                <a:cubicBezTo>
                  <a:pt x="16103" y="10731"/>
                  <a:pt x="16166" y="10740"/>
                  <a:pt x="16222" y="10740"/>
                </a:cubicBezTo>
              </a:path>
              <a:path w="1216" h="670">
                <a:moveTo>
                  <a:pt x="16346" y="10145"/>
                </a:moveTo>
                <a:cubicBezTo>
                  <a:pt x="16346" y="10129"/>
                  <a:pt x="16346" y="10112"/>
                  <a:pt x="16346" y="10096"/>
                </a:cubicBezTo>
                <a:cubicBezTo>
                  <a:pt x="16346" y="10175"/>
                  <a:pt x="16363" y="10243"/>
                  <a:pt x="16371" y="10319"/>
                </a:cubicBezTo>
                <a:cubicBezTo>
                  <a:pt x="16385" y="10448"/>
                  <a:pt x="16371" y="10586"/>
                  <a:pt x="16371" y="10716"/>
                </a:cubicBezTo>
              </a:path>
              <a:path w="1216" h="670">
                <a:moveTo>
                  <a:pt x="16545" y="10492"/>
                </a:moveTo>
                <a:cubicBezTo>
                  <a:pt x="16553" y="10476"/>
                  <a:pt x="16562" y="10459"/>
                  <a:pt x="16570" y="10443"/>
                </a:cubicBezTo>
                <a:cubicBezTo>
                  <a:pt x="16530" y="10483"/>
                  <a:pt x="16506" y="10526"/>
                  <a:pt x="16470" y="10567"/>
                </a:cubicBezTo>
                <a:cubicBezTo>
                  <a:pt x="16428" y="10614"/>
                  <a:pt x="16403" y="10642"/>
                  <a:pt x="16446" y="10691"/>
                </a:cubicBezTo>
                <a:cubicBezTo>
                  <a:pt x="16482" y="10733"/>
                  <a:pt x="16541" y="10716"/>
                  <a:pt x="16594" y="10716"/>
                </a:cubicBezTo>
                <a:cubicBezTo>
                  <a:pt x="16652" y="10716"/>
                  <a:pt x="16710" y="10716"/>
                  <a:pt x="1676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0200" y="3990960"/>
            <a:ext cx="1125720" cy="457200"/>
          </a:xfrm>
          <a:custGeom>
            <a:avLst/>
            <a:gdLst/>
            <a:ahLst/>
            <a:rect l="l" t="t" r="r" b="b"/>
            <a:pathLst>
              <a:path w="3127" h="1266">
                <a:moveTo>
                  <a:pt x="15875" y="11088"/>
                </a:moveTo>
                <a:cubicBezTo>
                  <a:pt x="15875" y="11336"/>
                  <a:pt x="15875" y="11584"/>
                  <a:pt x="15875" y="11832"/>
                </a:cubicBezTo>
              </a:path>
              <a:path w="3127" h="1266">
                <a:moveTo>
                  <a:pt x="16073" y="11435"/>
                </a:moveTo>
                <a:cubicBezTo>
                  <a:pt x="16103" y="11422"/>
                  <a:pt x="16183" y="11396"/>
                  <a:pt x="16148" y="11410"/>
                </a:cubicBezTo>
                <a:cubicBezTo>
                  <a:pt x="16096" y="11431"/>
                  <a:pt x="16089" y="11465"/>
                  <a:pt x="16049" y="11509"/>
                </a:cubicBezTo>
                <a:cubicBezTo>
                  <a:pt x="16025" y="11535"/>
                  <a:pt x="15976" y="11591"/>
                  <a:pt x="15999" y="11633"/>
                </a:cubicBezTo>
                <a:cubicBezTo>
                  <a:pt x="16022" y="11673"/>
                  <a:pt x="16085" y="11658"/>
                  <a:pt x="16123" y="11658"/>
                </a:cubicBezTo>
                <a:cubicBezTo>
                  <a:pt x="16173" y="11658"/>
                  <a:pt x="16222" y="11658"/>
                  <a:pt x="16272" y="11658"/>
                </a:cubicBezTo>
              </a:path>
              <a:path w="3127" h="1266">
                <a:moveTo>
                  <a:pt x="14908" y="11435"/>
                </a:moveTo>
                <a:cubicBezTo>
                  <a:pt x="14857" y="11435"/>
                  <a:pt x="14849" y="11446"/>
                  <a:pt x="14808" y="11460"/>
                </a:cubicBezTo>
                <a:cubicBezTo>
                  <a:pt x="14780" y="11460"/>
                  <a:pt x="14770" y="11463"/>
                  <a:pt x="14759" y="11485"/>
                </a:cubicBezTo>
              </a:path>
              <a:path w="3127" h="1266">
                <a:moveTo>
                  <a:pt x="14883" y="11559"/>
                </a:moveTo>
                <a:cubicBezTo>
                  <a:pt x="14891" y="11559"/>
                  <a:pt x="14900" y="11559"/>
                  <a:pt x="14908" y="11559"/>
                </a:cubicBezTo>
                <a:cubicBezTo>
                  <a:pt x="14899" y="11597"/>
                  <a:pt x="14872" y="11621"/>
                  <a:pt x="14833" y="11633"/>
                </a:cubicBezTo>
                <a:cubicBezTo>
                  <a:pt x="14808" y="11633"/>
                  <a:pt x="14800" y="11633"/>
                  <a:pt x="14784" y="11633"/>
                </a:cubicBezTo>
              </a:path>
              <a:path w="3127" h="1266">
                <a:moveTo>
                  <a:pt x="13469" y="11460"/>
                </a:moveTo>
                <a:cubicBezTo>
                  <a:pt x="13477" y="11452"/>
                  <a:pt x="13486" y="11443"/>
                  <a:pt x="13494" y="11435"/>
                </a:cubicBezTo>
                <a:cubicBezTo>
                  <a:pt x="13494" y="11515"/>
                  <a:pt x="13479" y="11585"/>
                  <a:pt x="13469" y="11658"/>
                </a:cubicBezTo>
                <a:cubicBezTo>
                  <a:pt x="13460" y="11727"/>
                  <a:pt x="13452" y="11854"/>
                  <a:pt x="13494" y="11906"/>
                </a:cubicBezTo>
                <a:cubicBezTo>
                  <a:pt x="13529" y="11949"/>
                  <a:pt x="13592" y="11931"/>
                  <a:pt x="13643" y="11931"/>
                </a:cubicBezTo>
                <a:cubicBezTo>
                  <a:pt x="13735" y="11931"/>
                  <a:pt x="13813" y="11930"/>
                  <a:pt x="13891" y="11906"/>
                </a:cubicBezTo>
                <a:cubicBezTo>
                  <a:pt x="13918" y="11898"/>
                  <a:pt x="13962" y="11906"/>
                  <a:pt x="13990" y="11906"/>
                </a:cubicBezTo>
              </a:path>
              <a:path w="3127" h="1266">
                <a:moveTo>
                  <a:pt x="13692" y="11807"/>
                </a:moveTo>
                <a:cubicBezTo>
                  <a:pt x="13692" y="11766"/>
                  <a:pt x="13692" y="11840"/>
                  <a:pt x="13692" y="11881"/>
                </a:cubicBezTo>
                <a:cubicBezTo>
                  <a:pt x="13692" y="11964"/>
                  <a:pt x="13692" y="12046"/>
                  <a:pt x="13692" y="12129"/>
                </a:cubicBezTo>
              </a:path>
              <a:path w="3127" h="1266">
                <a:moveTo>
                  <a:pt x="16570" y="12129"/>
                </a:moveTo>
                <a:cubicBezTo>
                  <a:pt x="16521" y="12100"/>
                  <a:pt x="16527" y="12087"/>
                  <a:pt x="16470" y="12080"/>
                </a:cubicBezTo>
                <a:cubicBezTo>
                  <a:pt x="16328" y="12064"/>
                  <a:pt x="16188" y="12096"/>
                  <a:pt x="16049" y="12105"/>
                </a:cubicBezTo>
                <a:cubicBezTo>
                  <a:pt x="15810" y="12120"/>
                  <a:pt x="15568" y="12145"/>
                  <a:pt x="15329" y="12154"/>
                </a:cubicBezTo>
                <a:cubicBezTo>
                  <a:pt x="15065" y="12164"/>
                  <a:pt x="14800" y="12175"/>
                  <a:pt x="14536" y="12179"/>
                </a:cubicBezTo>
                <a:cubicBezTo>
                  <a:pt x="14346" y="12182"/>
                  <a:pt x="14176" y="12209"/>
                  <a:pt x="13990" y="12229"/>
                </a:cubicBezTo>
                <a:cubicBezTo>
                  <a:pt x="13868" y="12242"/>
                  <a:pt x="13730" y="12256"/>
                  <a:pt x="13618" y="12303"/>
                </a:cubicBezTo>
                <a:cubicBezTo>
                  <a:pt x="13565" y="12325"/>
                  <a:pt x="13518" y="12340"/>
                  <a:pt x="13469" y="12353"/>
                </a:cubicBezTo>
                <a:cubicBezTo>
                  <a:pt x="13461" y="12353"/>
                  <a:pt x="13452" y="12353"/>
                  <a:pt x="1344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7200" y="4687920"/>
            <a:ext cx="196920" cy="330120"/>
          </a:xfrm>
          <a:custGeom>
            <a:avLst/>
            <a:gdLst/>
            <a:ahLst/>
            <a:rect l="l" t="t" r="r" b="b"/>
            <a:pathLst>
              <a:path w="546" h="919">
                <a:moveTo>
                  <a:pt x="13543" y="13047"/>
                </a:moveTo>
                <a:cubicBezTo>
                  <a:pt x="13510" y="12978"/>
                  <a:pt x="13515" y="13152"/>
                  <a:pt x="13519" y="13171"/>
                </a:cubicBezTo>
                <a:cubicBezTo>
                  <a:pt x="13529" y="13223"/>
                  <a:pt x="13573" y="13406"/>
                  <a:pt x="13643" y="13419"/>
                </a:cubicBezTo>
                <a:cubicBezTo>
                  <a:pt x="13692" y="13428"/>
                  <a:pt x="13773" y="13298"/>
                  <a:pt x="13791" y="13271"/>
                </a:cubicBezTo>
                <a:cubicBezTo>
                  <a:pt x="13799" y="13254"/>
                  <a:pt x="13808" y="13238"/>
                  <a:pt x="13816" y="13221"/>
                </a:cubicBezTo>
                <a:cubicBezTo>
                  <a:pt x="13921" y="13300"/>
                  <a:pt x="13997" y="13412"/>
                  <a:pt x="14039" y="13543"/>
                </a:cubicBezTo>
                <a:cubicBezTo>
                  <a:pt x="14060" y="13610"/>
                  <a:pt x="14113" y="13857"/>
                  <a:pt x="14039" y="13915"/>
                </a:cubicBezTo>
                <a:cubicBezTo>
                  <a:pt x="13970" y="13969"/>
                  <a:pt x="13831" y="13932"/>
                  <a:pt x="13767" y="13891"/>
                </a:cubicBezTo>
                <a:cubicBezTo>
                  <a:pt x="13714" y="13857"/>
                  <a:pt x="13677" y="13815"/>
                  <a:pt x="13643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5240" y="466092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660" y="12948"/>
                </a:moveTo>
                <a:cubicBezTo>
                  <a:pt x="14600" y="12948"/>
                  <a:pt x="14561" y="12958"/>
                  <a:pt x="14511" y="12973"/>
                </a:cubicBezTo>
                <a:cubicBezTo>
                  <a:pt x="14486" y="12973"/>
                  <a:pt x="14478" y="12973"/>
                  <a:pt x="14461" y="12973"/>
                </a:cubicBezTo>
              </a:path>
              <a:path w="224" h="199">
                <a:moveTo>
                  <a:pt x="14635" y="13047"/>
                </a:moveTo>
                <a:cubicBezTo>
                  <a:pt x="14651" y="13064"/>
                  <a:pt x="14668" y="13080"/>
                  <a:pt x="14684" y="13097"/>
                </a:cubicBezTo>
                <a:cubicBezTo>
                  <a:pt x="14640" y="13131"/>
                  <a:pt x="14595" y="13142"/>
                  <a:pt x="14536" y="13146"/>
                </a:cubicBezTo>
                <a:cubicBezTo>
                  <a:pt x="14489" y="13150"/>
                  <a:pt x="14480" y="13150"/>
                  <a:pt x="1446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56160" y="4510080"/>
            <a:ext cx="490680" cy="231840"/>
          </a:xfrm>
          <a:custGeom>
            <a:avLst/>
            <a:gdLst/>
            <a:ahLst/>
            <a:rect l="l" t="t" r="r" b="b"/>
            <a:pathLst>
              <a:path w="1365" h="646">
                <a:moveTo>
                  <a:pt x="15180" y="12601"/>
                </a:moveTo>
                <a:cubicBezTo>
                  <a:pt x="15212" y="12552"/>
                  <a:pt x="15215" y="12539"/>
                  <a:pt x="15255" y="12526"/>
                </a:cubicBezTo>
                <a:cubicBezTo>
                  <a:pt x="15245" y="12604"/>
                  <a:pt x="15208" y="12651"/>
                  <a:pt x="15180" y="12725"/>
                </a:cubicBezTo>
                <a:cubicBezTo>
                  <a:pt x="15160" y="12778"/>
                  <a:pt x="15134" y="12890"/>
                  <a:pt x="15156" y="12948"/>
                </a:cubicBezTo>
                <a:cubicBezTo>
                  <a:pt x="15180" y="13012"/>
                  <a:pt x="15252" y="12998"/>
                  <a:pt x="15304" y="12998"/>
                </a:cubicBezTo>
                <a:cubicBezTo>
                  <a:pt x="15395" y="12998"/>
                  <a:pt x="15469" y="12987"/>
                  <a:pt x="15553" y="12973"/>
                </a:cubicBezTo>
                <a:cubicBezTo>
                  <a:pt x="15611" y="12963"/>
                  <a:pt x="15628" y="12965"/>
                  <a:pt x="15677" y="12948"/>
                </a:cubicBezTo>
                <a:cubicBezTo>
                  <a:pt x="15720" y="12933"/>
                  <a:pt x="15711" y="12969"/>
                  <a:pt x="15726" y="12923"/>
                </a:cubicBezTo>
              </a:path>
              <a:path w="1365" h="646">
                <a:moveTo>
                  <a:pt x="15528" y="12849"/>
                </a:moveTo>
                <a:cubicBezTo>
                  <a:pt x="15464" y="12849"/>
                  <a:pt x="15422" y="12846"/>
                  <a:pt x="15404" y="12923"/>
                </a:cubicBezTo>
                <a:cubicBezTo>
                  <a:pt x="15388" y="12991"/>
                  <a:pt x="15389" y="13119"/>
                  <a:pt x="15429" y="13171"/>
                </a:cubicBezTo>
              </a:path>
              <a:path w="1365" h="646">
                <a:moveTo>
                  <a:pt x="15999" y="12849"/>
                </a:moveTo>
                <a:cubicBezTo>
                  <a:pt x="15969" y="12829"/>
                  <a:pt x="15920" y="12801"/>
                  <a:pt x="15949" y="12750"/>
                </a:cubicBezTo>
                <a:cubicBezTo>
                  <a:pt x="15974" y="12706"/>
                  <a:pt x="16005" y="12700"/>
                  <a:pt x="16049" y="12700"/>
                </a:cubicBezTo>
                <a:cubicBezTo>
                  <a:pt x="16133" y="12700"/>
                  <a:pt x="16158" y="12769"/>
                  <a:pt x="16173" y="12849"/>
                </a:cubicBezTo>
                <a:cubicBezTo>
                  <a:pt x="16186" y="12914"/>
                  <a:pt x="16164" y="12960"/>
                  <a:pt x="16098" y="12973"/>
                </a:cubicBezTo>
                <a:cubicBezTo>
                  <a:pt x="16068" y="12979"/>
                  <a:pt x="16030" y="12973"/>
                  <a:pt x="15999" y="12973"/>
                </a:cubicBezTo>
              </a:path>
              <a:path w="1365" h="646">
                <a:moveTo>
                  <a:pt x="16371" y="12626"/>
                </a:moveTo>
                <a:cubicBezTo>
                  <a:pt x="16357" y="12598"/>
                  <a:pt x="16297" y="12655"/>
                  <a:pt x="16272" y="12700"/>
                </a:cubicBezTo>
                <a:cubicBezTo>
                  <a:pt x="16232" y="12774"/>
                  <a:pt x="16195" y="12872"/>
                  <a:pt x="16247" y="12948"/>
                </a:cubicBezTo>
                <a:cubicBezTo>
                  <a:pt x="16274" y="12987"/>
                  <a:pt x="16335" y="13088"/>
                  <a:pt x="16396" y="13072"/>
                </a:cubicBezTo>
                <a:cubicBezTo>
                  <a:pt x="16436" y="13061"/>
                  <a:pt x="16482" y="13038"/>
                  <a:pt x="16520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0080" y="5429160"/>
            <a:ext cx="150840" cy="206640"/>
          </a:xfrm>
          <a:custGeom>
            <a:avLst/>
            <a:gdLst/>
            <a:ahLst/>
            <a:rect l="l" t="t" r="r" b="b"/>
            <a:pathLst>
              <a:path w="423" h="572">
                <a:moveTo>
                  <a:pt x="12526" y="15106"/>
                </a:moveTo>
                <a:cubicBezTo>
                  <a:pt x="12526" y="15043"/>
                  <a:pt x="12526" y="15160"/>
                  <a:pt x="12526" y="15180"/>
                </a:cubicBezTo>
                <a:cubicBezTo>
                  <a:pt x="12526" y="15225"/>
                  <a:pt x="12523" y="15238"/>
                  <a:pt x="12551" y="15255"/>
                </a:cubicBezTo>
                <a:cubicBezTo>
                  <a:pt x="12603" y="15229"/>
                  <a:pt x="12636" y="15134"/>
                  <a:pt x="12700" y="15106"/>
                </a:cubicBezTo>
                <a:cubicBezTo>
                  <a:pt x="12818" y="15054"/>
                  <a:pt x="12872" y="15274"/>
                  <a:pt x="12898" y="15329"/>
                </a:cubicBezTo>
                <a:cubicBezTo>
                  <a:pt x="12932" y="15400"/>
                  <a:pt x="13002" y="15560"/>
                  <a:pt x="12923" y="15627"/>
                </a:cubicBezTo>
                <a:cubicBezTo>
                  <a:pt x="12872" y="15671"/>
                  <a:pt x="12770" y="15641"/>
                  <a:pt x="12725" y="15602"/>
                </a:cubicBezTo>
                <a:cubicBezTo>
                  <a:pt x="12701" y="15581"/>
                  <a:pt x="12666" y="15506"/>
                  <a:pt x="12650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95920" y="5384880"/>
            <a:ext cx="889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3568" y="14982"/>
                </a:moveTo>
                <a:cubicBezTo>
                  <a:pt x="13558" y="14963"/>
                  <a:pt x="13503" y="14982"/>
                  <a:pt x="13444" y="14982"/>
                </a:cubicBezTo>
                <a:cubicBezTo>
                  <a:pt x="13403" y="14982"/>
                  <a:pt x="13361" y="14982"/>
                  <a:pt x="13320" y="14982"/>
                </a:cubicBezTo>
              </a:path>
              <a:path w="249" h="200">
                <a:moveTo>
                  <a:pt x="13444" y="15056"/>
                </a:moveTo>
                <a:cubicBezTo>
                  <a:pt x="13502" y="15075"/>
                  <a:pt x="13527" y="15066"/>
                  <a:pt x="13519" y="15106"/>
                </a:cubicBezTo>
                <a:cubicBezTo>
                  <a:pt x="13510" y="15134"/>
                  <a:pt x="13461" y="15145"/>
                  <a:pt x="13419" y="15156"/>
                </a:cubicBezTo>
                <a:cubicBezTo>
                  <a:pt x="13395" y="15156"/>
                  <a:pt x="13386" y="15156"/>
                  <a:pt x="1337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760" y="5276880"/>
            <a:ext cx="196560" cy="14436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13915" y="14784"/>
                </a:moveTo>
                <a:cubicBezTo>
                  <a:pt x="13915" y="14767"/>
                  <a:pt x="13915" y="14751"/>
                  <a:pt x="13915" y="14734"/>
                </a:cubicBezTo>
                <a:cubicBezTo>
                  <a:pt x="13915" y="14808"/>
                  <a:pt x="13901" y="14861"/>
                  <a:pt x="13891" y="14932"/>
                </a:cubicBezTo>
                <a:cubicBezTo>
                  <a:pt x="13886" y="14972"/>
                  <a:pt x="13891" y="15016"/>
                  <a:pt x="13891" y="15056"/>
                </a:cubicBezTo>
              </a:path>
              <a:path w="546" h="397">
                <a:moveTo>
                  <a:pt x="14213" y="14858"/>
                </a:moveTo>
                <a:cubicBezTo>
                  <a:pt x="14213" y="14814"/>
                  <a:pt x="14219" y="14809"/>
                  <a:pt x="14238" y="14784"/>
                </a:cubicBezTo>
                <a:cubicBezTo>
                  <a:pt x="14266" y="14748"/>
                  <a:pt x="14276" y="14719"/>
                  <a:pt x="14312" y="14684"/>
                </a:cubicBezTo>
                <a:cubicBezTo>
                  <a:pt x="14394" y="14602"/>
                  <a:pt x="14395" y="14706"/>
                  <a:pt x="14412" y="14759"/>
                </a:cubicBezTo>
                <a:cubicBezTo>
                  <a:pt x="14426" y="14802"/>
                  <a:pt x="14473" y="14920"/>
                  <a:pt x="14412" y="14957"/>
                </a:cubicBezTo>
                <a:cubicBezTo>
                  <a:pt x="14370" y="14982"/>
                  <a:pt x="14242" y="14955"/>
                  <a:pt x="14213" y="14932"/>
                </a:cubicBezTo>
                <a:cubicBezTo>
                  <a:pt x="14166" y="14896"/>
                  <a:pt x="14167" y="14900"/>
                  <a:pt x="14188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2800" y="534024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5007" y="14833"/>
                </a:moveTo>
                <a:cubicBezTo>
                  <a:pt x="14985" y="14892"/>
                  <a:pt x="14982" y="14918"/>
                  <a:pt x="14982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97360" y="522432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5875" y="14784"/>
                </a:moveTo>
                <a:cubicBezTo>
                  <a:pt x="15850" y="14759"/>
                  <a:pt x="15842" y="14751"/>
                  <a:pt x="15825" y="14734"/>
                </a:cubicBezTo>
                <a:cubicBezTo>
                  <a:pt x="15874" y="14685"/>
                  <a:pt x="15902" y="14664"/>
                  <a:pt x="15974" y="14660"/>
                </a:cubicBezTo>
                <a:cubicBezTo>
                  <a:pt x="16049" y="14656"/>
                  <a:pt x="16110" y="14735"/>
                  <a:pt x="16123" y="14808"/>
                </a:cubicBezTo>
                <a:cubicBezTo>
                  <a:pt x="16131" y="14854"/>
                  <a:pt x="16138" y="14963"/>
                  <a:pt x="16073" y="14982"/>
                </a:cubicBezTo>
                <a:cubicBezTo>
                  <a:pt x="16012" y="15000"/>
                  <a:pt x="15954" y="14975"/>
                  <a:pt x="15900" y="14957"/>
                </a:cubicBezTo>
              </a:path>
              <a:path w="497" h="472">
                <a:moveTo>
                  <a:pt x="16297" y="14536"/>
                </a:moveTo>
                <a:cubicBezTo>
                  <a:pt x="16297" y="14528"/>
                  <a:pt x="16297" y="14519"/>
                  <a:pt x="16297" y="14511"/>
                </a:cubicBezTo>
                <a:cubicBezTo>
                  <a:pt x="16252" y="14522"/>
                  <a:pt x="16209" y="14557"/>
                  <a:pt x="16197" y="14610"/>
                </a:cubicBezTo>
                <a:cubicBezTo>
                  <a:pt x="16184" y="14664"/>
                  <a:pt x="16189" y="14744"/>
                  <a:pt x="16222" y="14784"/>
                </a:cubicBezTo>
                <a:cubicBezTo>
                  <a:pt x="16251" y="14820"/>
                  <a:pt x="16280" y="14808"/>
                  <a:pt x="16321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5249880"/>
            <a:ext cx="8100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6966" y="14585"/>
                </a:moveTo>
                <a:cubicBezTo>
                  <a:pt x="16966" y="14593"/>
                  <a:pt x="16966" y="14602"/>
                  <a:pt x="16966" y="14610"/>
                </a:cubicBezTo>
                <a:cubicBezTo>
                  <a:pt x="16905" y="14610"/>
                  <a:pt x="16867" y="14620"/>
                  <a:pt x="16818" y="14635"/>
                </a:cubicBezTo>
                <a:cubicBezTo>
                  <a:pt x="16798" y="14641"/>
                  <a:pt x="16764" y="14635"/>
                  <a:pt x="16743" y="14635"/>
                </a:cubicBezTo>
              </a:path>
              <a:path w="224" h="224">
                <a:moveTo>
                  <a:pt x="16942" y="14734"/>
                </a:moveTo>
                <a:cubicBezTo>
                  <a:pt x="16970" y="14773"/>
                  <a:pt x="16979" y="14804"/>
                  <a:pt x="16917" y="14808"/>
                </a:cubicBezTo>
                <a:cubicBezTo>
                  <a:pt x="16875" y="14808"/>
                  <a:pt x="16867" y="14808"/>
                  <a:pt x="16842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9680" y="5072040"/>
            <a:ext cx="571320" cy="241200"/>
          </a:xfrm>
          <a:custGeom>
            <a:avLst/>
            <a:gdLst/>
            <a:ahLst/>
            <a:rect l="l" t="t" r="r" b="b"/>
            <a:pathLst>
              <a:path w="1589" h="671">
                <a:moveTo>
                  <a:pt x="17438" y="14362"/>
                </a:moveTo>
                <a:cubicBezTo>
                  <a:pt x="17391" y="14378"/>
                  <a:pt x="17435" y="14396"/>
                  <a:pt x="17388" y="14412"/>
                </a:cubicBezTo>
                <a:cubicBezTo>
                  <a:pt x="17388" y="14373"/>
                  <a:pt x="17376" y="14337"/>
                  <a:pt x="17413" y="14312"/>
                </a:cubicBezTo>
                <a:cubicBezTo>
                  <a:pt x="17486" y="14262"/>
                  <a:pt x="17551" y="14263"/>
                  <a:pt x="17636" y="14263"/>
                </a:cubicBezTo>
                <a:cubicBezTo>
                  <a:pt x="17737" y="14263"/>
                  <a:pt x="17711" y="14328"/>
                  <a:pt x="17711" y="14412"/>
                </a:cubicBezTo>
                <a:cubicBezTo>
                  <a:pt x="17711" y="14502"/>
                  <a:pt x="17666" y="14590"/>
                  <a:pt x="17611" y="14660"/>
                </a:cubicBezTo>
                <a:cubicBezTo>
                  <a:pt x="17573" y="14708"/>
                  <a:pt x="17550" y="14708"/>
                  <a:pt x="17537" y="14759"/>
                </a:cubicBezTo>
                <a:cubicBezTo>
                  <a:pt x="17669" y="14759"/>
                  <a:pt x="17802" y="14759"/>
                  <a:pt x="17934" y="14759"/>
                </a:cubicBezTo>
              </a:path>
              <a:path w="1589" h="671">
                <a:moveTo>
                  <a:pt x="18207" y="14734"/>
                </a:moveTo>
                <a:cubicBezTo>
                  <a:pt x="18215" y="14734"/>
                  <a:pt x="18223" y="14734"/>
                  <a:pt x="18231" y="14734"/>
                </a:cubicBezTo>
              </a:path>
              <a:path w="1589" h="671">
                <a:moveTo>
                  <a:pt x="18579" y="14312"/>
                </a:moveTo>
                <a:cubicBezTo>
                  <a:pt x="18579" y="14271"/>
                  <a:pt x="18587" y="14255"/>
                  <a:pt x="18554" y="14263"/>
                </a:cubicBezTo>
                <a:cubicBezTo>
                  <a:pt x="18532" y="14270"/>
                  <a:pt x="18488" y="14328"/>
                  <a:pt x="18479" y="14362"/>
                </a:cubicBezTo>
                <a:cubicBezTo>
                  <a:pt x="18458" y="14441"/>
                  <a:pt x="18534" y="14467"/>
                  <a:pt x="18579" y="14486"/>
                </a:cubicBezTo>
                <a:cubicBezTo>
                  <a:pt x="18632" y="14508"/>
                  <a:pt x="18705" y="14508"/>
                  <a:pt x="18752" y="14536"/>
                </a:cubicBezTo>
                <a:cubicBezTo>
                  <a:pt x="18794" y="14561"/>
                  <a:pt x="18777" y="14618"/>
                  <a:pt x="18777" y="14660"/>
                </a:cubicBezTo>
                <a:cubicBezTo>
                  <a:pt x="18694" y="14660"/>
                  <a:pt x="18632" y="14653"/>
                  <a:pt x="18554" y="14635"/>
                </a:cubicBezTo>
                <a:cubicBezTo>
                  <a:pt x="18546" y="14635"/>
                  <a:pt x="18537" y="14635"/>
                  <a:pt x="18529" y="14635"/>
                </a:cubicBezTo>
              </a:path>
              <a:path w="1589" h="671">
                <a:moveTo>
                  <a:pt x="18976" y="14139"/>
                </a:moveTo>
                <a:cubicBezTo>
                  <a:pt x="18968" y="14122"/>
                  <a:pt x="18959" y="14106"/>
                  <a:pt x="18951" y="14089"/>
                </a:cubicBezTo>
                <a:cubicBezTo>
                  <a:pt x="18889" y="14101"/>
                  <a:pt x="18839" y="14150"/>
                  <a:pt x="18777" y="14163"/>
                </a:cubicBezTo>
                <a:cubicBezTo>
                  <a:pt x="18761" y="14163"/>
                  <a:pt x="18744" y="14163"/>
                  <a:pt x="18728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82544080" y="-581659920"/>
            <a:ext cx="585276120" cy="585374760"/>
          </a:xfrm>
          <a:custGeom>
            <a:avLst/>
            <a:gdLst/>
            <a:ahLst/>
            <a:rect l="l" t="t" r="r" b="b"/>
            <a:pathLst>
              <a:path w="1625774" h="1626048">
                <a:moveTo>
                  <a:pt x="-1618159" y="-1615728"/>
                </a:moveTo>
                <a:cubicBezTo>
                  <a:pt x="-1438497" y="-1436051"/>
                  <a:pt x="-249599" y="-246591"/>
                  <a:pt x="7268" y="10244"/>
                </a:cubicBezTo>
                <a:cubicBezTo>
                  <a:pt x="7390" y="10366"/>
                  <a:pt x="7550" y="10105"/>
                  <a:pt x="7590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directly proportional to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16. Find x when y =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1040" y="5589720"/>
            <a:ext cx="44280" cy="438120"/>
          </a:xfrm>
          <a:custGeom>
            <a:avLst/>
            <a:gdLst/>
            <a:ahLst/>
            <a:rect l="l" t="t" r="r" b="b"/>
            <a:pathLst>
              <a:path w="125" h="1216">
                <a:moveTo>
                  <a:pt x="1612" y="15528"/>
                </a:moveTo>
                <a:cubicBezTo>
                  <a:pt x="1618" y="15681"/>
                  <a:pt x="1637" y="15820"/>
                  <a:pt x="1637" y="15974"/>
                </a:cubicBezTo>
                <a:cubicBezTo>
                  <a:pt x="1637" y="16119"/>
                  <a:pt x="1646" y="16256"/>
                  <a:pt x="1662" y="16396"/>
                </a:cubicBezTo>
                <a:cubicBezTo>
                  <a:pt x="1672" y="16487"/>
                  <a:pt x="1659" y="16581"/>
                  <a:pt x="1687" y="16669"/>
                </a:cubicBezTo>
                <a:cubicBezTo>
                  <a:pt x="1709" y="16712"/>
                  <a:pt x="1713" y="16723"/>
                  <a:pt x="1736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7840" y="2874960"/>
            <a:ext cx="19692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6995" y="8012"/>
                </a:moveTo>
                <a:cubicBezTo>
                  <a:pt x="7041" y="7981"/>
                  <a:pt x="7018" y="8034"/>
                  <a:pt x="7045" y="8086"/>
                </a:cubicBezTo>
                <a:cubicBezTo>
                  <a:pt x="7079" y="8152"/>
                  <a:pt x="7099" y="8223"/>
                  <a:pt x="7193" y="8186"/>
                </a:cubicBezTo>
                <a:cubicBezTo>
                  <a:pt x="7246" y="8165"/>
                  <a:pt x="7245" y="8016"/>
                  <a:pt x="7317" y="8037"/>
                </a:cubicBezTo>
                <a:cubicBezTo>
                  <a:pt x="7419" y="8067"/>
                  <a:pt x="7478" y="8198"/>
                  <a:pt x="7516" y="8285"/>
                </a:cubicBezTo>
                <a:cubicBezTo>
                  <a:pt x="7540" y="8340"/>
                  <a:pt x="7574" y="8464"/>
                  <a:pt x="7516" y="8508"/>
                </a:cubicBezTo>
                <a:cubicBezTo>
                  <a:pt x="7455" y="8555"/>
                  <a:pt x="7342" y="8578"/>
                  <a:pt x="7268" y="8558"/>
                </a:cubicBezTo>
                <a:cubicBezTo>
                  <a:pt x="7218" y="8533"/>
                  <a:pt x="7202" y="8525"/>
                  <a:pt x="7169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01960" y="2795760"/>
            <a:ext cx="233280" cy="177480"/>
          </a:xfrm>
          <a:custGeom>
            <a:avLst/>
            <a:gdLst/>
            <a:ahLst/>
            <a:rect l="l" t="t" r="r" b="b"/>
            <a:pathLst>
              <a:path w="645" h="497">
                <a:moveTo>
                  <a:pt x="8657" y="7888"/>
                </a:moveTo>
                <a:cubicBezTo>
                  <a:pt x="8647" y="7850"/>
                  <a:pt x="8634" y="7819"/>
                  <a:pt x="8607" y="7789"/>
                </a:cubicBezTo>
                <a:cubicBezTo>
                  <a:pt x="8576" y="7755"/>
                  <a:pt x="8551" y="7764"/>
                  <a:pt x="8508" y="7764"/>
                </a:cubicBezTo>
                <a:cubicBezTo>
                  <a:pt x="8456" y="7764"/>
                  <a:pt x="8455" y="7778"/>
                  <a:pt x="8434" y="7789"/>
                </a:cubicBezTo>
                <a:cubicBezTo>
                  <a:pt x="8421" y="7795"/>
                  <a:pt x="8376" y="7846"/>
                  <a:pt x="8384" y="7863"/>
                </a:cubicBezTo>
                <a:cubicBezTo>
                  <a:pt x="8398" y="7892"/>
                  <a:pt x="8395" y="7937"/>
                  <a:pt x="8409" y="7962"/>
                </a:cubicBezTo>
                <a:cubicBezTo>
                  <a:pt x="8432" y="8003"/>
                  <a:pt x="8434" y="8011"/>
                  <a:pt x="8434" y="8062"/>
                </a:cubicBezTo>
                <a:cubicBezTo>
                  <a:pt x="8434" y="8118"/>
                  <a:pt x="8421" y="8136"/>
                  <a:pt x="8409" y="8161"/>
                </a:cubicBezTo>
                <a:cubicBezTo>
                  <a:pt x="8396" y="8187"/>
                  <a:pt x="8394" y="8206"/>
                  <a:pt x="8359" y="8210"/>
                </a:cubicBezTo>
                <a:cubicBezTo>
                  <a:pt x="8318" y="8215"/>
                  <a:pt x="8341" y="8235"/>
                  <a:pt x="8285" y="8235"/>
                </a:cubicBezTo>
                <a:cubicBezTo>
                  <a:pt x="8239" y="8235"/>
                  <a:pt x="8226" y="8215"/>
                  <a:pt x="8186" y="8210"/>
                </a:cubicBezTo>
                <a:cubicBezTo>
                  <a:pt x="8153" y="8206"/>
                  <a:pt x="8132" y="8212"/>
                  <a:pt x="8111" y="8186"/>
                </a:cubicBezTo>
                <a:cubicBezTo>
                  <a:pt x="8088" y="8158"/>
                  <a:pt x="8078" y="8144"/>
                  <a:pt x="8062" y="8111"/>
                </a:cubicBezTo>
                <a:cubicBezTo>
                  <a:pt x="8037" y="8060"/>
                  <a:pt x="8073" y="7978"/>
                  <a:pt x="8086" y="7938"/>
                </a:cubicBezTo>
                <a:cubicBezTo>
                  <a:pt x="8091" y="7922"/>
                  <a:pt x="8109" y="7876"/>
                  <a:pt x="8136" y="7863"/>
                </a:cubicBezTo>
                <a:cubicBezTo>
                  <a:pt x="8184" y="7839"/>
                  <a:pt x="8250" y="7876"/>
                  <a:pt x="8285" y="7888"/>
                </a:cubicBezTo>
                <a:cubicBezTo>
                  <a:pt x="8310" y="7896"/>
                  <a:pt x="8353" y="7926"/>
                  <a:pt x="8359" y="7938"/>
                </a:cubicBezTo>
                <a:cubicBezTo>
                  <a:pt x="8372" y="7964"/>
                  <a:pt x="8396" y="7973"/>
                  <a:pt x="8409" y="8012"/>
                </a:cubicBezTo>
                <a:cubicBezTo>
                  <a:pt x="8421" y="8048"/>
                  <a:pt x="8426" y="8071"/>
                  <a:pt x="8434" y="8086"/>
                </a:cubicBezTo>
                <a:cubicBezTo>
                  <a:pt x="8443" y="8105"/>
                  <a:pt x="8452" y="8167"/>
                  <a:pt x="8458" y="8186"/>
                </a:cubicBezTo>
                <a:cubicBezTo>
                  <a:pt x="8464" y="8203"/>
                  <a:pt x="8503" y="8247"/>
                  <a:pt x="8533" y="8260"/>
                </a:cubicBezTo>
                <a:cubicBezTo>
                  <a:pt x="8578" y="8280"/>
                  <a:pt x="8596" y="8240"/>
                  <a:pt x="8607" y="8235"/>
                </a:cubicBezTo>
                <a:cubicBezTo>
                  <a:pt x="8637" y="8220"/>
                  <a:pt x="8688" y="8201"/>
                  <a:pt x="8706" y="8161"/>
                </a:cubicBezTo>
                <a:cubicBezTo>
                  <a:pt x="8706" y="8153"/>
                  <a:pt x="8706" y="8144"/>
                  <a:pt x="870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7720" y="2847960"/>
            <a:ext cx="10764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9500" y="7913"/>
                </a:moveTo>
                <a:cubicBezTo>
                  <a:pt x="9508" y="7913"/>
                  <a:pt x="9517" y="7913"/>
                  <a:pt x="9525" y="7913"/>
                </a:cubicBezTo>
                <a:cubicBezTo>
                  <a:pt x="9474" y="7913"/>
                  <a:pt x="9467" y="7924"/>
                  <a:pt x="9426" y="7938"/>
                </a:cubicBezTo>
                <a:cubicBezTo>
                  <a:pt x="9390" y="7950"/>
                  <a:pt x="9369" y="7962"/>
                  <a:pt x="9327" y="7962"/>
                </a:cubicBezTo>
              </a:path>
              <a:path w="298" h="150">
                <a:moveTo>
                  <a:pt x="9599" y="8037"/>
                </a:moveTo>
                <a:cubicBezTo>
                  <a:pt x="9607" y="8037"/>
                  <a:pt x="9616" y="8037"/>
                  <a:pt x="9624" y="8037"/>
                </a:cubicBezTo>
                <a:cubicBezTo>
                  <a:pt x="9574" y="8037"/>
                  <a:pt x="9566" y="8048"/>
                  <a:pt x="9525" y="8062"/>
                </a:cubicBezTo>
                <a:cubicBezTo>
                  <a:pt x="9517" y="8062"/>
                  <a:pt x="9508" y="8062"/>
                  <a:pt x="9500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87840" y="274176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0294" y="7987"/>
                </a:moveTo>
                <a:cubicBezTo>
                  <a:pt x="10262" y="7976"/>
                  <a:pt x="10254" y="7953"/>
                  <a:pt x="10244" y="7913"/>
                </a:cubicBezTo>
                <a:cubicBezTo>
                  <a:pt x="10320" y="7869"/>
                  <a:pt x="10327" y="7843"/>
                  <a:pt x="10418" y="7838"/>
                </a:cubicBezTo>
                <a:cubicBezTo>
                  <a:pt x="10478" y="7835"/>
                  <a:pt x="10566" y="7876"/>
                  <a:pt x="10592" y="7938"/>
                </a:cubicBezTo>
                <a:cubicBezTo>
                  <a:pt x="10605" y="7968"/>
                  <a:pt x="10633" y="8076"/>
                  <a:pt x="10616" y="8111"/>
                </a:cubicBezTo>
                <a:cubicBezTo>
                  <a:pt x="10588" y="8170"/>
                  <a:pt x="10539" y="8170"/>
                  <a:pt x="10492" y="8186"/>
                </a:cubicBezTo>
                <a:cubicBezTo>
                  <a:pt x="10434" y="8206"/>
                  <a:pt x="10407" y="8210"/>
                  <a:pt x="10344" y="8210"/>
                </a:cubicBezTo>
              </a:path>
              <a:path w="919" h="596">
                <a:moveTo>
                  <a:pt x="10641" y="7863"/>
                </a:moveTo>
                <a:cubicBezTo>
                  <a:pt x="10641" y="7838"/>
                  <a:pt x="10641" y="7830"/>
                  <a:pt x="10666" y="7838"/>
                </a:cubicBezTo>
                <a:cubicBezTo>
                  <a:pt x="10634" y="7854"/>
                  <a:pt x="10578" y="7914"/>
                  <a:pt x="10567" y="7962"/>
                </a:cubicBezTo>
                <a:cubicBezTo>
                  <a:pt x="10554" y="8016"/>
                  <a:pt x="10607" y="8073"/>
                  <a:pt x="10641" y="8111"/>
                </a:cubicBezTo>
                <a:cubicBezTo>
                  <a:pt x="10686" y="8161"/>
                  <a:pt x="10744" y="8136"/>
                  <a:pt x="10790" y="8111"/>
                </a:cubicBezTo>
                <a:cubicBezTo>
                  <a:pt x="10807" y="8103"/>
                  <a:pt x="10823" y="8094"/>
                  <a:pt x="10840" y="8086"/>
                </a:cubicBezTo>
              </a:path>
              <a:path w="919" h="596">
                <a:moveTo>
                  <a:pt x="10914" y="7689"/>
                </a:moveTo>
                <a:cubicBezTo>
                  <a:pt x="10906" y="7689"/>
                  <a:pt x="10897" y="7689"/>
                  <a:pt x="10889" y="7689"/>
                </a:cubicBezTo>
                <a:cubicBezTo>
                  <a:pt x="10930" y="7679"/>
                  <a:pt x="10929" y="7680"/>
                  <a:pt x="10939" y="7640"/>
                </a:cubicBezTo>
                <a:cubicBezTo>
                  <a:pt x="10978" y="7630"/>
                  <a:pt x="10993" y="7615"/>
                  <a:pt x="11038" y="7615"/>
                </a:cubicBezTo>
                <a:cubicBezTo>
                  <a:pt x="11038" y="7681"/>
                  <a:pt x="11038" y="7747"/>
                  <a:pt x="11038" y="7813"/>
                </a:cubicBezTo>
                <a:cubicBezTo>
                  <a:pt x="11090" y="7813"/>
                  <a:pt x="11110" y="7831"/>
                  <a:pt x="11162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44840" y="3357720"/>
            <a:ext cx="1872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7069" y="9401"/>
                </a:moveTo>
                <a:cubicBezTo>
                  <a:pt x="7095" y="9366"/>
                  <a:pt x="7094" y="9370"/>
                  <a:pt x="7094" y="9327"/>
                </a:cubicBezTo>
                <a:cubicBezTo>
                  <a:pt x="7053" y="9340"/>
                  <a:pt x="7069" y="9375"/>
                  <a:pt x="7069" y="9426"/>
                </a:cubicBezTo>
                <a:cubicBezTo>
                  <a:pt x="7069" y="9509"/>
                  <a:pt x="7101" y="9559"/>
                  <a:pt x="7169" y="9599"/>
                </a:cubicBezTo>
                <a:cubicBezTo>
                  <a:pt x="7245" y="9644"/>
                  <a:pt x="7274" y="9587"/>
                  <a:pt x="7293" y="9525"/>
                </a:cubicBezTo>
                <a:cubicBezTo>
                  <a:pt x="7312" y="9464"/>
                  <a:pt x="7313" y="9424"/>
                  <a:pt x="7342" y="9376"/>
                </a:cubicBezTo>
                <a:cubicBezTo>
                  <a:pt x="7401" y="9332"/>
                  <a:pt x="7428" y="9389"/>
                  <a:pt x="7466" y="9451"/>
                </a:cubicBezTo>
                <a:cubicBezTo>
                  <a:pt x="7545" y="9581"/>
                  <a:pt x="7585" y="9697"/>
                  <a:pt x="7590" y="9847"/>
                </a:cubicBezTo>
                <a:cubicBezTo>
                  <a:pt x="7593" y="9938"/>
                  <a:pt x="7579" y="10031"/>
                  <a:pt x="7491" y="10071"/>
                </a:cubicBezTo>
                <a:cubicBezTo>
                  <a:pt x="7403" y="10111"/>
                  <a:pt x="7303" y="10107"/>
                  <a:pt x="7218" y="10071"/>
                </a:cubicBezTo>
                <a:cubicBezTo>
                  <a:pt x="7164" y="10044"/>
                  <a:pt x="7144" y="10032"/>
                  <a:pt x="7119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67040" y="3276720"/>
            <a:ext cx="1062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8136" y="9103"/>
                </a:moveTo>
                <a:cubicBezTo>
                  <a:pt x="8161" y="9103"/>
                  <a:pt x="8169" y="9103"/>
                  <a:pt x="8186" y="9103"/>
                </a:cubicBezTo>
                <a:cubicBezTo>
                  <a:pt x="8140" y="9103"/>
                  <a:pt x="8096" y="9105"/>
                  <a:pt x="8062" y="9128"/>
                </a:cubicBezTo>
                <a:cubicBezTo>
                  <a:pt x="8024" y="9154"/>
                  <a:pt x="8010" y="9153"/>
                  <a:pt x="7962" y="9153"/>
                </a:cubicBezTo>
              </a:path>
              <a:path w="299" h="200">
                <a:moveTo>
                  <a:pt x="8210" y="9252"/>
                </a:moveTo>
                <a:cubicBezTo>
                  <a:pt x="8252" y="9252"/>
                  <a:pt x="8268" y="9244"/>
                  <a:pt x="8260" y="9277"/>
                </a:cubicBezTo>
                <a:cubicBezTo>
                  <a:pt x="8193" y="9277"/>
                  <a:pt x="8148" y="9275"/>
                  <a:pt x="8086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60800" y="3116160"/>
            <a:ext cx="598320" cy="2779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8781" y="8979"/>
                </a:moveTo>
                <a:cubicBezTo>
                  <a:pt x="8781" y="8954"/>
                  <a:pt x="8781" y="8946"/>
                  <a:pt x="8781" y="8930"/>
                </a:cubicBezTo>
                <a:cubicBezTo>
                  <a:pt x="8781" y="8861"/>
                  <a:pt x="8781" y="9070"/>
                  <a:pt x="8781" y="9079"/>
                </a:cubicBezTo>
                <a:cubicBezTo>
                  <a:pt x="8781" y="9183"/>
                  <a:pt x="8800" y="9274"/>
                  <a:pt x="8806" y="9376"/>
                </a:cubicBezTo>
                <a:cubicBezTo>
                  <a:pt x="8809" y="9418"/>
                  <a:pt x="8794" y="9414"/>
                  <a:pt x="8830" y="9426"/>
                </a:cubicBezTo>
              </a:path>
              <a:path w="1663" h="770">
                <a:moveTo>
                  <a:pt x="8979" y="9103"/>
                </a:moveTo>
                <a:cubicBezTo>
                  <a:pt x="8987" y="9095"/>
                  <a:pt x="8996" y="9087"/>
                  <a:pt x="9004" y="9079"/>
                </a:cubicBezTo>
                <a:cubicBezTo>
                  <a:pt x="8969" y="9090"/>
                  <a:pt x="8954" y="9133"/>
                  <a:pt x="8930" y="9178"/>
                </a:cubicBezTo>
                <a:cubicBezTo>
                  <a:pt x="8905" y="9225"/>
                  <a:pt x="8884" y="9323"/>
                  <a:pt x="8905" y="9376"/>
                </a:cubicBezTo>
                <a:cubicBezTo>
                  <a:pt x="8918" y="9409"/>
                  <a:pt x="9004" y="9411"/>
                  <a:pt x="9029" y="9401"/>
                </a:cubicBezTo>
                <a:cubicBezTo>
                  <a:pt x="9077" y="9381"/>
                  <a:pt x="9131" y="9362"/>
                  <a:pt x="9178" y="9327"/>
                </a:cubicBezTo>
                <a:cubicBezTo>
                  <a:pt x="9186" y="9319"/>
                  <a:pt x="9195" y="9310"/>
                  <a:pt x="9203" y="9302"/>
                </a:cubicBezTo>
              </a:path>
              <a:path w="1663" h="770">
                <a:moveTo>
                  <a:pt x="9376" y="9153"/>
                </a:moveTo>
                <a:cubicBezTo>
                  <a:pt x="9376" y="9093"/>
                  <a:pt x="9384" y="9116"/>
                  <a:pt x="9426" y="9079"/>
                </a:cubicBezTo>
                <a:cubicBezTo>
                  <a:pt x="9463" y="9047"/>
                  <a:pt x="9490" y="9004"/>
                  <a:pt x="9550" y="9029"/>
                </a:cubicBezTo>
                <a:cubicBezTo>
                  <a:pt x="9612" y="9055"/>
                  <a:pt x="9599" y="9125"/>
                  <a:pt x="9599" y="9178"/>
                </a:cubicBezTo>
                <a:cubicBezTo>
                  <a:pt x="9599" y="9236"/>
                  <a:pt x="9589" y="9295"/>
                  <a:pt x="9525" y="9302"/>
                </a:cubicBezTo>
                <a:cubicBezTo>
                  <a:pt x="9501" y="9305"/>
                  <a:pt x="9475" y="9302"/>
                  <a:pt x="9451" y="9302"/>
                </a:cubicBezTo>
              </a:path>
              <a:path w="1663" h="770">
                <a:moveTo>
                  <a:pt x="9723" y="9029"/>
                </a:moveTo>
                <a:cubicBezTo>
                  <a:pt x="9742" y="8971"/>
                  <a:pt x="9751" y="8965"/>
                  <a:pt x="9748" y="8930"/>
                </a:cubicBezTo>
                <a:cubicBezTo>
                  <a:pt x="9676" y="9001"/>
                  <a:pt x="9653" y="9026"/>
                  <a:pt x="9649" y="9128"/>
                </a:cubicBezTo>
                <a:cubicBezTo>
                  <a:pt x="9646" y="9202"/>
                  <a:pt x="9665" y="9302"/>
                  <a:pt x="9748" y="9327"/>
                </a:cubicBezTo>
                <a:cubicBezTo>
                  <a:pt x="9816" y="9347"/>
                  <a:pt x="9872" y="9317"/>
                  <a:pt x="9922" y="9277"/>
                </a:cubicBezTo>
              </a:path>
              <a:path w="1663" h="770">
                <a:moveTo>
                  <a:pt x="10120" y="8781"/>
                </a:moveTo>
                <a:cubicBezTo>
                  <a:pt x="10096" y="8781"/>
                  <a:pt x="10087" y="8781"/>
                  <a:pt x="10071" y="8781"/>
                </a:cubicBezTo>
                <a:cubicBezTo>
                  <a:pt x="10071" y="8737"/>
                  <a:pt x="10077" y="8731"/>
                  <a:pt x="10096" y="8706"/>
                </a:cubicBezTo>
                <a:cubicBezTo>
                  <a:pt x="10115" y="8680"/>
                  <a:pt x="10165" y="8660"/>
                  <a:pt x="10195" y="8657"/>
                </a:cubicBezTo>
                <a:cubicBezTo>
                  <a:pt x="10203" y="8657"/>
                  <a:pt x="10212" y="8657"/>
                  <a:pt x="10220" y="8657"/>
                </a:cubicBezTo>
                <a:cubicBezTo>
                  <a:pt x="10220" y="8723"/>
                  <a:pt x="10199" y="8766"/>
                  <a:pt x="10195" y="8830"/>
                </a:cubicBezTo>
                <a:cubicBezTo>
                  <a:pt x="10192" y="8883"/>
                  <a:pt x="10185" y="8923"/>
                  <a:pt x="10244" y="8930"/>
                </a:cubicBezTo>
                <a:cubicBezTo>
                  <a:pt x="10287" y="8935"/>
                  <a:pt x="10358" y="8923"/>
                  <a:pt x="10393" y="8905"/>
                </a:cubicBezTo>
                <a:cubicBezTo>
                  <a:pt x="10418" y="8880"/>
                  <a:pt x="10426" y="8872"/>
                  <a:pt x="10443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6200" y="3724200"/>
            <a:ext cx="268560" cy="231840"/>
          </a:xfrm>
          <a:custGeom>
            <a:avLst/>
            <a:gdLst/>
            <a:ahLst/>
            <a:rect l="l" t="t" r="r" b="b"/>
            <a:pathLst>
              <a:path w="746" h="645">
                <a:moveTo>
                  <a:pt x="6796" y="10468"/>
                </a:moveTo>
                <a:cubicBezTo>
                  <a:pt x="6803" y="10447"/>
                  <a:pt x="6821" y="10400"/>
                  <a:pt x="6821" y="10443"/>
                </a:cubicBezTo>
                <a:cubicBezTo>
                  <a:pt x="6821" y="10499"/>
                  <a:pt x="6839" y="10541"/>
                  <a:pt x="6846" y="10592"/>
                </a:cubicBezTo>
                <a:cubicBezTo>
                  <a:pt x="6857" y="10677"/>
                  <a:pt x="6851" y="10781"/>
                  <a:pt x="6871" y="10864"/>
                </a:cubicBezTo>
                <a:cubicBezTo>
                  <a:pt x="6883" y="10915"/>
                  <a:pt x="6896" y="10915"/>
                  <a:pt x="6896" y="10964"/>
                </a:cubicBezTo>
              </a:path>
              <a:path w="746" h="645">
                <a:moveTo>
                  <a:pt x="7193" y="10393"/>
                </a:moveTo>
                <a:cubicBezTo>
                  <a:pt x="7228" y="10366"/>
                  <a:pt x="7232" y="10376"/>
                  <a:pt x="7243" y="10344"/>
                </a:cubicBezTo>
                <a:cubicBezTo>
                  <a:pt x="7286" y="10358"/>
                  <a:pt x="7256" y="10419"/>
                  <a:pt x="7243" y="10468"/>
                </a:cubicBezTo>
                <a:cubicBezTo>
                  <a:pt x="7216" y="10570"/>
                  <a:pt x="7218" y="10659"/>
                  <a:pt x="7218" y="10765"/>
                </a:cubicBezTo>
                <a:cubicBezTo>
                  <a:pt x="7218" y="10832"/>
                  <a:pt x="7231" y="10920"/>
                  <a:pt x="7293" y="10964"/>
                </a:cubicBezTo>
                <a:cubicBezTo>
                  <a:pt x="7363" y="11014"/>
                  <a:pt x="7441" y="10971"/>
                  <a:pt x="7491" y="10914"/>
                </a:cubicBezTo>
                <a:cubicBezTo>
                  <a:pt x="7519" y="10882"/>
                  <a:pt x="7563" y="10810"/>
                  <a:pt x="7541" y="10765"/>
                </a:cubicBezTo>
                <a:cubicBezTo>
                  <a:pt x="7513" y="10710"/>
                  <a:pt x="7449" y="10748"/>
                  <a:pt x="7417" y="10765"/>
                </a:cubicBezTo>
                <a:cubicBezTo>
                  <a:pt x="7366" y="10792"/>
                  <a:pt x="7349" y="10815"/>
                  <a:pt x="729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8960" y="375912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8310" y="10443"/>
                </a:moveTo>
                <a:cubicBezTo>
                  <a:pt x="8334" y="10443"/>
                  <a:pt x="8343" y="10443"/>
                  <a:pt x="8359" y="10443"/>
                </a:cubicBezTo>
                <a:cubicBezTo>
                  <a:pt x="8324" y="10452"/>
                  <a:pt x="8293" y="10485"/>
                  <a:pt x="8260" y="10492"/>
                </a:cubicBezTo>
                <a:cubicBezTo>
                  <a:pt x="8210" y="10502"/>
                  <a:pt x="8181" y="10506"/>
                  <a:pt x="8136" y="10517"/>
                </a:cubicBezTo>
              </a:path>
              <a:path w="249" h="150">
                <a:moveTo>
                  <a:pt x="8334" y="10542"/>
                </a:moveTo>
                <a:cubicBezTo>
                  <a:pt x="8351" y="10542"/>
                  <a:pt x="8367" y="10542"/>
                  <a:pt x="8384" y="10542"/>
                </a:cubicBezTo>
                <a:cubicBezTo>
                  <a:pt x="8352" y="10566"/>
                  <a:pt x="8295" y="10585"/>
                  <a:pt x="8260" y="10592"/>
                </a:cubicBezTo>
                <a:cubicBezTo>
                  <a:pt x="8243" y="10592"/>
                  <a:pt x="8227" y="10592"/>
                  <a:pt x="8210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1800" y="3616200"/>
            <a:ext cx="401400" cy="24156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9004" y="10244"/>
                </a:moveTo>
                <a:cubicBezTo>
                  <a:pt x="9004" y="10220"/>
                  <a:pt x="9004" y="10211"/>
                  <a:pt x="9004" y="10195"/>
                </a:cubicBezTo>
                <a:cubicBezTo>
                  <a:pt x="9004" y="10301"/>
                  <a:pt x="8964" y="10512"/>
                  <a:pt x="9029" y="10592"/>
                </a:cubicBezTo>
                <a:cubicBezTo>
                  <a:pt x="9073" y="10646"/>
                  <a:pt x="9151" y="10610"/>
                  <a:pt x="9203" y="10592"/>
                </a:cubicBezTo>
                <a:cubicBezTo>
                  <a:pt x="9290" y="10562"/>
                  <a:pt x="9338" y="10512"/>
                  <a:pt x="9426" y="10492"/>
                </a:cubicBezTo>
                <a:cubicBezTo>
                  <a:pt x="9455" y="10485"/>
                  <a:pt x="9495" y="10492"/>
                  <a:pt x="9525" y="10492"/>
                </a:cubicBezTo>
              </a:path>
              <a:path w="1117" h="671">
                <a:moveTo>
                  <a:pt x="9277" y="10393"/>
                </a:moveTo>
                <a:cubicBezTo>
                  <a:pt x="9277" y="10450"/>
                  <a:pt x="9293" y="10489"/>
                  <a:pt x="9302" y="10542"/>
                </a:cubicBezTo>
                <a:cubicBezTo>
                  <a:pt x="9312" y="10600"/>
                  <a:pt x="9327" y="10657"/>
                  <a:pt x="9327" y="10716"/>
                </a:cubicBezTo>
              </a:path>
              <a:path w="1117" h="671">
                <a:moveTo>
                  <a:pt x="9575" y="10071"/>
                </a:moveTo>
                <a:cubicBezTo>
                  <a:pt x="9575" y="10046"/>
                  <a:pt x="9575" y="10038"/>
                  <a:pt x="9599" y="10046"/>
                </a:cubicBezTo>
                <a:cubicBezTo>
                  <a:pt x="9599" y="10102"/>
                  <a:pt x="9617" y="10144"/>
                  <a:pt x="9624" y="10195"/>
                </a:cubicBezTo>
                <a:cubicBezTo>
                  <a:pt x="9638" y="10299"/>
                  <a:pt x="9655" y="10389"/>
                  <a:pt x="9674" y="10492"/>
                </a:cubicBezTo>
                <a:cubicBezTo>
                  <a:pt x="9684" y="10548"/>
                  <a:pt x="9710" y="10565"/>
                  <a:pt x="9723" y="10616"/>
                </a:cubicBezTo>
              </a:path>
              <a:path w="1117" h="671">
                <a:moveTo>
                  <a:pt x="9823" y="10344"/>
                </a:moveTo>
                <a:cubicBezTo>
                  <a:pt x="9885" y="10290"/>
                  <a:pt x="9913" y="10258"/>
                  <a:pt x="9823" y="10319"/>
                </a:cubicBezTo>
                <a:cubicBezTo>
                  <a:pt x="9769" y="10355"/>
                  <a:pt x="9773" y="10412"/>
                  <a:pt x="9773" y="10468"/>
                </a:cubicBezTo>
                <a:cubicBezTo>
                  <a:pt x="9773" y="10534"/>
                  <a:pt x="9846" y="10539"/>
                  <a:pt x="9897" y="10542"/>
                </a:cubicBezTo>
                <a:cubicBezTo>
                  <a:pt x="9965" y="10546"/>
                  <a:pt x="10024" y="10517"/>
                  <a:pt x="10096" y="10517"/>
                </a:cubicBezTo>
                <a:cubicBezTo>
                  <a:pt x="10104" y="10517"/>
                  <a:pt x="10112" y="10517"/>
                  <a:pt x="10120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7720" y="3990960"/>
            <a:ext cx="169560" cy="2602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9327" y="11187"/>
                </a:moveTo>
                <a:cubicBezTo>
                  <a:pt x="9327" y="11128"/>
                  <a:pt x="9320" y="11130"/>
                  <a:pt x="9351" y="11088"/>
                </a:cubicBezTo>
                <a:cubicBezTo>
                  <a:pt x="9363" y="11195"/>
                  <a:pt x="9392" y="11301"/>
                  <a:pt x="9401" y="11410"/>
                </a:cubicBezTo>
                <a:cubicBezTo>
                  <a:pt x="9411" y="11537"/>
                  <a:pt x="9444" y="11657"/>
                  <a:pt x="9451" y="11782"/>
                </a:cubicBezTo>
                <a:cubicBezTo>
                  <a:pt x="9451" y="11790"/>
                  <a:pt x="9451" y="11799"/>
                  <a:pt x="9451" y="11807"/>
                </a:cubicBezTo>
              </a:path>
              <a:path w="472" h="720">
                <a:moveTo>
                  <a:pt x="9575" y="11410"/>
                </a:moveTo>
                <a:cubicBezTo>
                  <a:pt x="9583" y="11394"/>
                  <a:pt x="9591" y="11377"/>
                  <a:pt x="9599" y="11361"/>
                </a:cubicBezTo>
                <a:cubicBezTo>
                  <a:pt x="9585" y="11419"/>
                  <a:pt x="9543" y="11463"/>
                  <a:pt x="9500" y="11509"/>
                </a:cubicBezTo>
                <a:cubicBezTo>
                  <a:pt x="9466" y="11546"/>
                  <a:pt x="9454" y="11623"/>
                  <a:pt x="9500" y="11658"/>
                </a:cubicBezTo>
                <a:cubicBezTo>
                  <a:pt x="9546" y="11694"/>
                  <a:pt x="9640" y="11731"/>
                  <a:pt x="9699" y="11708"/>
                </a:cubicBezTo>
                <a:cubicBezTo>
                  <a:pt x="9734" y="11694"/>
                  <a:pt x="9765" y="11678"/>
                  <a:pt x="9798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0880" y="4152960"/>
            <a:ext cx="81000" cy="3492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8508" y="11534"/>
                </a:moveTo>
                <a:cubicBezTo>
                  <a:pt x="8442" y="11534"/>
                  <a:pt x="8376" y="11534"/>
                  <a:pt x="8310" y="11534"/>
                </a:cubicBezTo>
              </a:path>
              <a:path w="224" h="100">
                <a:moveTo>
                  <a:pt x="8533" y="11609"/>
                </a:moveTo>
                <a:cubicBezTo>
                  <a:pt x="8533" y="11601"/>
                  <a:pt x="8533" y="11592"/>
                  <a:pt x="8533" y="11584"/>
                </a:cubicBezTo>
                <a:cubicBezTo>
                  <a:pt x="8489" y="11595"/>
                  <a:pt x="8458" y="11621"/>
                  <a:pt x="8409" y="11633"/>
                </a:cubicBezTo>
                <a:cubicBezTo>
                  <a:pt x="8388" y="11638"/>
                  <a:pt x="8356" y="11633"/>
                  <a:pt x="833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4125960"/>
            <a:ext cx="1602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590" y="11485"/>
                </a:moveTo>
                <a:cubicBezTo>
                  <a:pt x="7590" y="11418"/>
                  <a:pt x="7590" y="11523"/>
                  <a:pt x="7590" y="11534"/>
                </a:cubicBezTo>
                <a:cubicBezTo>
                  <a:pt x="7590" y="11613"/>
                  <a:pt x="7568" y="11680"/>
                  <a:pt x="7565" y="11757"/>
                </a:cubicBezTo>
                <a:cubicBezTo>
                  <a:pt x="7563" y="11806"/>
                  <a:pt x="7547" y="11932"/>
                  <a:pt x="7615" y="11956"/>
                </a:cubicBezTo>
                <a:cubicBezTo>
                  <a:pt x="7673" y="11977"/>
                  <a:pt x="7738" y="11940"/>
                  <a:pt x="7789" y="11931"/>
                </a:cubicBezTo>
                <a:cubicBezTo>
                  <a:pt x="7838" y="11923"/>
                  <a:pt x="7891" y="11911"/>
                  <a:pt x="7938" y="11906"/>
                </a:cubicBezTo>
                <a:cubicBezTo>
                  <a:pt x="7990" y="11901"/>
                  <a:pt x="7977" y="11919"/>
                  <a:pt x="8012" y="11931"/>
                </a:cubicBezTo>
              </a:path>
              <a:path w="448" h="720">
                <a:moveTo>
                  <a:pt x="7813" y="11881"/>
                </a:moveTo>
                <a:cubicBezTo>
                  <a:pt x="7805" y="11873"/>
                  <a:pt x="7797" y="11865"/>
                  <a:pt x="7789" y="11857"/>
                </a:cubicBezTo>
                <a:cubicBezTo>
                  <a:pt x="7789" y="11914"/>
                  <a:pt x="7796" y="11978"/>
                  <a:pt x="7813" y="12030"/>
                </a:cubicBezTo>
                <a:cubicBezTo>
                  <a:pt x="7831" y="12083"/>
                  <a:pt x="7843" y="12126"/>
                  <a:pt x="7863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6640" y="4759200"/>
            <a:ext cx="206280" cy="258840"/>
          </a:xfrm>
          <a:custGeom>
            <a:avLst/>
            <a:gdLst/>
            <a:ahLst/>
            <a:rect l="l" t="t" r="r" b="b"/>
            <a:pathLst>
              <a:path w="572" h="720">
                <a:moveTo>
                  <a:pt x="6325" y="13271"/>
                </a:moveTo>
                <a:cubicBezTo>
                  <a:pt x="6325" y="13229"/>
                  <a:pt x="6325" y="13204"/>
                  <a:pt x="6325" y="13246"/>
                </a:cubicBezTo>
                <a:cubicBezTo>
                  <a:pt x="6325" y="13345"/>
                  <a:pt x="6332" y="13392"/>
                  <a:pt x="6400" y="13469"/>
                </a:cubicBezTo>
                <a:cubicBezTo>
                  <a:pt x="6444" y="13514"/>
                  <a:pt x="6454" y="13531"/>
                  <a:pt x="6499" y="13519"/>
                </a:cubicBezTo>
                <a:cubicBezTo>
                  <a:pt x="6551" y="13453"/>
                  <a:pt x="6549" y="13394"/>
                  <a:pt x="6573" y="13320"/>
                </a:cubicBezTo>
                <a:cubicBezTo>
                  <a:pt x="6581" y="13304"/>
                  <a:pt x="6590" y="13287"/>
                  <a:pt x="6598" y="13271"/>
                </a:cubicBezTo>
                <a:cubicBezTo>
                  <a:pt x="6713" y="13299"/>
                  <a:pt x="6741" y="13387"/>
                  <a:pt x="6796" y="13494"/>
                </a:cubicBezTo>
                <a:cubicBezTo>
                  <a:pt x="6851" y="13600"/>
                  <a:pt x="6949" y="13721"/>
                  <a:pt x="6871" y="13841"/>
                </a:cubicBezTo>
                <a:cubicBezTo>
                  <a:pt x="6817" y="13923"/>
                  <a:pt x="6689" y="13953"/>
                  <a:pt x="6598" y="13940"/>
                </a:cubicBezTo>
                <a:cubicBezTo>
                  <a:pt x="6527" y="13930"/>
                  <a:pt x="6477" y="13884"/>
                  <a:pt x="6424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8840" y="468000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7392" y="12998"/>
                </a:moveTo>
                <a:cubicBezTo>
                  <a:pt x="7392" y="13006"/>
                  <a:pt x="7392" y="13014"/>
                  <a:pt x="7392" y="13022"/>
                </a:cubicBezTo>
                <a:cubicBezTo>
                  <a:pt x="7359" y="13030"/>
                  <a:pt x="7297" y="13057"/>
                  <a:pt x="7268" y="13072"/>
                </a:cubicBezTo>
                <a:cubicBezTo>
                  <a:pt x="7245" y="13095"/>
                  <a:pt x="7241" y="13103"/>
                  <a:pt x="7218" y="13097"/>
                </a:cubicBezTo>
              </a:path>
              <a:path w="249" h="249">
                <a:moveTo>
                  <a:pt x="7392" y="13146"/>
                </a:moveTo>
                <a:cubicBezTo>
                  <a:pt x="7432" y="13126"/>
                  <a:pt x="7439" y="13118"/>
                  <a:pt x="7466" y="13122"/>
                </a:cubicBezTo>
                <a:cubicBezTo>
                  <a:pt x="7466" y="13186"/>
                  <a:pt x="7451" y="13190"/>
                  <a:pt x="7392" y="13221"/>
                </a:cubicBezTo>
                <a:cubicBezTo>
                  <a:pt x="7375" y="13229"/>
                  <a:pt x="7359" y="13238"/>
                  <a:pt x="734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1240" y="4500720"/>
            <a:ext cx="579600" cy="31248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8558" y="12799"/>
                </a:moveTo>
                <a:cubicBezTo>
                  <a:pt x="8580" y="12776"/>
                  <a:pt x="8585" y="12768"/>
                  <a:pt x="8607" y="12774"/>
                </a:cubicBezTo>
                <a:cubicBezTo>
                  <a:pt x="8607" y="12855"/>
                  <a:pt x="8585" y="12914"/>
                  <a:pt x="8582" y="12998"/>
                </a:cubicBezTo>
                <a:cubicBezTo>
                  <a:pt x="8579" y="13086"/>
                  <a:pt x="8534" y="13309"/>
                  <a:pt x="8632" y="13345"/>
                </a:cubicBezTo>
                <a:cubicBezTo>
                  <a:pt x="8668" y="13358"/>
                  <a:pt x="8805" y="13264"/>
                  <a:pt x="8830" y="13246"/>
                </a:cubicBezTo>
                <a:cubicBezTo>
                  <a:pt x="8888" y="13205"/>
                  <a:pt x="8927" y="13151"/>
                  <a:pt x="9004" y="13146"/>
                </a:cubicBezTo>
                <a:cubicBezTo>
                  <a:pt x="9036" y="13144"/>
                  <a:pt x="9070" y="13146"/>
                  <a:pt x="9103" y="13146"/>
                </a:cubicBezTo>
              </a:path>
              <a:path w="1613" h="869">
                <a:moveTo>
                  <a:pt x="8855" y="13022"/>
                </a:moveTo>
                <a:cubicBezTo>
                  <a:pt x="8855" y="13119"/>
                  <a:pt x="8860" y="13204"/>
                  <a:pt x="8880" y="13295"/>
                </a:cubicBezTo>
                <a:cubicBezTo>
                  <a:pt x="8880" y="13330"/>
                  <a:pt x="8885" y="13348"/>
                  <a:pt x="8905" y="13370"/>
                </a:cubicBezTo>
              </a:path>
              <a:path w="1613" h="869">
                <a:moveTo>
                  <a:pt x="9203" y="13022"/>
                </a:moveTo>
                <a:cubicBezTo>
                  <a:pt x="9160" y="12991"/>
                  <a:pt x="9153" y="13004"/>
                  <a:pt x="9153" y="12948"/>
                </a:cubicBezTo>
                <a:cubicBezTo>
                  <a:pt x="9153" y="12884"/>
                  <a:pt x="9160" y="12878"/>
                  <a:pt x="9227" y="12874"/>
                </a:cubicBezTo>
                <a:cubicBezTo>
                  <a:pt x="9310" y="12869"/>
                  <a:pt x="9361" y="12944"/>
                  <a:pt x="9376" y="13022"/>
                </a:cubicBezTo>
                <a:cubicBezTo>
                  <a:pt x="9387" y="13081"/>
                  <a:pt x="9386" y="13176"/>
                  <a:pt x="9351" y="13221"/>
                </a:cubicBezTo>
                <a:cubicBezTo>
                  <a:pt x="9310" y="13274"/>
                  <a:pt x="9246" y="13244"/>
                  <a:pt x="9203" y="13221"/>
                </a:cubicBezTo>
                <a:cubicBezTo>
                  <a:pt x="9186" y="13213"/>
                  <a:pt x="9170" y="13204"/>
                  <a:pt x="9153" y="13196"/>
                </a:cubicBezTo>
              </a:path>
              <a:path w="1613" h="869">
                <a:moveTo>
                  <a:pt x="9451" y="12849"/>
                </a:moveTo>
                <a:cubicBezTo>
                  <a:pt x="9509" y="12788"/>
                  <a:pt x="9414" y="12922"/>
                  <a:pt x="9401" y="12948"/>
                </a:cubicBezTo>
                <a:cubicBezTo>
                  <a:pt x="9360" y="13029"/>
                  <a:pt x="9353" y="13100"/>
                  <a:pt x="9426" y="13146"/>
                </a:cubicBezTo>
                <a:cubicBezTo>
                  <a:pt x="9496" y="13190"/>
                  <a:pt x="9559" y="13167"/>
                  <a:pt x="9624" y="13122"/>
                </a:cubicBezTo>
                <a:cubicBezTo>
                  <a:pt x="9632" y="13114"/>
                  <a:pt x="9641" y="13105"/>
                  <a:pt x="9649" y="13097"/>
                </a:cubicBezTo>
              </a:path>
              <a:path w="1613" h="869">
                <a:moveTo>
                  <a:pt x="9798" y="12650"/>
                </a:moveTo>
                <a:cubicBezTo>
                  <a:pt x="9773" y="12617"/>
                  <a:pt x="9752" y="12583"/>
                  <a:pt x="9798" y="12551"/>
                </a:cubicBezTo>
                <a:cubicBezTo>
                  <a:pt x="9853" y="12512"/>
                  <a:pt x="9881" y="12502"/>
                  <a:pt x="9947" y="12502"/>
                </a:cubicBezTo>
                <a:cubicBezTo>
                  <a:pt x="9947" y="12584"/>
                  <a:pt x="9924" y="12703"/>
                  <a:pt x="9971" y="12774"/>
                </a:cubicBezTo>
                <a:cubicBezTo>
                  <a:pt x="10011" y="12835"/>
                  <a:pt x="10119" y="12788"/>
                  <a:pt x="1017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5080" y="2946240"/>
            <a:ext cx="277920" cy="1890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15404" y="8210"/>
                </a:moveTo>
                <a:cubicBezTo>
                  <a:pt x="15404" y="8145"/>
                  <a:pt x="15404" y="8296"/>
                  <a:pt x="15404" y="8310"/>
                </a:cubicBezTo>
                <a:cubicBezTo>
                  <a:pt x="15404" y="8354"/>
                  <a:pt x="15401" y="8368"/>
                  <a:pt x="15429" y="8384"/>
                </a:cubicBezTo>
                <a:cubicBezTo>
                  <a:pt x="15505" y="8374"/>
                  <a:pt x="15554" y="8326"/>
                  <a:pt x="15627" y="8310"/>
                </a:cubicBezTo>
                <a:cubicBezTo>
                  <a:pt x="15741" y="8285"/>
                  <a:pt x="15750" y="8404"/>
                  <a:pt x="15776" y="8483"/>
                </a:cubicBezTo>
                <a:cubicBezTo>
                  <a:pt x="15794" y="8537"/>
                  <a:pt x="15839" y="8675"/>
                  <a:pt x="15751" y="8706"/>
                </a:cubicBezTo>
                <a:cubicBezTo>
                  <a:pt x="15678" y="8731"/>
                  <a:pt x="15591" y="8685"/>
                  <a:pt x="15528" y="8657"/>
                </a:cubicBezTo>
              </a:path>
              <a:path w="770" h="521">
                <a:moveTo>
                  <a:pt x="16148" y="8210"/>
                </a:moveTo>
                <a:cubicBezTo>
                  <a:pt x="16156" y="8210"/>
                  <a:pt x="16165" y="8210"/>
                  <a:pt x="16173" y="8210"/>
                </a:cubicBezTo>
                <a:cubicBezTo>
                  <a:pt x="16106" y="8210"/>
                  <a:pt x="16055" y="8218"/>
                  <a:pt x="15999" y="8235"/>
                </a:cubicBezTo>
                <a:cubicBezTo>
                  <a:pt x="15991" y="8235"/>
                  <a:pt x="15982" y="8235"/>
                  <a:pt x="15974" y="8235"/>
                </a:cubicBezTo>
              </a:path>
              <a:path w="770" h="521">
                <a:moveTo>
                  <a:pt x="16123" y="8285"/>
                </a:moveTo>
                <a:cubicBezTo>
                  <a:pt x="16156" y="8293"/>
                  <a:pt x="16210" y="8328"/>
                  <a:pt x="16148" y="8359"/>
                </a:cubicBezTo>
                <a:cubicBezTo>
                  <a:pt x="16113" y="8376"/>
                  <a:pt x="16039" y="8359"/>
                  <a:pt x="1599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29200" y="2830680"/>
            <a:ext cx="125640" cy="161640"/>
          </a:xfrm>
          <a:custGeom>
            <a:avLst/>
            <a:gdLst/>
            <a:ahLst/>
            <a:rect l="l" t="t" r="r" b="b"/>
            <a:pathLst>
              <a:path w="349" h="448">
                <a:moveTo>
                  <a:pt x="16520" y="7962"/>
                </a:moveTo>
                <a:cubicBezTo>
                  <a:pt x="16528" y="7954"/>
                  <a:pt x="16537" y="7946"/>
                  <a:pt x="16545" y="7938"/>
                </a:cubicBezTo>
                <a:cubicBezTo>
                  <a:pt x="16534" y="7979"/>
                  <a:pt x="16516" y="8001"/>
                  <a:pt x="16495" y="8037"/>
                </a:cubicBezTo>
                <a:cubicBezTo>
                  <a:pt x="16475" y="8077"/>
                  <a:pt x="16466" y="8083"/>
                  <a:pt x="16470" y="8111"/>
                </a:cubicBezTo>
                <a:cubicBezTo>
                  <a:pt x="16507" y="8139"/>
                  <a:pt x="16572" y="8153"/>
                  <a:pt x="16619" y="8161"/>
                </a:cubicBezTo>
                <a:cubicBezTo>
                  <a:pt x="16676" y="8171"/>
                  <a:pt x="16718" y="8171"/>
                  <a:pt x="16768" y="8186"/>
                </a:cubicBezTo>
                <a:cubicBezTo>
                  <a:pt x="16791" y="8193"/>
                  <a:pt x="16813" y="8225"/>
                  <a:pt x="16793" y="8260"/>
                </a:cubicBezTo>
                <a:cubicBezTo>
                  <a:pt x="16759" y="8321"/>
                  <a:pt x="16704" y="8310"/>
                  <a:pt x="16644" y="8310"/>
                </a:cubicBezTo>
                <a:cubicBezTo>
                  <a:pt x="16594" y="8310"/>
                  <a:pt x="16545" y="8310"/>
                  <a:pt x="16495" y="8310"/>
                </a:cubicBezTo>
              </a:path>
              <a:path w="349" h="448">
                <a:moveTo>
                  <a:pt x="16768" y="7913"/>
                </a:moveTo>
                <a:cubicBezTo>
                  <a:pt x="16785" y="7896"/>
                  <a:pt x="16801" y="7880"/>
                  <a:pt x="16818" y="7863"/>
                </a:cubicBezTo>
                <a:cubicBezTo>
                  <a:pt x="16751" y="7863"/>
                  <a:pt x="16707" y="7866"/>
                  <a:pt x="16644" y="7888"/>
                </a:cubicBezTo>
                <a:cubicBezTo>
                  <a:pt x="16619" y="7896"/>
                  <a:pt x="16595" y="7905"/>
                  <a:pt x="1657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3960" y="2884320"/>
            <a:ext cx="190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7512" y="8012"/>
                </a:moveTo>
                <a:cubicBezTo>
                  <a:pt x="17512" y="8020"/>
                  <a:pt x="17512" y="8029"/>
                  <a:pt x="17512" y="8037"/>
                </a:cubicBezTo>
              </a:path>
              <a:path w="51" h="249">
                <a:moveTo>
                  <a:pt x="17562" y="8260"/>
                </a:moveTo>
                <a:lnTo>
                  <a:pt x="17562" y="82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70720" y="3330720"/>
            <a:ext cx="14256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5801" y="9475"/>
                </a:moveTo>
                <a:cubicBezTo>
                  <a:pt x="15801" y="9451"/>
                  <a:pt x="15801" y="9442"/>
                  <a:pt x="15801" y="9426"/>
                </a:cubicBezTo>
                <a:cubicBezTo>
                  <a:pt x="15792" y="9462"/>
                  <a:pt x="15758" y="9492"/>
                  <a:pt x="15751" y="9525"/>
                </a:cubicBezTo>
                <a:cubicBezTo>
                  <a:pt x="15733" y="9611"/>
                  <a:pt x="15784" y="9616"/>
                  <a:pt x="15850" y="9649"/>
                </a:cubicBezTo>
                <a:cubicBezTo>
                  <a:pt x="15923" y="9686"/>
                  <a:pt x="15996" y="9685"/>
                  <a:pt x="16073" y="9723"/>
                </a:cubicBezTo>
                <a:cubicBezTo>
                  <a:pt x="16123" y="9748"/>
                  <a:pt x="16181" y="9807"/>
                  <a:pt x="16148" y="9872"/>
                </a:cubicBezTo>
                <a:cubicBezTo>
                  <a:pt x="16117" y="9934"/>
                  <a:pt x="16057" y="9922"/>
                  <a:pt x="15999" y="9922"/>
                </a:cubicBezTo>
                <a:cubicBezTo>
                  <a:pt x="15935" y="9922"/>
                  <a:pt x="15909" y="9919"/>
                  <a:pt x="15850" y="9897"/>
                </a:cubicBezTo>
              </a:path>
              <a:path w="398" h="671">
                <a:moveTo>
                  <a:pt x="16049" y="9351"/>
                </a:moveTo>
                <a:cubicBezTo>
                  <a:pt x="16100" y="9291"/>
                  <a:pt x="16098" y="9314"/>
                  <a:pt x="16098" y="9252"/>
                </a:cubicBezTo>
                <a:cubicBezTo>
                  <a:pt x="16048" y="9252"/>
                  <a:pt x="16016" y="9270"/>
                  <a:pt x="15974" y="9302"/>
                </a:cubicBezTo>
                <a:cubicBezTo>
                  <a:pt x="15941" y="9327"/>
                  <a:pt x="15908" y="9350"/>
                  <a:pt x="15875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7840" y="3446640"/>
            <a:ext cx="11592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6942" y="9575"/>
                </a:moveTo>
                <a:cubicBezTo>
                  <a:pt x="16958" y="9575"/>
                  <a:pt x="16975" y="9575"/>
                  <a:pt x="16991" y="9575"/>
                </a:cubicBezTo>
                <a:cubicBezTo>
                  <a:pt x="16908" y="9575"/>
                  <a:pt x="16826" y="9575"/>
                  <a:pt x="16743" y="9575"/>
                </a:cubicBezTo>
              </a:path>
              <a:path w="324" h="199">
                <a:moveTo>
                  <a:pt x="16942" y="9649"/>
                </a:moveTo>
                <a:cubicBezTo>
                  <a:pt x="17020" y="9695"/>
                  <a:pt x="17022" y="9709"/>
                  <a:pt x="17066" y="9723"/>
                </a:cubicBezTo>
                <a:cubicBezTo>
                  <a:pt x="17029" y="9751"/>
                  <a:pt x="16964" y="9765"/>
                  <a:pt x="16917" y="9773"/>
                </a:cubicBezTo>
                <a:cubicBezTo>
                  <a:pt x="16900" y="9773"/>
                  <a:pt x="16884" y="9773"/>
                  <a:pt x="16867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56240" y="3268800"/>
            <a:ext cx="536760" cy="231480"/>
          </a:xfrm>
          <a:custGeom>
            <a:avLst/>
            <a:gdLst/>
            <a:ahLst/>
            <a:rect l="l" t="t" r="r" b="b"/>
            <a:pathLst>
              <a:path w="1489" h="645">
                <a:moveTo>
                  <a:pt x="17934" y="9351"/>
                </a:moveTo>
                <a:cubicBezTo>
                  <a:pt x="17943" y="9292"/>
                  <a:pt x="17966" y="9277"/>
                  <a:pt x="17983" y="9227"/>
                </a:cubicBezTo>
                <a:cubicBezTo>
                  <a:pt x="17997" y="9184"/>
                  <a:pt x="17963" y="9193"/>
                  <a:pt x="18008" y="9178"/>
                </a:cubicBezTo>
                <a:cubicBezTo>
                  <a:pt x="17995" y="9231"/>
                  <a:pt x="17975" y="9295"/>
                  <a:pt x="17959" y="9351"/>
                </a:cubicBezTo>
                <a:cubicBezTo>
                  <a:pt x="17937" y="9429"/>
                  <a:pt x="17912" y="9498"/>
                  <a:pt x="17959" y="9575"/>
                </a:cubicBezTo>
                <a:cubicBezTo>
                  <a:pt x="17987" y="9621"/>
                  <a:pt x="18085" y="9599"/>
                  <a:pt x="18132" y="9599"/>
                </a:cubicBezTo>
                <a:cubicBezTo>
                  <a:pt x="18219" y="9599"/>
                  <a:pt x="18272" y="9556"/>
                  <a:pt x="18355" y="9550"/>
                </a:cubicBezTo>
                <a:cubicBezTo>
                  <a:pt x="18388" y="9547"/>
                  <a:pt x="18422" y="9550"/>
                  <a:pt x="18455" y="9550"/>
                </a:cubicBezTo>
              </a:path>
              <a:path w="1489" h="645">
                <a:moveTo>
                  <a:pt x="18256" y="9451"/>
                </a:moveTo>
                <a:cubicBezTo>
                  <a:pt x="18248" y="9451"/>
                  <a:pt x="18239" y="9451"/>
                  <a:pt x="18231" y="9451"/>
                </a:cubicBezTo>
                <a:cubicBezTo>
                  <a:pt x="18231" y="9542"/>
                  <a:pt x="18231" y="9632"/>
                  <a:pt x="18231" y="9723"/>
                </a:cubicBezTo>
              </a:path>
              <a:path w="1489" h="645">
                <a:moveTo>
                  <a:pt x="18554" y="9500"/>
                </a:moveTo>
                <a:cubicBezTo>
                  <a:pt x="18554" y="9441"/>
                  <a:pt x="18563" y="9463"/>
                  <a:pt x="18604" y="9426"/>
                </a:cubicBezTo>
                <a:cubicBezTo>
                  <a:pt x="18668" y="9368"/>
                  <a:pt x="18689" y="9403"/>
                  <a:pt x="18728" y="9451"/>
                </a:cubicBezTo>
                <a:cubicBezTo>
                  <a:pt x="18758" y="9487"/>
                  <a:pt x="18804" y="9546"/>
                  <a:pt x="18777" y="9599"/>
                </a:cubicBezTo>
                <a:cubicBezTo>
                  <a:pt x="18758" y="9637"/>
                  <a:pt x="18712" y="9624"/>
                  <a:pt x="18678" y="9624"/>
                </a:cubicBezTo>
                <a:cubicBezTo>
                  <a:pt x="18661" y="9624"/>
                  <a:pt x="18645" y="9624"/>
                  <a:pt x="18628" y="9624"/>
                </a:cubicBezTo>
              </a:path>
              <a:path w="1489" h="645">
                <a:moveTo>
                  <a:pt x="18876" y="9426"/>
                </a:moveTo>
                <a:cubicBezTo>
                  <a:pt x="18876" y="9409"/>
                  <a:pt x="18876" y="9393"/>
                  <a:pt x="18876" y="9376"/>
                </a:cubicBezTo>
                <a:cubicBezTo>
                  <a:pt x="18864" y="9427"/>
                  <a:pt x="18819" y="9470"/>
                  <a:pt x="18802" y="9525"/>
                </a:cubicBezTo>
                <a:cubicBezTo>
                  <a:pt x="18780" y="9595"/>
                  <a:pt x="18855" y="9621"/>
                  <a:pt x="18901" y="9624"/>
                </a:cubicBezTo>
                <a:cubicBezTo>
                  <a:pt x="18978" y="9629"/>
                  <a:pt x="18985" y="9606"/>
                  <a:pt x="19025" y="9550"/>
                </a:cubicBezTo>
              </a:path>
              <a:path w="1489" h="645">
                <a:moveTo>
                  <a:pt x="19124" y="9153"/>
                </a:moveTo>
                <a:cubicBezTo>
                  <a:pt x="19124" y="9178"/>
                  <a:pt x="19153" y="9137"/>
                  <a:pt x="19199" y="9103"/>
                </a:cubicBezTo>
                <a:cubicBezTo>
                  <a:pt x="19234" y="9078"/>
                  <a:pt x="19230" y="9079"/>
                  <a:pt x="19273" y="9079"/>
                </a:cubicBezTo>
                <a:cubicBezTo>
                  <a:pt x="19273" y="9138"/>
                  <a:pt x="19263" y="9178"/>
                  <a:pt x="19248" y="9227"/>
                </a:cubicBezTo>
                <a:cubicBezTo>
                  <a:pt x="19239" y="9257"/>
                  <a:pt x="19243" y="9312"/>
                  <a:pt x="19273" y="9327"/>
                </a:cubicBezTo>
                <a:cubicBezTo>
                  <a:pt x="19316" y="9348"/>
                  <a:pt x="19386" y="9316"/>
                  <a:pt x="1942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72080" y="3803760"/>
            <a:ext cx="258840" cy="384120"/>
          </a:xfrm>
          <a:custGeom>
            <a:avLst/>
            <a:gdLst/>
            <a:ahLst/>
            <a:rect l="l" t="t" r="r" b="b"/>
            <a:pathLst>
              <a:path w="720" h="1067">
                <a:moveTo>
                  <a:pt x="15726" y="10790"/>
                </a:moveTo>
                <a:cubicBezTo>
                  <a:pt x="15726" y="10751"/>
                  <a:pt x="15747" y="10712"/>
                  <a:pt x="15726" y="10740"/>
                </a:cubicBezTo>
                <a:cubicBezTo>
                  <a:pt x="15718" y="10748"/>
                  <a:pt x="15709" y="10757"/>
                  <a:pt x="15701" y="10765"/>
                </a:cubicBezTo>
                <a:cubicBezTo>
                  <a:pt x="15733" y="10789"/>
                  <a:pt x="15791" y="10808"/>
                  <a:pt x="15825" y="10815"/>
                </a:cubicBezTo>
                <a:cubicBezTo>
                  <a:pt x="15887" y="10827"/>
                  <a:pt x="15922" y="10846"/>
                  <a:pt x="15949" y="10914"/>
                </a:cubicBezTo>
                <a:cubicBezTo>
                  <a:pt x="15970" y="10968"/>
                  <a:pt x="15878" y="10976"/>
                  <a:pt x="15850" y="10964"/>
                </a:cubicBezTo>
                <a:cubicBezTo>
                  <a:pt x="15828" y="10942"/>
                  <a:pt x="15823" y="10933"/>
                  <a:pt x="15801" y="10939"/>
                </a:cubicBezTo>
              </a:path>
              <a:path w="720" h="1067">
                <a:moveTo>
                  <a:pt x="15925" y="10592"/>
                </a:moveTo>
                <a:cubicBezTo>
                  <a:pt x="15925" y="10584"/>
                  <a:pt x="15925" y="10575"/>
                  <a:pt x="15925" y="10567"/>
                </a:cubicBezTo>
                <a:cubicBezTo>
                  <a:pt x="15898" y="10588"/>
                  <a:pt x="15857" y="10627"/>
                  <a:pt x="15825" y="10641"/>
                </a:cubicBezTo>
                <a:cubicBezTo>
                  <a:pt x="15817" y="10641"/>
                  <a:pt x="15809" y="10641"/>
                  <a:pt x="15801" y="10641"/>
                </a:cubicBezTo>
              </a:path>
              <a:path w="720" h="1067">
                <a:moveTo>
                  <a:pt x="16197" y="11088"/>
                </a:moveTo>
                <a:cubicBezTo>
                  <a:pt x="15976" y="11088"/>
                  <a:pt x="15739" y="11065"/>
                  <a:pt x="15528" y="11112"/>
                </a:cubicBezTo>
                <a:cubicBezTo>
                  <a:pt x="15503" y="11112"/>
                  <a:pt x="15495" y="11112"/>
                  <a:pt x="15478" y="11112"/>
                </a:cubicBezTo>
              </a:path>
              <a:path w="720" h="1067">
                <a:moveTo>
                  <a:pt x="15726" y="11311"/>
                </a:moveTo>
                <a:cubicBezTo>
                  <a:pt x="15734" y="11303"/>
                  <a:pt x="15743" y="11294"/>
                  <a:pt x="15751" y="11286"/>
                </a:cubicBezTo>
                <a:cubicBezTo>
                  <a:pt x="15751" y="11328"/>
                  <a:pt x="15729" y="11461"/>
                  <a:pt x="15776" y="11485"/>
                </a:cubicBezTo>
                <a:cubicBezTo>
                  <a:pt x="15826" y="11510"/>
                  <a:pt x="15865" y="11444"/>
                  <a:pt x="15900" y="11435"/>
                </a:cubicBezTo>
                <a:cubicBezTo>
                  <a:pt x="15953" y="11421"/>
                  <a:pt x="15999" y="11400"/>
                  <a:pt x="16049" y="11385"/>
                </a:cubicBezTo>
                <a:cubicBezTo>
                  <a:pt x="16054" y="11383"/>
                  <a:pt x="16187" y="11389"/>
                  <a:pt x="16148" y="11361"/>
                </a:cubicBezTo>
                <a:cubicBezTo>
                  <a:pt x="16140" y="11361"/>
                  <a:pt x="16131" y="11361"/>
                  <a:pt x="16123" y="11361"/>
                </a:cubicBezTo>
              </a:path>
              <a:path w="720" h="1067">
                <a:moveTo>
                  <a:pt x="15949" y="11261"/>
                </a:moveTo>
                <a:cubicBezTo>
                  <a:pt x="15915" y="11273"/>
                  <a:pt x="15914" y="11315"/>
                  <a:pt x="15925" y="11361"/>
                </a:cubicBezTo>
                <a:cubicBezTo>
                  <a:pt x="15944" y="11438"/>
                  <a:pt x="15982" y="11509"/>
                  <a:pt x="15999" y="11584"/>
                </a:cubicBezTo>
                <a:cubicBezTo>
                  <a:pt x="15999" y="11600"/>
                  <a:pt x="15999" y="11617"/>
                  <a:pt x="15999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07040" y="392904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17190" y="10914"/>
                </a:moveTo>
                <a:cubicBezTo>
                  <a:pt x="17114" y="10914"/>
                  <a:pt x="17056" y="10920"/>
                  <a:pt x="16991" y="10939"/>
                </a:cubicBezTo>
                <a:cubicBezTo>
                  <a:pt x="16983" y="10939"/>
                  <a:pt x="16974" y="10939"/>
                  <a:pt x="16966" y="10939"/>
                </a:cubicBezTo>
              </a:path>
              <a:path w="225" h="150">
                <a:moveTo>
                  <a:pt x="17165" y="11013"/>
                </a:moveTo>
                <a:cubicBezTo>
                  <a:pt x="17173" y="11013"/>
                  <a:pt x="17182" y="11013"/>
                  <a:pt x="17190" y="11013"/>
                </a:cubicBezTo>
                <a:cubicBezTo>
                  <a:pt x="17138" y="11052"/>
                  <a:pt x="17123" y="11014"/>
                  <a:pt x="17066" y="11038"/>
                </a:cubicBezTo>
                <a:cubicBezTo>
                  <a:pt x="17027" y="11055"/>
                  <a:pt x="17038" y="11063"/>
                  <a:pt x="1699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65960" y="3786120"/>
            <a:ext cx="3650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983" y="10939"/>
                </a:moveTo>
                <a:cubicBezTo>
                  <a:pt x="17947" y="10926"/>
                  <a:pt x="17961" y="10897"/>
                  <a:pt x="17983" y="10864"/>
                </a:cubicBezTo>
                <a:cubicBezTo>
                  <a:pt x="18019" y="10811"/>
                  <a:pt x="18077" y="10815"/>
                  <a:pt x="18132" y="10815"/>
                </a:cubicBezTo>
                <a:cubicBezTo>
                  <a:pt x="18208" y="10815"/>
                  <a:pt x="18251" y="10869"/>
                  <a:pt x="18281" y="10939"/>
                </a:cubicBezTo>
                <a:cubicBezTo>
                  <a:pt x="18319" y="11026"/>
                  <a:pt x="18346" y="11065"/>
                  <a:pt x="18281" y="11137"/>
                </a:cubicBezTo>
                <a:cubicBezTo>
                  <a:pt x="18252" y="11169"/>
                  <a:pt x="18174" y="11178"/>
                  <a:pt x="18132" y="11162"/>
                </a:cubicBezTo>
                <a:cubicBezTo>
                  <a:pt x="18099" y="11149"/>
                  <a:pt x="18095" y="11121"/>
                  <a:pt x="18058" y="11112"/>
                </a:cubicBezTo>
              </a:path>
              <a:path w="1018" h="646">
                <a:moveTo>
                  <a:pt x="18405" y="10790"/>
                </a:moveTo>
                <a:cubicBezTo>
                  <a:pt x="18446" y="10770"/>
                  <a:pt x="18462" y="10772"/>
                  <a:pt x="18455" y="10740"/>
                </a:cubicBezTo>
                <a:cubicBezTo>
                  <a:pt x="18419" y="10786"/>
                  <a:pt x="18368" y="10855"/>
                  <a:pt x="18355" y="10914"/>
                </a:cubicBezTo>
                <a:cubicBezTo>
                  <a:pt x="18338" y="10990"/>
                  <a:pt x="18357" y="11058"/>
                  <a:pt x="18430" y="11088"/>
                </a:cubicBezTo>
                <a:cubicBezTo>
                  <a:pt x="18481" y="11109"/>
                  <a:pt x="18560" y="11082"/>
                  <a:pt x="18604" y="11063"/>
                </a:cubicBezTo>
              </a:path>
              <a:path w="1018" h="646">
                <a:moveTo>
                  <a:pt x="18728" y="10592"/>
                </a:moveTo>
                <a:cubicBezTo>
                  <a:pt x="18700" y="10628"/>
                  <a:pt x="18711" y="10630"/>
                  <a:pt x="18678" y="10641"/>
                </a:cubicBezTo>
                <a:cubicBezTo>
                  <a:pt x="18678" y="10588"/>
                  <a:pt x="18691" y="10580"/>
                  <a:pt x="18728" y="10542"/>
                </a:cubicBezTo>
                <a:cubicBezTo>
                  <a:pt x="18764" y="10505"/>
                  <a:pt x="18801" y="10517"/>
                  <a:pt x="18852" y="10517"/>
                </a:cubicBezTo>
                <a:cubicBezTo>
                  <a:pt x="18852" y="10591"/>
                  <a:pt x="18867" y="10675"/>
                  <a:pt x="18827" y="10740"/>
                </a:cubicBezTo>
                <a:cubicBezTo>
                  <a:pt x="18802" y="10781"/>
                  <a:pt x="18802" y="10790"/>
                  <a:pt x="18802" y="10840"/>
                </a:cubicBezTo>
                <a:cubicBezTo>
                  <a:pt x="18869" y="10840"/>
                  <a:pt x="18899" y="10837"/>
                  <a:pt x="18951" y="10790"/>
                </a:cubicBezTo>
                <a:cubicBezTo>
                  <a:pt x="18959" y="10782"/>
                  <a:pt x="18968" y="10773"/>
                  <a:pt x="18976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3880" y="4303800"/>
            <a:ext cx="206280" cy="15228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18008" y="12179"/>
                </a:moveTo>
                <a:cubicBezTo>
                  <a:pt x="17970" y="12166"/>
                  <a:pt x="17983" y="12150"/>
                  <a:pt x="17983" y="12105"/>
                </a:cubicBezTo>
                <a:cubicBezTo>
                  <a:pt x="17983" y="12052"/>
                  <a:pt x="18036" y="12033"/>
                  <a:pt x="18083" y="12030"/>
                </a:cubicBezTo>
                <a:cubicBezTo>
                  <a:pt x="18169" y="12024"/>
                  <a:pt x="18218" y="12069"/>
                  <a:pt x="18231" y="12154"/>
                </a:cubicBezTo>
                <a:cubicBezTo>
                  <a:pt x="18240" y="12213"/>
                  <a:pt x="18243" y="12307"/>
                  <a:pt x="18207" y="12353"/>
                </a:cubicBezTo>
                <a:cubicBezTo>
                  <a:pt x="18160" y="12413"/>
                  <a:pt x="18104" y="12362"/>
                  <a:pt x="18058" y="12353"/>
                </a:cubicBezTo>
                <a:cubicBezTo>
                  <a:pt x="18041" y="12353"/>
                  <a:pt x="18025" y="12353"/>
                  <a:pt x="18008" y="12353"/>
                </a:cubicBezTo>
              </a:path>
              <a:path w="572" h="423">
                <a:moveTo>
                  <a:pt x="18306" y="12030"/>
                </a:moveTo>
                <a:cubicBezTo>
                  <a:pt x="18376" y="11960"/>
                  <a:pt x="18404" y="11942"/>
                  <a:pt x="18331" y="12030"/>
                </a:cubicBezTo>
                <a:cubicBezTo>
                  <a:pt x="18273" y="12100"/>
                  <a:pt x="18229" y="12154"/>
                  <a:pt x="18256" y="12254"/>
                </a:cubicBezTo>
                <a:cubicBezTo>
                  <a:pt x="18272" y="12316"/>
                  <a:pt x="18368" y="12367"/>
                  <a:pt x="18430" y="12353"/>
                </a:cubicBezTo>
                <a:cubicBezTo>
                  <a:pt x="18468" y="12345"/>
                  <a:pt x="18521" y="12297"/>
                  <a:pt x="18554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1040" y="4402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7264" y="12229"/>
                </a:moveTo>
                <a:cubicBezTo>
                  <a:pt x="17214" y="12229"/>
                  <a:pt x="17165" y="12229"/>
                  <a:pt x="17115" y="12229"/>
                </a:cubicBezTo>
              </a:path>
              <a:path w="150" h="150">
                <a:moveTo>
                  <a:pt x="17190" y="12328"/>
                </a:moveTo>
                <a:cubicBezTo>
                  <a:pt x="17180" y="12369"/>
                  <a:pt x="17181" y="12368"/>
                  <a:pt x="1714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64080" y="4249800"/>
            <a:ext cx="457200" cy="411120"/>
          </a:xfrm>
          <a:custGeom>
            <a:avLst/>
            <a:gdLst/>
            <a:ahLst/>
            <a:rect l="l" t="t" r="r" b="b"/>
            <a:pathLst>
              <a:path w="1267" h="1142">
                <a:moveTo>
                  <a:pt x="16446" y="11857"/>
                </a:moveTo>
                <a:cubicBezTo>
                  <a:pt x="16392" y="11857"/>
                  <a:pt x="16337" y="11837"/>
                  <a:pt x="16297" y="11832"/>
                </a:cubicBezTo>
                <a:cubicBezTo>
                  <a:pt x="16182" y="11819"/>
                  <a:pt x="16062" y="11820"/>
                  <a:pt x="15949" y="11807"/>
                </a:cubicBezTo>
                <a:cubicBezTo>
                  <a:pt x="15872" y="11798"/>
                  <a:pt x="15772" y="11809"/>
                  <a:pt x="15701" y="11832"/>
                </a:cubicBezTo>
                <a:cubicBezTo>
                  <a:pt x="15655" y="11847"/>
                  <a:pt x="15596" y="11863"/>
                  <a:pt x="15553" y="11881"/>
                </a:cubicBezTo>
                <a:cubicBezTo>
                  <a:pt x="15510" y="11899"/>
                  <a:pt x="15453" y="11910"/>
                  <a:pt x="15429" y="11956"/>
                </a:cubicBezTo>
                <a:cubicBezTo>
                  <a:pt x="15317" y="12167"/>
                  <a:pt x="15429" y="12702"/>
                  <a:pt x="15429" y="12948"/>
                </a:cubicBezTo>
                <a:cubicBezTo>
                  <a:pt x="15384" y="12859"/>
                  <a:pt x="15368" y="12766"/>
                  <a:pt x="15329" y="12675"/>
                </a:cubicBezTo>
                <a:cubicBezTo>
                  <a:pt x="15293" y="12589"/>
                  <a:pt x="15258" y="12502"/>
                  <a:pt x="15205" y="12427"/>
                </a:cubicBezTo>
                <a:cubicBezTo>
                  <a:pt x="15197" y="12419"/>
                  <a:pt x="15188" y="12410"/>
                  <a:pt x="15180" y="12402"/>
                </a:cubicBezTo>
              </a:path>
              <a:path w="1267" h="1142">
                <a:moveTo>
                  <a:pt x="15776" y="11931"/>
                </a:moveTo>
                <a:cubicBezTo>
                  <a:pt x="15776" y="11969"/>
                  <a:pt x="15760" y="12034"/>
                  <a:pt x="15801" y="12055"/>
                </a:cubicBezTo>
                <a:cubicBezTo>
                  <a:pt x="15828" y="12069"/>
                  <a:pt x="15917" y="12077"/>
                  <a:pt x="15949" y="12080"/>
                </a:cubicBezTo>
                <a:cubicBezTo>
                  <a:pt x="15975" y="12083"/>
                  <a:pt x="16041" y="12115"/>
                  <a:pt x="16024" y="12154"/>
                </a:cubicBezTo>
                <a:cubicBezTo>
                  <a:pt x="16007" y="12192"/>
                  <a:pt x="15958" y="12179"/>
                  <a:pt x="15925" y="12179"/>
                </a:cubicBezTo>
                <a:cubicBezTo>
                  <a:pt x="15893" y="12179"/>
                  <a:pt x="15880" y="12162"/>
                  <a:pt x="15850" y="12154"/>
                </a:cubicBezTo>
              </a:path>
              <a:path w="1267" h="1142">
                <a:moveTo>
                  <a:pt x="15974" y="11881"/>
                </a:moveTo>
                <a:cubicBezTo>
                  <a:pt x="15974" y="11889"/>
                  <a:pt x="15974" y="11898"/>
                  <a:pt x="15974" y="11906"/>
                </a:cubicBezTo>
                <a:cubicBezTo>
                  <a:pt x="15938" y="11915"/>
                  <a:pt x="15908" y="11949"/>
                  <a:pt x="15875" y="11956"/>
                </a:cubicBezTo>
                <a:cubicBezTo>
                  <a:pt x="15830" y="11966"/>
                  <a:pt x="15816" y="11971"/>
                  <a:pt x="15776" y="11981"/>
                </a:cubicBezTo>
              </a:path>
              <a:path w="1267" h="1142">
                <a:moveTo>
                  <a:pt x="16222" y="12278"/>
                </a:moveTo>
                <a:cubicBezTo>
                  <a:pt x="16078" y="12278"/>
                  <a:pt x="15941" y="12284"/>
                  <a:pt x="15801" y="12303"/>
                </a:cubicBezTo>
                <a:cubicBezTo>
                  <a:pt x="15753" y="12310"/>
                  <a:pt x="15701" y="12303"/>
                  <a:pt x="15652" y="12303"/>
                </a:cubicBezTo>
              </a:path>
              <a:path w="1267" h="1142">
                <a:moveTo>
                  <a:pt x="15850" y="12452"/>
                </a:moveTo>
                <a:cubicBezTo>
                  <a:pt x="15850" y="12444"/>
                  <a:pt x="15850" y="12435"/>
                  <a:pt x="15850" y="12427"/>
                </a:cubicBezTo>
                <a:cubicBezTo>
                  <a:pt x="15905" y="12445"/>
                  <a:pt x="15863" y="12463"/>
                  <a:pt x="15850" y="12502"/>
                </a:cubicBezTo>
                <a:cubicBezTo>
                  <a:pt x="15835" y="12547"/>
                  <a:pt x="15864" y="12568"/>
                  <a:pt x="15875" y="12601"/>
                </a:cubicBezTo>
                <a:cubicBezTo>
                  <a:pt x="15875" y="12609"/>
                  <a:pt x="15875" y="12618"/>
                  <a:pt x="15875" y="12626"/>
                </a:cubicBezTo>
                <a:cubicBezTo>
                  <a:pt x="15930" y="12626"/>
                  <a:pt x="15945" y="12614"/>
                  <a:pt x="15999" y="12601"/>
                </a:cubicBezTo>
                <a:cubicBezTo>
                  <a:pt x="16040" y="12591"/>
                  <a:pt x="16086" y="12580"/>
                  <a:pt x="16123" y="12576"/>
                </a:cubicBezTo>
                <a:cubicBezTo>
                  <a:pt x="16145" y="12574"/>
                  <a:pt x="16281" y="12576"/>
                  <a:pt x="16222" y="12576"/>
                </a:cubicBezTo>
              </a:path>
              <a:path w="1267" h="1142">
                <a:moveTo>
                  <a:pt x="16073" y="12551"/>
                </a:moveTo>
                <a:cubicBezTo>
                  <a:pt x="16034" y="12565"/>
                  <a:pt x="16049" y="12601"/>
                  <a:pt x="16049" y="12650"/>
                </a:cubicBezTo>
                <a:cubicBezTo>
                  <a:pt x="16049" y="12716"/>
                  <a:pt x="16061" y="12762"/>
                  <a:pt x="16073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inversely proportional to 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goes up, y go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6728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53737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87880" y="2781360"/>
            <a:ext cx="2760840" cy="2519280"/>
          </a:xfrm>
          <a:custGeom>
            <a:avLst/>
            <a:gdLst/>
            <a:ahLst/>
            <a:rect l="l" t="t" r="r" b="b"/>
            <a:pathLst>
              <a:path w="1739" h="1587">
                <a:moveTo>
                  <a:pt x="15" y="0"/>
                </a:moveTo>
                <a:cubicBezTo>
                  <a:pt x="7" y="503"/>
                  <a:pt x="0" y="1006"/>
                  <a:pt x="287" y="1270"/>
                </a:cubicBezTo>
                <a:cubicBezTo>
                  <a:pt x="574" y="1534"/>
                  <a:pt x="1156" y="1560"/>
                  <a:pt x="1739" y="15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3009960"/>
            <a:ext cx="169920" cy="268200"/>
          </a:xfrm>
          <a:custGeom>
            <a:avLst/>
            <a:gdLst/>
            <a:ahLst/>
            <a:rect l="l" t="t" r="r" b="b"/>
            <a:pathLst>
              <a:path w="473" h="745">
                <a:moveTo>
                  <a:pt x="3522" y="8384"/>
                </a:moveTo>
                <a:cubicBezTo>
                  <a:pt x="3522" y="8343"/>
                  <a:pt x="3510" y="8418"/>
                  <a:pt x="3522" y="8458"/>
                </a:cubicBezTo>
                <a:cubicBezTo>
                  <a:pt x="3540" y="8519"/>
                  <a:pt x="3583" y="8583"/>
                  <a:pt x="3621" y="8632"/>
                </a:cubicBezTo>
                <a:cubicBezTo>
                  <a:pt x="3704" y="8573"/>
                  <a:pt x="3697" y="8522"/>
                  <a:pt x="3746" y="8434"/>
                </a:cubicBezTo>
                <a:cubicBezTo>
                  <a:pt x="3768" y="8411"/>
                  <a:pt x="3773" y="8403"/>
                  <a:pt x="3795" y="8409"/>
                </a:cubicBezTo>
                <a:cubicBezTo>
                  <a:pt x="3902" y="8489"/>
                  <a:pt x="3951" y="8592"/>
                  <a:pt x="3969" y="8731"/>
                </a:cubicBezTo>
                <a:cubicBezTo>
                  <a:pt x="3983" y="8842"/>
                  <a:pt x="3981" y="8971"/>
                  <a:pt x="3894" y="9054"/>
                </a:cubicBezTo>
                <a:cubicBezTo>
                  <a:pt x="3819" y="9125"/>
                  <a:pt x="3707" y="9104"/>
                  <a:pt x="3621" y="9079"/>
                </a:cubicBezTo>
                <a:cubicBezTo>
                  <a:pt x="3554" y="9056"/>
                  <a:pt x="3536" y="9051"/>
                  <a:pt x="3497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3240" y="2911320"/>
            <a:ext cx="233640" cy="250920"/>
          </a:xfrm>
          <a:custGeom>
            <a:avLst/>
            <a:gdLst/>
            <a:ahLst/>
            <a:rect l="l" t="t" r="r" b="b"/>
            <a:pathLst>
              <a:path w="645" h="696">
                <a:moveTo>
                  <a:pt x="5507" y="8186"/>
                </a:moveTo>
                <a:cubicBezTo>
                  <a:pt x="5494" y="8133"/>
                  <a:pt x="5469" y="8136"/>
                  <a:pt x="5432" y="8111"/>
                </a:cubicBezTo>
                <a:cubicBezTo>
                  <a:pt x="5388" y="8082"/>
                  <a:pt x="5366" y="8086"/>
                  <a:pt x="5308" y="8086"/>
                </a:cubicBezTo>
                <a:cubicBezTo>
                  <a:pt x="5262" y="8086"/>
                  <a:pt x="5240" y="8085"/>
                  <a:pt x="5234" y="8136"/>
                </a:cubicBezTo>
                <a:cubicBezTo>
                  <a:pt x="5228" y="8186"/>
                  <a:pt x="5244" y="8241"/>
                  <a:pt x="5259" y="8285"/>
                </a:cubicBezTo>
                <a:cubicBezTo>
                  <a:pt x="5285" y="8362"/>
                  <a:pt x="5321" y="8429"/>
                  <a:pt x="5333" y="8508"/>
                </a:cubicBezTo>
                <a:cubicBezTo>
                  <a:pt x="5342" y="8568"/>
                  <a:pt x="5344" y="8662"/>
                  <a:pt x="5308" y="8706"/>
                </a:cubicBezTo>
                <a:cubicBezTo>
                  <a:pt x="5282" y="8738"/>
                  <a:pt x="5250" y="8778"/>
                  <a:pt x="5209" y="8781"/>
                </a:cubicBezTo>
                <a:cubicBezTo>
                  <a:pt x="5158" y="8785"/>
                  <a:pt x="5089" y="8784"/>
                  <a:pt x="5060" y="8731"/>
                </a:cubicBezTo>
                <a:cubicBezTo>
                  <a:pt x="5044" y="8701"/>
                  <a:pt x="5017" y="8639"/>
                  <a:pt x="5011" y="8607"/>
                </a:cubicBezTo>
                <a:cubicBezTo>
                  <a:pt x="4996" y="8527"/>
                  <a:pt x="5018" y="8456"/>
                  <a:pt x="5035" y="8384"/>
                </a:cubicBezTo>
                <a:cubicBezTo>
                  <a:pt x="5045" y="8343"/>
                  <a:pt x="5082" y="8292"/>
                  <a:pt x="5110" y="8260"/>
                </a:cubicBezTo>
                <a:cubicBezTo>
                  <a:pt x="5118" y="8252"/>
                  <a:pt x="5127" y="8243"/>
                  <a:pt x="5135" y="8235"/>
                </a:cubicBezTo>
                <a:cubicBezTo>
                  <a:pt x="5173" y="8248"/>
                  <a:pt x="5161" y="8276"/>
                  <a:pt x="5184" y="8310"/>
                </a:cubicBezTo>
                <a:cubicBezTo>
                  <a:pt x="5217" y="8358"/>
                  <a:pt x="5215" y="8403"/>
                  <a:pt x="5234" y="8458"/>
                </a:cubicBezTo>
                <a:cubicBezTo>
                  <a:pt x="5262" y="8542"/>
                  <a:pt x="5308" y="8590"/>
                  <a:pt x="5383" y="8632"/>
                </a:cubicBezTo>
                <a:cubicBezTo>
                  <a:pt x="5446" y="8667"/>
                  <a:pt x="5518" y="8671"/>
                  <a:pt x="5581" y="8632"/>
                </a:cubicBezTo>
                <a:cubicBezTo>
                  <a:pt x="5611" y="8602"/>
                  <a:pt x="5625" y="8591"/>
                  <a:pt x="565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6200" y="2768760"/>
            <a:ext cx="304920" cy="446040"/>
          </a:xfrm>
          <a:custGeom>
            <a:avLst/>
            <a:gdLst/>
            <a:ahLst/>
            <a:rect l="l" t="t" r="r" b="b"/>
            <a:pathLst>
              <a:path w="845" h="1242">
                <a:moveTo>
                  <a:pt x="7119" y="7739"/>
                </a:moveTo>
                <a:cubicBezTo>
                  <a:pt x="7126" y="7718"/>
                  <a:pt x="7144" y="7671"/>
                  <a:pt x="7144" y="7714"/>
                </a:cubicBezTo>
                <a:cubicBezTo>
                  <a:pt x="7144" y="7811"/>
                  <a:pt x="7156" y="7894"/>
                  <a:pt x="7169" y="7987"/>
                </a:cubicBezTo>
                <a:cubicBezTo>
                  <a:pt x="7169" y="8039"/>
                  <a:pt x="7170" y="8057"/>
                  <a:pt x="7193" y="8086"/>
                </a:cubicBezTo>
              </a:path>
              <a:path w="845" h="1242">
                <a:moveTo>
                  <a:pt x="7565" y="8161"/>
                </a:moveTo>
                <a:cubicBezTo>
                  <a:pt x="7552" y="8203"/>
                  <a:pt x="7517" y="8186"/>
                  <a:pt x="7466" y="8186"/>
                </a:cubicBezTo>
                <a:cubicBezTo>
                  <a:pt x="7391" y="8186"/>
                  <a:pt x="7315" y="8192"/>
                  <a:pt x="7243" y="8210"/>
                </a:cubicBezTo>
                <a:cubicBezTo>
                  <a:pt x="7147" y="8234"/>
                  <a:pt x="7064" y="8242"/>
                  <a:pt x="6970" y="8260"/>
                </a:cubicBezTo>
                <a:cubicBezTo>
                  <a:pt x="6909" y="8272"/>
                  <a:pt x="6855" y="8298"/>
                  <a:pt x="6796" y="8310"/>
                </a:cubicBezTo>
              </a:path>
              <a:path w="845" h="1242">
                <a:moveTo>
                  <a:pt x="7069" y="8632"/>
                </a:moveTo>
                <a:cubicBezTo>
                  <a:pt x="7045" y="8632"/>
                  <a:pt x="7037" y="8632"/>
                  <a:pt x="7045" y="8657"/>
                </a:cubicBezTo>
                <a:cubicBezTo>
                  <a:pt x="7061" y="8591"/>
                  <a:pt x="7104" y="8587"/>
                  <a:pt x="7169" y="8582"/>
                </a:cubicBezTo>
                <a:cubicBezTo>
                  <a:pt x="7226" y="8578"/>
                  <a:pt x="7282" y="8681"/>
                  <a:pt x="7293" y="8731"/>
                </a:cubicBezTo>
                <a:cubicBezTo>
                  <a:pt x="7303" y="8777"/>
                  <a:pt x="7307" y="8875"/>
                  <a:pt x="7268" y="8905"/>
                </a:cubicBezTo>
                <a:cubicBezTo>
                  <a:pt x="7218" y="8944"/>
                  <a:pt x="7153" y="8930"/>
                  <a:pt x="7094" y="8930"/>
                </a:cubicBezTo>
                <a:cubicBezTo>
                  <a:pt x="7050" y="8930"/>
                  <a:pt x="7055" y="8932"/>
                  <a:pt x="7020" y="8905"/>
                </a:cubicBezTo>
              </a:path>
              <a:path w="845" h="1242">
                <a:moveTo>
                  <a:pt x="7367" y="8558"/>
                </a:moveTo>
                <a:cubicBezTo>
                  <a:pt x="7408" y="8538"/>
                  <a:pt x="7424" y="8540"/>
                  <a:pt x="7417" y="8508"/>
                </a:cubicBezTo>
                <a:cubicBezTo>
                  <a:pt x="7370" y="8546"/>
                  <a:pt x="7308" y="8565"/>
                  <a:pt x="7293" y="8632"/>
                </a:cubicBezTo>
                <a:cubicBezTo>
                  <a:pt x="7277" y="8701"/>
                  <a:pt x="7339" y="8771"/>
                  <a:pt x="7392" y="8806"/>
                </a:cubicBezTo>
                <a:cubicBezTo>
                  <a:pt x="7455" y="8848"/>
                  <a:pt x="7552" y="8842"/>
                  <a:pt x="7615" y="8806"/>
                </a:cubicBezTo>
                <a:cubicBezTo>
                  <a:pt x="7623" y="8798"/>
                  <a:pt x="7632" y="8789"/>
                  <a:pt x="7640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68280" y="3786120"/>
            <a:ext cx="204840" cy="2509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3522" y="10567"/>
                </a:moveTo>
                <a:cubicBezTo>
                  <a:pt x="3522" y="10525"/>
                  <a:pt x="3522" y="10500"/>
                  <a:pt x="3522" y="10542"/>
                </a:cubicBezTo>
                <a:cubicBezTo>
                  <a:pt x="3522" y="10611"/>
                  <a:pt x="3511" y="10692"/>
                  <a:pt x="3572" y="10740"/>
                </a:cubicBezTo>
                <a:cubicBezTo>
                  <a:pt x="3651" y="10802"/>
                  <a:pt x="3693" y="10697"/>
                  <a:pt x="3721" y="10641"/>
                </a:cubicBezTo>
                <a:cubicBezTo>
                  <a:pt x="3743" y="10598"/>
                  <a:pt x="3747" y="10587"/>
                  <a:pt x="3770" y="10567"/>
                </a:cubicBezTo>
                <a:cubicBezTo>
                  <a:pt x="3892" y="10607"/>
                  <a:pt x="3958" y="10718"/>
                  <a:pt x="4018" y="10840"/>
                </a:cubicBezTo>
                <a:cubicBezTo>
                  <a:pt x="4051" y="10908"/>
                  <a:pt x="4145" y="11086"/>
                  <a:pt x="4068" y="11162"/>
                </a:cubicBezTo>
                <a:cubicBezTo>
                  <a:pt x="3997" y="11233"/>
                  <a:pt x="3877" y="11217"/>
                  <a:pt x="3795" y="11187"/>
                </a:cubicBezTo>
                <a:cubicBezTo>
                  <a:pt x="3729" y="11163"/>
                  <a:pt x="3709" y="11140"/>
                  <a:pt x="3671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5760" y="3714840"/>
            <a:ext cx="125280" cy="8100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4812" y="10319"/>
                </a:moveTo>
                <a:cubicBezTo>
                  <a:pt x="4768" y="10319"/>
                  <a:pt x="4727" y="10329"/>
                  <a:pt x="4688" y="10344"/>
                </a:cubicBezTo>
                <a:cubicBezTo>
                  <a:pt x="4633" y="10365"/>
                  <a:pt x="4597" y="10368"/>
                  <a:pt x="4539" y="10368"/>
                </a:cubicBezTo>
                <a:cubicBezTo>
                  <a:pt x="4531" y="10368"/>
                  <a:pt x="4522" y="10368"/>
                  <a:pt x="4514" y="10368"/>
                </a:cubicBezTo>
              </a:path>
              <a:path w="349" h="224">
                <a:moveTo>
                  <a:pt x="4862" y="10492"/>
                </a:moveTo>
                <a:cubicBezTo>
                  <a:pt x="4814" y="10504"/>
                  <a:pt x="4766" y="10533"/>
                  <a:pt x="4713" y="10542"/>
                </a:cubicBezTo>
                <a:cubicBezTo>
                  <a:pt x="4696" y="10542"/>
                  <a:pt x="4680" y="10542"/>
                  <a:pt x="4663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43080" y="3500280"/>
            <a:ext cx="250920" cy="447840"/>
          </a:xfrm>
          <a:custGeom>
            <a:avLst/>
            <a:gdLst/>
            <a:ahLst/>
            <a:rect l="l" t="t" r="r" b="b"/>
            <a:pathLst>
              <a:path w="696" h="1242">
                <a:moveTo>
                  <a:pt x="6052" y="9823"/>
                </a:moveTo>
                <a:cubicBezTo>
                  <a:pt x="6052" y="9790"/>
                  <a:pt x="6052" y="9756"/>
                  <a:pt x="6052" y="9723"/>
                </a:cubicBezTo>
                <a:cubicBezTo>
                  <a:pt x="6052" y="9889"/>
                  <a:pt x="6052" y="10054"/>
                  <a:pt x="6052" y="10220"/>
                </a:cubicBezTo>
              </a:path>
              <a:path w="696" h="1242">
                <a:moveTo>
                  <a:pt x="6251" y="9947"/>
                </a:moveTo>
                <a:cubicBezTo>
                  <a:pt x="6251" y="9906"/>
                  <a:pt x="6231" y="9966"/>
                  <a:pt x="6201" y="9996"/>
                </a:cubicBezTo>
                <a:cubicBezTo>
                  <a:pt x="6170" y="10026"/>
                  <a:pt x="6130" y="10079"/>
                  <a:pt x="6127" y="10120"/>
                </a:cubicBezTo>
                <a:cubicBezTo>
                  <a:pt x="6122" y="10186"/>
                  <a:pt x="6165" y="10190"/>
                  <a:pt x="6226" y="10195"/>
                </a:cubicBezTo>
                <a:cubicBezTo>
                  <a:pt x="6293" y="10201"/>
                  <a:pt x="6347" y="10180"/>
                  <a:pt x="6400" y="10220"/>
                </a:cubicBezTo>
              </a:path>
              <a:path w="696" h="1242">
                <a:moveTo>
                  <a:pt x="6623" y="10393"/>
                </a:moveTo>
                <a:cubicBezTo>
                  <a:pt x="6690" y="10393"/>
                  <a:pt x="6584" y="10393"/>
                  <a:pt x="6573" y="10393"/>
                </a:cubicBezTo>
                <a:cubicBezTo>
                  <a:pt x="6416" y="10393"/>
                  <a:pt x="6138" y="10334"/>
                  <a:pt x="6003" y="10418"/>
                </a:cubicBezTo>
                <a:cubicBezTo>
                  <a:pt x="5980" y="10441"/>
                  <a:pt x="5976" y="10449"/>
                  <a:pt x="5953" y="10443"/>
                </a:cubicBezTo>
              </a:path>
              <a:path w="696" h="1242">
                <a:moveTo>
                  <a:pt x="6028" y="10815"/>
                </a:moveTo>
                <a:cubicBezTo>
                  <a:pt x="6003" y="10815"/>
                  <a:pt x="5995" y="10815"/>
                  <a:pt x="6003" y="10790"/>
                </a:cubicBezTo>
                <a:cubicBezTo>
                  <a:pt x="6013" y="10759"/>
                  <a:pt x="6030" y="10733"/>
                  <a:pt x="6077" y="10716"/>
                </a:cubicBezTo>
                <a:cubicBezTo>
                  <a:pt x="6124" y="10699"/>
                  <a:pt x="6169" y="10737"/>
                  <a:pt x="6201" y="10765"/>
                </a:cubicBezTo>
                <a:cubicBezTo>
                  <a:pt x="6244" y="10804"/>
                  <a:pt x="6234" y="10852"/>
                  <a:pt x="6201" y="10889"/>
                </a:cubicBezTo>
                <a:cubicBezTo>
                  <a:pt x="6167" y="10927"/>
                  <a:pt x="6126" y="10914"/>
                  <a:pt x="6077" y="10914"/>
                </a:cubicBezTo>
                <a:cubicBezTo>
                  <a:pt x="6036" y="10914"/>
                  <a:pt x="6028" y="10914"/>
                  <a:pt x="6003" y="10914"/>
                </a:cubicBezTo>
              </a:path>
              <a:path w="696" h="1242">
                <a:moveTo>
                  <a:pt x="6350" y="10716"/>
                </a:moveTo>
                <a:cubicBezTo>
                  <a:pt x="6394" y="10694"/>
                  <a:pt x="6405" y="10691"/>
                  <a:pt x="6424" y="10666"/>
                </a:cubicBezTo>
                <a:cubicBezTo>
                  <a:pt x="6365" y="10681"/>
                  <a:pt x="6361" y="10717"/>
                  <a:pt x="6325" y="10765"/>
                </a:cubicBezTo>
                <a:cubicBezTo>
                  <a:pt x="6287" y="10815"/>
                  <a:pt x="6299" y="10892"/>
                  <a:pt x="6350" y="10939"/>
                </a:cubicBezTo>
                <a:cubicBezTo>
                  <a:pt x="6410" y="10995"/>
                  <a:pt x="6510" y="10960"/>
                  <a:pt x="6573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inversely proportional to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1. Find y when x =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5320" y="2982960"/>
            <a:ext cx="669960" cy="392040"/>
          </a:xfrm>
          <a:custGeom>
            <a:avLst/>
            <a:gdLst/>
            <a:ahLst/>
            <a:rect l="l" t="t" r="r" b="b"/>
            <a:pathLst>
              <a:path w="1861" h="1092">
                <a:moveTo>
                  <a:pt x="5035" y="8582"/>
                </a:moveTo>
                <a:cubicBezTo>
                  <a:pt x="5035" y="8549"/>
                  <a:pt x="5035" y="8516"/>
                  <a:pt x="5035" y="8483"/>
                </a:cubicBezTo>
                <a:cubicBezTo>
                  <a:pt x="4998" y="8509"/>
                  <a:pt x="4988" y="8570"/>
                  <a:pt x="4986" y="8632"/>
                </a:cubicBezTo>
                <a:cubicBezTo>
                  <a:pt x="4984" y="8705"/>
                  <a:pt x="4992" y="8880"/>
                  <a:pt x="5110" y="8880"/>
                </a:cubicBezTo>
                <a:cubicBezTo>
                  <a:pt x="5238" y="8880"/>
                  <a:pt x="5232" y="8744"/>
                  <a:pt x="5308" y="8682"/>
                </a:cubicBezTo>
                <a:cubicBezTo>
                  <a:pt x="5421" y="8589"/>
                  <a:pt x="5528" y="8805"/>
                  <a:pt x="5556" y="8880"/>
                </a:cubicBezTo>
                <a:cubicBezTo>
                  <a:pt x="5597" y="8990"/>
                  <a:pt x="5644" y="9191"/>
                  <a:pt x="5581" y="9302"/>
                </a:cubicBezTo>
                <a:cubicBezTo>
                  <a:pt x="5534" y="9384"/>
                  <a:pt x="5341" y="9403"/>
                  <a:pt x="5259" y="9376"/>
                </a:cubicBezTo>
                <a:cubicBezTo>
                  <a:pt x="5189" y="9331"/>
                  <a:pt x="5169" y="9319"/>
                  <a:pt x="5135" y="9277"/>
                </a:cubicBezTo>
              </a:path>
              <a:path w="1861" h="1092">
                <a:moveTo>
                  <a:pt x="6697" y="8384"/>
                </a:moveTo>
                <a:cubicBezTo>
                  <a:pt x="6708" y="8417"/>
                  <a:pt x="6711" y="8407"/>
                  <a:pt x="6747" y="8434"/>
                </a:cubicBezTo>
                <a:cubicBezTo>
                  <a:pt x="6737" y="8404"/>
                  <a:pt x="6704" y="8392"/>
                  <a:pt x="6672" y="8359"/>
                </a:cubicBezTo>
                <a:cubicBezTo>
                  <a:pt x="6640" y="8327"/>
                  <a:pt x="6590" y="8290"/>
                  <a:pt x="6548" y="8285"/>
                </a:cubicBezTo>
                <a:cubicBezTo>
                  <a:pt x="6504" y="8280"/>
                  <a:pt x="6481" y="8282"/>
                  <a:pt x="6449" y="8310"/>
                </a:cubicBezTo>
                <a:cubicBezTo>
                  <a:pt x="6423" y="8333"/>
                  <a:pt x="6404" y="8401"/>
                  <a:pt x="6400" y="8434"/>
                </a:cubicBezTo>
                <a:cubicBezTo>
                  <a:pt x="6384" y="8584"/>
                  <a:pt x="6420" y="8745"/>
                  <a:pt x="6375" y="8880"/>
                </a:cubicBezTo>
                <a:cubicBezTo>
                  <a:pt x="6362" y="8918"/>
                  <a:pt x="6345" y="8905"/>
                  <a:pt x="6300" y="8905"/>
                </a:cubicBezTo>
                <a:cubicBezTo>
                  <a:pt x="6247" y="8905"/>
                  <a:pt x="6239" y="8893"/>
                  <a:pt x="6201" y="8855"/>
                </a:cubicBezTo>
                <a:cubicBezTo>
                  <a:pt x="6164" y="8818"/>
                  <a:pt x="6178" y="8770"/>
                  <a:pt x="6152" y="8731"/>
                </a:cubicBezTo>
                <a:cubicBezTo>
                  <a:pt x="6124" y="8688"/>
                  <a:pt x="6127" y="8659"/>
                  <a:pt x="6127" y="8607"/>
                </a:cubicBezTo>
                <a:cubicBezTo>
                  <a:pt x="6127" y="8557"/>
                  <a:pt x="6138" y="8549"/>
                  <a:pt x="6152" y="8508"/>
                </a:cubicBezTo>
                <a:cubicBezTo>
                  <a:pt x="6160" y="8483"/>
                  <a:pt x="6188" y="8440"/>
                  <a:pt x="6201" y="8434"/>
                </a:cubicBezTo>
                <a:cubicBezTo>
                  <a:pt x="6240" y="8415"/>
                  <a:pt x="6323" y="8434"/>
                  <a:pt x="6350" y="8458"/>
                </a:cubicBezTo>
                <a:cubicBezTo>
                  <a:pt x="6371" y="8477"/>
                  <a:pt x="6416" y="8574"/>
                  <a:pt x="6424" y="8607"/>
                </a:cubicBezTo>
                <a:cubicBezTo>
                  <a:pt x="6441" y="8680"/>
                  <a:pt x="6464" y="8774"/>
                  <a:pt x="6524" y="8830"/>
                </a:cubicBezTo>
                <a:cubicBezTo>
                  <a:pt x="6579" y="8882"/>
                  <a:pt x="6653" y="8880"/>
                  <a:pt x="6722" y="8880"/>
                </a:cubicBezTo>
                <a:cubicBezTo>
                  <a:pt x="6800" y="8880"/>
                  <a:pt x="6804" y="8865"/>
                  <a:pt x="6846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46240" y="2820960"/>
            <a:ext cx="403560" cy="509760"/>
          </a:xfrm>
          <a:custGeom>
            <a:avLst/>
            <a:gdLst/>
            <a:ahLst/>
            <a:rect l="l" t="t" r="r" b="b"/>
            <a:pathLst>
              <a:path w="1117" h="1415">
                <a:moveTo>
                  <a:pt x="8607" y="7863"/>
                </a:moveTo>
                <a:cubicBezTo>
                  <a:pt x="8607" y="7821"/>
                  <a:pt x="8607" y="7896"/>
                  <a:pt x="8607" y="7938"/>
                </a:cubicBezTo>
                <a:cubicBezTo>
                  <a:pt x="8607" y="8024"/>
                  <a:pt x="8644" y="8105"/>
                  <a:pt x="8657" y="8186"/>
                </a:cubicBezTo>
                <a:cubicBezTo>
                  <a:pt x="8657" y="8227"/>
                  <a:pt x="8657" y="8235"/>
                  <a:pt x="8657" y="8260"/>
                </a:cubicBezTo>
              </a:path>
              <a:path w="1117" h="1415">
                <a:moveTo>
                  <a:pt x="9277" y="8458"/>
                </a:moveTo>
                <a:cubicBezTo>
                  <a:pt x="9326" y="8458"/>
                  <a:pt x="9255" y="8481"/>
                  <a:pt x="9227" y="8483"/>
                </a:cubicBezTo>
                <a:cubicBezTo>
                  <a:pt x="9118" y="8490"/>
                  <a:pt x="9014" y="8505"/>
                  <a:pt x="8905" y="8508"/>
                </a:cubicBezTo>
                <a:cubicBezTo>
                  <a:pt x="8754" y="8512"/>
                  <a:pt x="8605" y="8526"/>
                  <a:pt x="8458" y="8558"/>
                </a:cubicBezTo>
                <a:cubicBezTo>
                  <a:pt x="8363" y="8579"/>
                  <a:pt x="8299" y="8629"/>
                  <a:pt x="8210" y="8657"/>
                </a:cubicBezTo>
                <a:cubicBezTo>
                  <a:pt x="8186" y="8657"/>
                  <a:pt x="8178" y="8657"/>
                  <a:pt x="8186" y="8682"/>
                </a:cubicBezTo>
              </a:path>
              <a:path w="1117" h="1415">
                <a:moveTo>
                  <a:pt x="8310" y="9029"/>
                </a:moveTo>
                <a:cubicBezTo>
                  <a:pt x="8302" y="9029"/>
                  <a:pt x="8293" y="9029"/>
                  <a:pt x="8285" y="9029"/>
                </a:cubicBezTo>
                <a:cubicBezTo>
                  <a:pt x="8285" y="8979"/>
                  <a:pt x="8290" y="8979"/>
                  <a:pt x="8334" y="8954"/>
                </a:cubicBezTo>
                <a:cubicBezTo>
                  <a:pt x="8424" y="8903"/>
                  <a:pt x="8459" y="8934"/>
                  <a:pt x="8533" y="8979"/>
                </a:cubicBezTo>
                <a:cubicBezTo>
                  <a:pt x="8620" y="9032"/>
                  <a:pt x="8607" y="9080"/>
                  <a:pt x="8607" y="9178"/>
                </a:cubicBezTo>
                <a:cubicBezTo>
                  <a:pt x="8607" y="9244"/>
                  <a:pt x="8534" y="9249"/>
                  <a:pt x="8483" y="9252"/>
                </a:cubicBezTo>
                <a:cubicBezTo>
                  <a:pt x="8405" y="9256"/>
                  <a:pt x="8343" y="9224"/>
                  <a:pt x="8285" y="9178"/>
                </a:cubicBezTo>
              </a:path>
              <a:path w="1117" h="1415">
                <a:moveTo>
                  <a:pt x="8632" y="8905"/>
                </a:moveTo>
                <a:cubicBezTo>
                  <a:pt x="8649" y="8897"/>
                  <a:pt x="8665" y="8888"/>
                  <a:pt x="8682" y="8880"/>
                </a:cubicBezTo>
                <a:cubicBezTo>
                  <a:pt x="8660" y="8908"/>
                  <a:pt x="8580" y="8990"/>
                  <a:pt x="8582" y="9029"/>
                </a:cubicBezTo>
                <a:cubicBezTo>
                  <a:pt x="8585" y="9103"/>
                  <a:pt x="8645" y="9171"/>
                  <a:pt x="8706" y="9178"/>
                </a:cubicBezTo>
                <a:cubicBezTo>
                  <a:pt x="8765" y="9185"/>
                  <a:pt x="8789" y="9162"/>
                  <a:pt x="8830" y="9128"/>
                </a:cubicBezTo>
              </a:path>
              <a:path w="1117" h="1415">
                <a:moveTo>
                  <a:pt x="8979" y="8756"/>
                </a:moveTo>
                <a:cubicBezTo>
                  <a:pt x="8979" y="8722"/>
                  <a:pt x="8966" y="8676"/>
                  <a:pt x="9004" y="8657"/>
                </a:cubicBezTo>
                <a:cubicBezTo>
                  <a:pt x="9027" y="8646"/>
                  <a:pt x="9053" y="8638"/>
                  <a:pt x="9079" y="8632"/>
                </a:cubicBezTo>
                <a:cubicBezTo>
                  <a:pt x="9079" y="8731"/>
                  <a:pt x="9079" y="8831"/>
                  <a:pt x="9079" y="8930"/>
                </a:cubicBezTo>
                <a:cubicBezTo>
                  <a:pt x="9118" y="8930"/>
                  <a:pt x="9199" y="8922"/>
                  <a:pt x="9227" y="8905"/>
                </a:cubicBezTo>
                <a:cubicBezTo>
                  <a:pt x="9244" y="8888"/>
                  <a:pt x="9260" y="8872"/>
                  <a:pt x="9277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4240" y="3544920"/>
            <a:ext cx="1116000" cy="482400"/>
          </a:xfrm>
          <a:custGeom>
            <a:avLst/>
            <a:gdLst/>
            <a:ahLst/>
            <a:rect l="l" t="t" r="r" b="b"/>
            <a:pathLst>
              <a:path w="3101" h="1341">
                <a:moveTo>
                  <a:pt x="5259" y="10517"/>
                </a:moveTo>
                <a:cubicBezTo>
                  <a:pt x="5259" y="10476"/>
                  <a:pt x="5259" y="10468"/>
                  <a:pt x="5259" y="10443"/>
                </a:cubicBezTo>
                <a:cubicBezTo>
                  <a:pt x="5223" y="10455"/>
                  <a:pt x="5221" y="10519"/>
                  <a:pt x="5234" y="10567"/>
                </a:cubicBezTo>
                <a:cubicBezTo>
                  <a:pt x="5255" y="10641"/>
                  <a:pt x="5330" y="10696"/>
                  <a:pt x="5407" y="10666"/>
                </a:cubicBezTo>
                <a:cubicBezTo>
                  <a:pt x="5454" y="10648"/>
                  <a:pt x="5484" y="10550"/>
                  <a:pt x="5556" y="10592"/>
                </a:cubicBezTo>
                <a:cubicBezTo>
                  <a:pt x="5632" y="10636"/>
                  <a:pt x="5689" y="10832"/>
                  <a:pt x="5680" y="10914"/>
                </a:cubicBezTo>
                <a:cubicBezTo>
                  <a:pt x="5666" y="11043"/>
                  <a:pt x="5594" y="11059"/>
                  <a:pt x="5482" y="11063"/>
                </a:cubicBezTo>
                <a:cubicBezTo>
                  <a:pt x="5406" y="11066"/>
                  <a:pt x="5375" y="11063"/>
                  <a:pt x="5308" y="11038"/>
                </a:cubicBezTo>
              </a:path>
              <a:path w="3101" h="1341">
                <a:moveTo>
                  <a:pt x="6350" y="10368"/>
                </a:moveTo>
                <a:cubicBezTo>
                  <a:pt x="6358" y="10368"/>
                  <a:pt x="6367" y="10368"/>
                  <a:pt x="6375" y="10368"/>
                </a:cubicBezTo>
                <a:cubicBezTo>
                  <a:pt x="6362" y="10332"/>
                  <a:pt x="6344" y="10344"/>
                  <a:pt x="6300" y="10344"/>
                </a:cubicBezTo>
                <a:cubicBezTo>
                  <a:pt x="6256" y="10344"/>
                  <a:pt x="6223" y="10368"/>
                  <a:pt x="6176" y="10368"/>
                </a:cubicBezTo>
              </a:path>
              <a:path w="3101" h="1341">
                <a:moveTo>
                  <a:pt x="6375" y="10443"/>
                </a:moveTo>
                <a:cubicBezTo>
                  <a:pt x="6383" y="10443"/>
                  <a:pt x="6392" y="10443"/>
                  <a:pt x="6400" y="10443"/>
                </a:cubicBezTo>
                <a:cubicBezTo>
                  <a:pt x="6353" y="10478"/>
                  <a:pt x="6330" y="10451"/>
                  <a:pt x="6276" y="10468"/>
                </a:cubicBezTo>
                <a:cubicBezTo>
                  <a:pt x="6235" y="10488"/>
                  <a:pt x="6229" y="10496"/>
                  <a:pt x="6201" y="10492"/>
                </a:cubicBezTo>
              </a:path>
              <a:path w="3101" h="1341">
                <a:moveTo>
                  <a:pt x="7764" y="10046"/>
                </a:moveTo>
                <a:cubicBezTo>
                  <a:pt x="7764" y="9980"/>
                  <a:pt x="7764" y="9913"/>
                  <a:pt x="7764" y="9847"/>
                </a:cubicBezTo>
                <a:cubicBezTo>
                  <a:pt x="7764" y="10029"/>
                  <a:pt x="7764" y="10211"/>
                  <a:pt x="7764" y="10393"/>
                </a:cubicBezTo>
              </a:path>
              <a:path w="3101" h="1341">
                <a:moveTo>
                  <a:pt x="7962" y="10071"/>
                </a:moveTo>
                <a:cubicBezTo>
                  <a:pt x="7990" y="10071"/>
                  <a:pt x="8001" y="10069"/>
                  <a:pt x="8012" y="10046"/>
                </a:cubicBezTo>
                <a:cubicBezTo>
                  <a:pt x="7997" y="10106"/>
                  <a:pt x="7962" y="10108"/>
                  <a:pt x="7913" y="10145"/>
                </a:cubicBezTo>
                <a:cubicBezTo>
                  <a:pt x="7876" y="10173"/>
                  <a:pt x="7843" y="10246"/>
                  <a:pt x="7863" y="10294"/>
                </a:cubicBezTo>
                <a:cubicBezTo>
                  <a:pt x="7877" y="10327"/>
                  <a:pt x="7931" y="10365"/>
                  <a:pt x="7962" y="10368"/>
                </a:cubicBezTo>
                <a:cubicBezTo>
                  <a:pt x="8015" y="10374"/>
                  <a:pt x="8047" y="10373"/>
                  <a:pt x="8086" y="10344"/>
                </a:cubicBezTo>
              </a:path>
              <a:path w="3101" h="1341">
                <a:moveTo>
                  <a:pt x="8285" y="10517"/>
                </a:moveTo>
                <a:cubicBezTo>
                  <a:pt x="8310" y="10517"/>
                  <a:pt x="8318" y="10517"/>
                  <a:pt x="8334" y="10517"/>
                </a:cubicBezTo>
                <a:cubicBezTo>
                  <a:pt x="8190" y="10517"/>
                  <a:pt x="8054" y="10528"/>
                  <a:pt x="7913" y="10542"/>
                </a:cubicBezTo>
                <a:cubicBezTo>
                  <a:pt x="7811" y="10552"/>
                  <a:pt x="7712" y="10577"/>
                  <a:pt x="7615" y="10592"/>
                </a:cubicBezTo>
                <a:cubicBezTo>
                  <a:pt x="7570" y="10592"/>
                  <a:pt x="7557" y="10588"/>
                  <a:pt x="7541" y="10616"/>
                </a:cubicBezTo>
              </a:path>
              <a:path w="3101" h="1341">
                <a:moveTo>
                  <a:pt x="7541" y="11038"/>
                </a:moveTo>
                <a:cubicBezTo>
                  <a:pt x="7513" y="11038"/>
                  <a:pt x="7502" y="11036"/>
                  <a:pt x="7491" y="11013"/>
                </a:cubicBezTo>
                <a:cubicBezTo>
                  <a:pt x="7540" y="10965"/>
                  <a:pt x="7546" y="10964"/>
                  <a:pt x="7615" y="10964"/>
                </a:cubicBezTo>
                <a:cubicBezTo>
                  <a:pt x="7660" y="10964"/>
                  <a:pt x="7704" y="11020"/>
                  <a:pt x="7714" y="11063"/>
                </a:cubicBezTo>
                <a:cubicBezTo>
                  <a:pt x="7727" y="11118"/>
                  <a:pt x="7695" y="11183"/>
                  <a:pt x="7640" y="11187"/>
                </a:cubicBezTo>
                <a:cubicBezTo>
                  <a:pt x="7600" y="11190"/>
                  <a:pt x="7556" y="11187"/>
                  <a:pt x="7516" y="11187"/>
                </a:cubicBezTo>
              </a:path>
              <a:path w="3101" h="1341">
                <a:moveTo>
                  <a:pt x="7789" y="10964"/>
                </a:moveTo>
                <a:cubicBezTo>
                  <a:pt x="7774" y="10935"/>
                  <a:pt x="7740" y="10973"/>
                  <a:pt x="7714" y="11013"/>
                </a:cubicBezTo>
                <a:cubicBezTo>
                  <a:pt x="7686" y="11056"/>
                  <a:pt x="7669" y="11142"/>
                  <a:pt x="7739" y="11162"/>
                </a:cubicBezTo>
                <a:cubicBezTo>
                  <a:pt x="7784" y="11162"/>
                  <a:pt x="7797" y="11166"/>
                  <a:pt x="7813" y="11137"/>
                </a:cubicBezTo>
              </a:path>
              <a:path w="3101" h="1341">
                <a:moveTo>
                  <a:pt x="8086" y="10864"/>
                </a:moveTo>
                <a:cubicBezTo>
                  <a:pt x="8065" y="10821"/>
                  <a:pt x="8061" y="10809"/>
                  <a:pt x="8037" y="10790"/>
                </a:cubicBezTo>
                <a:cubicBezTo>
                  <a:pt x="8076" y="10777"/>
                  <a:pt x="8075" y="10736"/>
                  <a:pt x="8136" y="10716"/>
                </a:cubicBezTo>
                <a:cubicBezTo>
                  <a:pt x="8161" y="10716"/>
                  <a:pt x="8169" y="10716"/>
                  <a:pt x="8186" y="10716"/>
                </a:cubicBezTo>
                <a:cubicBezTo>
                  <a:pt x="8186" y="10778"/>
                  <a:pt x="8166" y="10806"/>
                  <a:pt x="8161" y="10864"/>
                </a:cubicBezTo>
                <a:cubicBezTo>
                  <a:pt x="8159" y="10892"/>
                  <a:pt x="8149" y="10952"/>
                  <a:pt x="8186" y="10964"/>
                </a:cubicBezTo>
                <a:cubicBezTo>
                  <a:pt x="8202" y="10964"/>
                  <a:pt x="8219" y="10964"/>
                  <a:pt x="8235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43080" y="433080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7863" y="12030"/>
                </a:moveTo>
                <a:cubicBezTo>
                  <a:pt x="7863" y="12100"/>
                  <a:pt x="7878" y="12135"/>
                  <a:pt x="7888" y="12204"/>
                </a:cubicBezTo>
                <a:cubicBezTo>
                  <a:pt x="7900" y="12284"/>
                  <a:pt x="7890" y="12357"/>
                  <a:pt x="7913" y="12427"/>
                </a:cubicBezTo>
                <a:cubicBezTo>
                  <a:pt x="7913" y="12435"/>
                  <a:pt x="7913" y="12444"/>
                  <a:pt x="7913" y="12452"/>
                </a:cubicBezTo>
              </a:path>
              <a:path w="2655" h="1539">
                <a:moveTo>
                  <a:pt x="8062" y="12204"/>
                </a:moveTo>
                <a:cubicBezTo>
                  <a:pt x="8082" y="12163"/>
                  <a:pt x="8079" y="12146"/>
                  <a:pt x="8111" y="12154"/>
                </a:cubicBezTo>
                <a:cubicBezTo>
                  <a:pt x="8055" y="12211"/>
                  <a:pt x="8031" y="12265"/>
                  <a:pt x="7987" y="12328"/>
                </a:cubicBezTo>
                <a:cubicBezTo>
                  <a:pt x="7975" y="12345"/>
                  <a:pt x="7936" y="12429"/>
                  <a:pt x="7962" y="12452"/>
                </a:cubicBezTo>
                <a:cubicBezTo>
                  <a:pt x="8005" y="12490"/>
                  <a:pt x="8069" y="12477"/>
                  <a:pt x="8111" y="12452"/>
                </a:cubicBezTo>
                <a:cubicBezTo>
                  <a:pt x="8149" y="12429"/>
                  <a:pt x="8162" y="12427"/>
                  <a:pt x="8210" y="12427"/>
                </a:cubicBezTo>
              </a:path>
              <a:path w="2655" h="1539">
                <a:moveTo>
                  <a:pt x="8607" y="12650"/>
                </a:moveTo>
                <a:cubicBezTo>
                  <a:pt x="8594" y="12614"/>
                  <a:pt x="8577" y="12626"/>
                  <a:pt x="8533" y="12626"/>
                </a:cubicBezTo>
                <a:cubicBezTo>
                  <a:pt x="8444" y="12626"/>
                  <a:pt x="8373" y="12641"/>
                  <a:pt x="8285" y="12650"/>
                </a:cubicBezTo>
                <a:cubicBezTo>
                  <a:pt x="8176" y="12661"/>
                  <a:pt x="8070" y="12686"/>
                  <a:pt x="7962" y="12700"/>
                </a:cubicBezTo>
                <a:cubicBezTo>
                  <a:pt x="7894" y="12709"/>
                  <a:pt x="7826" y="12726"/>
                  <a:pt x="7764" y="12750"/>
                </a:cubicBezTo>
                <a:cubicBezTo>
                  <a:pt x="7723" y="12770"/>
                  <a:pt x="7717" y="12778"/>
                  <a:pt x="7689" y="12774"/>
                </a:cubicBezTo>
              </a:path>
              <a:path w="2655" h="1539">
                <a:moveTo>
                  <a:pt x="7987" y="12898"/>
                </a:moveTo>
                <a:cubicBezTo>
                  <a:pt x="8012" y="12898"/>
                  <a:pt x="8020" y="12898"/>
                  <a:pt x="8012" y="12874"/>
                </a:cubicBezTo>
                <a:cubicBezTo>
                  <a:pt x="8012" y="12920"/>
                  <a:pt x="8000" y="12980"/>
                  <a:pt x="7987" y="13022"/>
                </a:cubicBezTo>
                <a:cubicBezTo>
                  <a:pt x="7963" y="13103"/>
                  <a:pt x="7951" y="13140"/>
                  <a:pt x="7987" y="13221"/>
                </a:cubicBezTo>
                <a:cubicBezTo>
                  <a:pt x="8016" y="13286"/>
                  <a:pt x="8065" y="13291"/>
                  <a:pt x="8136" y="13295"/>
                </a:cubicBezTo>
                <a:cubicBezTo>
                  <a:pt x="8204" y="13299"/>
                  <a:pt x="8263" y="13271"/>
                  <a:pt x="8334" y="13271"/>
                </a:cubicBezTo>
                <a:cubicBezTo>
                  <a:pt x="8366" y="13271"/>
                  <a:pt x="8362" y="13292"/>
                  <a:pt x="8384" y="13320"/>
                </a:cubicBezTo>
              </a:path>
              <a:path w="2655" h="1539">
                <a:moveTo>
                  <a:pt x="8186" y="13271"/>
                </a:moveTo>
                <a:cubicBezTo>
                  <a:pt x="8186" y="13355"/>
                  <a:pt x="8179" y="13416"/>
                  <a:pt x="8161" y="13494"/>
                </a:cubicBezTo>
                <a:cubicBezTo>
                  <a:pt x="8161" y="13527"/>
                  <a:pt x="8161" y="13543"/>
                  <a:pt x="8161" y="13568"/>
                </a:cubicBezTo>
              </a:path>
              <a:path w="2655" h="1539">
                <a:moveTo>
                  <a:pt x="7069" y="12551"/>
                </a:moveTo>
                <a:cubicBezTo>
                  <a:pt x="7077" y="12551"/>
                  <a:pt x="7086" y="12551"/>
                  <a:pt x="7094" y="12551"/>
                </a:cubicBezTo>
                <a:cubicBezTo>
                  <a:pt x="7053" y="12582"/>
                  <a:pt x="7015" y="12577"/>
                  <a:pt x="6970" y="12601"/>
                </a:cubicBezTo>
                <a:cubicBezTo>
                  <a:pt x="6918" y="12629"/>
                  <a:pt x="6871" y="12660"/>
                  <a:pt x="6821" y="12675"/>
                </a:cubicBezTo>
                <a:cubicBezTo>
                  <a:pt x="6813" y="12675"/>
                  <a:pt x="6804" y="12675"/>
                  <a:pt x="6796" y="12675"/>
                </a:cubicBezTo>
              </a:path>
              <a:path w="2655" h="1539">
                <a:moveTo>
                  <a:pt x="7020" y="12650"/>
                </a:moveTo>
                <a:cubicBezTo>
                  <a:pt x="7063" y="12708"/>
                  <a:pt x="7039" y="12696"/>
                  <a:pt x="6995" y="12725"/>
                </a:cubicBezTo>
                <a:cubicBezTo>
                  <a:pt x="6967" y="12753"/>
                  <a:pt x="6954" y="12762"/>
                  <a:pt x="6921" y="12750"/>
                </a:cubicBezTo>
              </a:path>
              <a:path w="2655" h="1539">
                <a:moveTo>
                  <a:pt x="8210" y="13072"/>
                </a:moveTo>
                <a:cubicBezTo>
                  <a:pt x="8210" y="13155"/>
                  <a:pt x="8210" y="13237"/>
                  <a:pt x="8210" y="13320"/>
                </a:cubicBezTo>
              </a:path>
              <a:path w="2655" h="1539">
                <a:moveTo>
                  <a:pt x="5953" y="12576"/>
                </a:moveTo>
                <a:cubicBezTo>
                  <a:pt x="5969" y="12657"/>
                  <a:pt x="5978" y="12709"/>
                  <a:pt x="5978" y="12799"/>
                </a:cubicBezTo>
                <a:cubicBezTo>
                  <a:pt x="5978" y="12901"/>
                  <a:pt x="6003" y="12994"/>
                  <a:pt x="6003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52800" y="5170320"/>
            <a:ext cx="758520" cy="23184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6003" y="14610"/>
                </a:moveTo>
                <a:cubicBezTo>
                  <a:pt x="6003" y="14585"/>
                  <a:pt x="6003" y="14577"/>
                  <a:pt x="6003" y="14560"/>
                </a:cubicBezTo>
                <a:cubicBezTo>
                  <a:pt x="5990" y="14640"/>
                  <a:pt x="5978" y="14701"/>
                  <a:pt x="5978" y="14784"/>
                </a:cubicBezTo>
                <a:cubicBezTo>
                  <a:pt x="5978" y="14853"/>
                  <a:pt x="6003" y="14912"/>
                  <a:pt x="6003" y="14982"/>
                </a:cubicBezTo>
                <a:cubicBezTo>
                  <a:pt x="6003" y="14990"/>
                  <a:pt x="6003" y="14999"/>
                  <a:pt x="6003" y="15007"/>
                </a:cubicBezTo>
              </a:path>
              <a:path w="2109" h="646">
                <a:moveTo>
                  <a:pt x="6176" y="14734"/>
                </a:moveTo>
                <a:cubicBezTo>
                  <a:pt x="6165" y="14770"/>
                  <a:pt x="6122" y="14763"/>
                  <a:pt x="6102" y="14808"/>
                </a:cubicBezTo>
                <a:cubicBezTo>
                  <a:pt x="6092" y="14830"/>
                  <a:pt x="6060" y="14903"/>
                  <a:pt x="6077" y="14932"/>
                </a:cubicBezTo>
                <a:cubicBezTo>
                  <a:pt x="6100" y="14972"/>
                  <a:pt x="6182" y="15000"/>
                  <a:pt x="6226" y="14982"/>
                </a:cubicBezTo>
                <a:cubicBezTo>
                  <a:pt x="6252" y="14971"/>
                  <a:pt x="6277" y="14950"/>
                  <a:pt x="6300" y="14932"/>
                </a:cubicBezTo>
              </a:path>
              <a:path w="2109" h="646">
                <a:moveTo>
                  <a:pt x="6871" y="14684"/>
                </a:moveTo>
                <a:cubicBezTo>
                  <a:pt x="6821" y="14684"/>
                  <a:pt x="6772" y="14684"/>
                  <a:pt x="6722" y="14684"/>
                </a:cubicBezTo>
              </a:path>
              <a:path w="2109" h="646">
                <a:moveTo>
                  <a:pt x="6921" y="14784"/>
                </a:moveTo>
                <a:cubicBezTo>
                  <a:pt x="6921" y="14792"/>
                  <a:pt x="6921" y="14800"/>
                  <a:pt x="6921" y="14808"/>
                </a:cubicBezTo>
                <a:cubicBezTo>
                  <a:pt x="6866" y="14808"/>
                  <a:pt x="6827" y="14829"/>
                  <a:pt x="6772" y="14833"/>
                </a:cubicBezTo>
                <a:cubicBezTo>
                  <a:pt x="6764" y="14833"/>
                  <a:pt x="6755" y="14833"/>
                  <a:pt x="6747" y="14833"/>
                </a:cubicBezTo>
              </a:path>
              <a:path w="2109" h="646">
                <a:moveTo>
                  <a:pt x="7417" y="14461"/>
                </a:moveTo>
                <a:cubicBezTo>
                  <a:pt x="7417" y="14406"/>
                  <a:pt x="7436" y="14428"/>
                  <a:pt x="7441" y="14387"/>
                </a:cubicBezTo>
                <a:cubicBezTo>
                  <a:pt x="7441" y="14362"/>
                  <a:pt x="7441" y="14354"/>
                  <a:pt x="7466" y="14362"/>
                </a:cubicBezTo>
                <a:cubicBezTo>
                  <a:pt x="7466" y="14418"/>
                  <a:pt x="7448" y="14460"/>
                  <a:pt x="7441" y="14511"/>
                </a:cubicBezTo>
                <a:cubicBezTo>
                  <a:pt x="7430" y="14593"/>
                  <a:pt x="7433" y="14685"/>
                  <a:pt x="7466" y="14759"/>
                </a:cubicBezTo>
                <a:cubicBezTo>
                  <a:pt x="7499" y="14833"/>
                  <a:pt x="7613" y="14822"/>
                  <a:pt x="7689" y="14808"/>
                </a:cubicBezTo>
                <a:cubicBezTo>
                  <a:pt x="7781" y="14792"/>
                  <a:pt x="7869" y="14766"/>
                  <a:pt x="7962" y="14759"/>
                </a:cubicBezTo>
                <a:cubicBezTo>
                  <a:pt x="7971" y="14758"/>
                  <a:pt x="8081" y="14778"/>
                  <a:pt x="8086" y="14784"/>
                </a:cubicBezTo>
                <a:cubicBezTo>
                  <a:pt x="8115" y="14819"/>
                  <a:pt x="8046" y="14808"/>
                  <a:pt x="8037" y="14808"/>
                </a:cubicBezTo>
              </a:path>
              <a:path w="2109" h="646">
                <a:moveTo>
                  <a:pt x="7838" y="14635"/>
                </a:moveTo>
                <a:cubicBezTo>
                  <a:pt x="7789" y="14667"/>
                  <a:pt x="7826" y="14740"/>
                  <a:pt x="7813" y="14808"/>
                </a:cubicBezTo>
                <a:cubicBezTo>
                  <a:pt x="7800" y="14880"/>
                  <a:pt x="7789" y="14933"/>
                  <a:pt x="7789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8880" y="2973240"/>
            <a:ext cx="357120" cy="25884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156" y="8359"/>
                </a:moveTo>
                <a:cubicBezTo>
                  <a:pt x="15156" y="8326"/>
                  <a:pt x="15156" y="8293"/>
                  <a:pt x="15156" y="8260"/>
                </a:cubicBezTo>
                <a:cubicBezTo>
                  <a:pt x="15096" y="8320"/>
                  <a:pt x="15106" y="8346"/>
                  <a:pt x="15106" y="8434"/>
                </a:cubicBezTo>
                <a:cubicBezTo>
                  <a:pt x="15106" y="8478"/>
                  <a:pt x="15103" y="8492"/>
                  <a:pt x="15131" y="8508"/>
                </a:cubicBezTo>
                <a:cubicBezTo>
                  <a:pt x="15219" y="8497"/>
                  <a:pt x="15252" y="8452"/>
                  <a:pt x="15329" y="8409"/>
                </a:cubicBezTo>
                <a:cubicBezTo>
                  <a:pt x="15346" y="8401"/>
                  <a:pt x="15362" y="8392"/>
                  <a:pt x="15379" y="8384"/>
                </a:cubicBezTo>
                <a:cubicBezTo>
                  <a:pt x="15436" y="8487"/>
                  <a:pt x="15491" y="8584"/>
                  <a:pt x="15503" y="8706"/>
                </a:cubicBezTo>
                <a:cubicBezTo>
                  <a:pt x="15508" y="8758"/>
                  <a:pt x="15510" y="8950"/>
                  <a:pt x="15429" y="8979"/>
                </a:cubicBezTo>
                <a:cubicBezTo>
                  <a:pt x="15370" y="9000"/>
                  <a:pt x="15296" y="8938"/>
                  <a:pt x="15255" y="8905"/>
                </a:cubicBezTo>
              </a:path>
              <a:path w="993" h="720">
                <a:moveTo>
                  <a:pt x="16073" y="8434"/>
                </a:moveTo>
                <a:cubicBezTo>
                  <a:pt x="16081" y="8434"/>
                  <a:pt x="16090" y="8434"/>
                  <a:pt x="16098" y="8434"/>
                </a:cubicBezTo>
                <a:cubicBezTo>
                  <a:pt x="16085" y="8396"/>
                  <a:pt x="16069" y="8409"/>
                  <a:pt x="16024" y="8409"/>
                </a:cubicBezTo>
                <a:cubicBezTo>
                  <a:pt x="15974" y="8409"/>
                  <a:pt x="15925" y="8409"/>
                  <a:pt x="15875" y="8409"/>
                </a:cubicBezTo>
              </a:path>
              <a:path w="993" h="720">
                <a:moveTo>
                  <a:pt x="16024" y="8458"/>
                </a:moveTo>
                <a:cubicBezTo>
                  <a:pt x="16043" y="8503"/>
                  <a:pt x="16075" y="8564"/>
                  <a:pt x="16024" y="8607"/>
                </a:cubicBezTo>
                <a:cubicBezTo>
                  <a:pt x="15999" y="8607"/>
                  <a:pt x="15991" y="8607"/>
                  <a:pt x="15974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7040" y="2813040"/>
            <a:ext cx="277920" cy="482760"/>
          </a:xfrm>
          <a:custGeom>
            <a:avLst/>
            <a:gdLst/>
            <a:ahLst/>
            <a:rect l="l" t="t" r="r" b="b"/>
            <a:pathLst>
              <a:path w="770" h="1341">
                <a:moveTo>
                  <a:pt x="17115" y="7962"/>
                </a:moveTo>
                <a:cubicBezTo>
                  <a:pt x="17115" y="7906"/>
                  <a:pt x="17135" y="7929"/>
                  <a:pt x="17140" y="7888"/>
                </a:cubicBezTo>
                <a:cubicBezTo>
                  <a:pt x="17140" y="7860"/>
                  <a:pt x="17142" y="7849"/>
                  <a:pt x="17165" y="7838"/>
                </a:cubicBezTo>
                <a:cubicBezTo>
                  <a:pt x="17144" y="7817"/>
                  <a:pt x="17124" y="7909"/>
                  <a:pt x="17115" y="7962"/>
                </a:cubicBezTo>
                <a:cubicBezTo>
                  <a:pt x="17104" y="8028"/>
                  <a:pt x="17098" y="8087"/>
                  <a:pt x="17165" y="8111"/>
                </a:cubicBezTo>
                <a:cubicBezTo>
                  <a:pt x="17225" y="8133"/>
                  <a:pt x="17285" y="8095"/>
                  <a:pt x="17338" y="8086"/>
                </a:cubicBezTo>
                <a:cubicBezTo>
                  <a:pt x="17384" y="8078"/>
                  <a:pt x="17440" y="8086"/>
                  <a:pt x="17487" y="8086"/>
                </a:cubicBezTo>
              </a:path>
              <a:path w="770" h="1341">
                <a:moveTo>
                  <a:pt x="17314" y="7987"/>
                </a:moveTo>
                <a:cubicBezTo>
                  <a:pt x="17314" y="7919"/>
                  <a:pt x="17291" y="8077"/>
                  <a:pt x="17289" y="8086"/>
                </a:cubicBezTo>
                <a:cubicBezTo>
                  <a:pt x="17282" y="8124"/>
                  <a:pt x="17289" y="8171"/>
                  <a:pt x="17289" y="8210"/>
                </a:cubicBezTo>
              </a:path>
              <a:path w="770" h="1341">
                <a:moveTo>
                  <a:pt x="17711" y="8434"/>
                </a:moveTo>
                <a:cubicBezTo>
                  <a:pt x="17732" y="8465"/>
                  <a:pt x="17714" y="8480"/>
                  <a:pt x="17661" y="8483"/>
                </a:cubicBezTo>
                <a:cubicBezTo>
                  <a:pt x="17550" y="8489"/>
                  <a:pt x="17448" y="8505"/>
                  <a:pt x="17338" y="8508"/>
                </a:cubicBezTo>
                <a:cubicBezTo>
                  <a:pt x="17234" y="8511"/>
                  <a:pt x="17141" y="8528"/>
                  <a:pt x="17041" y="8533"/>
                </a:cubicBezTo>
                <a:cubicBezTo>
                  <a:pt x="16999" y="8533"/>
                  <a:pt x="16991" y="8533"/>
                  <a:pt x="16966" y="8533"/>
                </a:cubicBezTo>
              </a:path>
              <a:path w="770" h="1341">
                <a:moveTo>
                  <a:pt x="16966" y="8930"/>
                </a:moveTo>
                <a:cubicBezTo>
                  <a:pt x="17010" y="8897"/>
                  <a:pt x="17032" y="8905"/>
                  <a:pt x="17090" y="8905"/>
                </a:cubicBezTo>
                <a:cubicBezTo>
                  <a:pt x="17150" y="8905"/>
                  <a:pt x="17162" y="8956"/>
                  <a:pt x="17165" y="9004"/>
                </a:cubicBezTo>
                <a:cubicBezTo>
                  <a:pt x="17167" y="9040"/>
                  <a:pt x="17170" y="9133"/>
                  <a:pt x="17140" y="9153"/>
                </a:cubicBezTo>
                <a:cubicBezTo>
                  <a:pt x="17103" y="9177"/>
                  <a:pt x="17043" y="9148"/>
                  <a:pt x="17016" y="9128"/>
                </a:cubicBezTo>
              </a:path>
              <a:path w="770" h="1341">
                <a:moveTo>
                  <a:pt x="17239" y="8930"/>
                </a:moveTo>
                <a:cubicBezTo>
                  <a:pt x="17247" y="8922"/>
                  <a:pt x="17256" y="8913"/>
                  <a:pt x="17264" y="8905"/>
                </a:cubicBezTo>
                <a:cubicBezTo>
                  <a:pt x="17205" y="8920"/>
                  <a:pt x="17195" y="8943"/>
                  <a:pt x="17190" y="9004"/>
                </a:cubicBezTo>
                <a:cubicBezTo>
                  <a:pt x="17184" y="9073"/>
                  <a:pt x="17192" y="9104"/>
                  <a:pt x="17264" y="9128"/>
                </a:cubicBezTo>
                <a:cubicBezTo>
                  <a:pt x="17272" y="9128"/>
                  <a:pt x="17281" y="9128"/>
                  <a:pt x="17289" y="9128"/>
                </a:cubicBezTo>
              </a:path>
              <a:path w="770" h="1341">
                <a:moveTo>
                  <a:pt x="17537" y="8706"/>
                </a:moveTo>
                <a:cubicBezTo>
                  <a:pt x="17529" y="8698"/>
                  <a:pt x="17520" y="8690"/>
                  <a:pt x="17512" y="8682"/>
                </a:cubicBezTo>
                <a:cubicBezTo>
                  <a:pt x="17558" y="8682"/>
                  <a:pt x="17571" y="8662"/>
                  <a:pt x="17611" y="8657"/>
                </a:cubicBezTo>
                <a:cubicBezTo>
                  <a:pt x="17636" y="8657"/>
                  <a:pt x="17644" y="8657"/>
                  <a:pt x="17661" y="8657"/>
                </a:cubicBezTo>
                <a:cubicBezTo>
                  <a:pt x="17649" y="8715"/>
                  <a:pt x="17615" y="8753"/>
                  <a:pt x="17587" y="8806"/>
                </a:cubicBezTo>
                <a:cubicBezTo>
                  <a:pt x="17582" y="8816"/>
                  <a:pt x="17538" y="8911"/>
                  <a:pt x="17562" y="8930"/>
                </a:cubicBezTo>
                <a:cubicBezTo>
                  <a:pt x="17578" y="8943"/>
                  <a:pt x="17638" y="8930"/>
                  <a:pt x="1766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7320" y="3670200"/>
            <a:ext cx="581040" cy="241560"/>
          </a:xfrm>
          <a:custGeom>
            <a:avLst/>
            <a:gdLst/>
            <a:ahLst/>
            <a:rect l="l" t="t" r="r" b="b"/>
            <a:pathLst>
              <a:path w="1614" h="670">
                <a:moveTo>
                  <a:pt x="14511" y="10468"/>
                </a:moveTo>
                <a:cubicBezTo>
                  <a:pt x="14449" y="10447"/>
                  <a:pt x="14521" y="10374"/>
                  <a:pt x="14560" y="10344"/>
                </a:cubicBezTo>
                <a:cubicBezTo>
                  <a:pt x="14651" y="10274"/>
                  <a:pt x="14702" y="10338"/>
                  <a:pt x="14734" y="10418"/>
                </a:cubicBezTo>
                <a:cubicBezTo>
                  <a:pt x="14776" y="10523"/>
                  <a:pt x="14775" y="10607"/>
                  <a:pt x="14709" y="10691"/>
                </a:cubicBezTo>
                <a:cubicBezTo>
                  <a:pt x="14658" y="10756"/>
                  <a:pt x="14584" y="10740"/>
                  <a:pt x="14511" y="10740"/>
                </a:cubicBezTo>
                <a:cubicBezTo>
                  <a:pt x="14466" y="10740"/>
                  <a:pt x="14453" y="10744"/>
                  <a:pt x="14436" y="10716"/>
                </a:cubicBezTo>
              </a:path>
              <a:path w="1614" h="670">
                <a:moveTo>
                  <a:pt x="14808" y="10418"/>
                </a:moveTo>
                <a:cubicBezTo>
                  <a:pt x="14816" y="10401"/>
                  <a:pt x="14825" y="10385"/>
                  <a:pt x="14833" y="10368"/>
                </a:cubicBezTo>
                <a:cubicBezTo>
                  <a:pt x="14803" y="10399"/>
                  <a:pt x="14724" y="10456"/>
                  <a:pt x="14709" y="10492"/>
                </a:cubicBezTo>
                <a:cubicBezTo>
                  <a:pt x="14684" y="10551"/>
                  <a:pt x="14723" y="10646"/>
                  <a:pt x="14784" y="10666"/>
                </a:cubicBezTo>
                <a:cubicBezTo>
                  <a:pt x="14843" y="10686"/>
                  <a:pt x="14905" y="10659"/>
                  <a:pt x="14957" y="10641"/>
                </a:cubicBezTo>
              </a:path>
              <a:path w="1614" h="670">
                <a:moveTo>
                  <a:pt x="15453" y="10443"/>
                </a:moveTo>
                <a:cubicBezTo>
                  <a:pt x="15461" y="10435"/>
                  <a:pt x="15470" y="10426"/>
                  <a:pt x="15478" y="10418"/>
                </a:cubicBezTo>
                <a:cubicBezTo>
                  <a:pt x="15412" y="10418"/>
                  <a:pt x="15346" y="10418"/>
                  <a:pt x="15280" y="10418"/>
                </a:cubicBezTo>
              </a:path>
              <a:path w="1614" h="670">
                <a:moveTo>
                  <a:pt x="15429" y="10492"/>
                </a:moveTo>
                <a:cubicBezTo>
                  <a:pt x="15445" y="10500"/>
                  <a:pt x="15462" y="10509"/>
                  <a:pt x="15478" y="10517"/>
                </a:cubicBezTo>
                <a:cubicBezTo>
                  <a:pt x="15463" y="10577"/>
                  <a:pt x="15439" y="10567"/>
                  <a:pt x="15379" y="10567"/>
                </a:cubicBezTo>
                <a:cubicBezTo>
                  <a:pt x="15317" y="10567"/>
                  <a:pt x="15277" y="10577"/>
                  <a:pt x="15230" y="10542"/>
                </a:cubicBezTo>
              </a:path>
              <a:path w="1614" h="670">
                <a:moveTo>
                  <a:pt x="15652" y="10269"/>
                </a:moveTo>
                <a:cubicBezTo>
                  <a:pt x="15689" y="10213"/>
                  <a:pt x="15684" y="10188"/>
                  <a:pt x="15726" y="10195"/>
                </a:cubicBezTo>
                <a:cubicBezTo>
                  <a:pt x="15715" y="10294"/>
                  <a:pt x="15687" y="10393"/>
                  <a:pt x="15677" y="10492"/>
                </a:cubicBezTo>
                <a:cubicBezTo>
                  <a:pt x="15677" y="10558"/>
                  <a:pt x="15677" y="10575"/>
                  <a:pt x="15677" y="10616"/>
                </a:cubicBezTo>
              </a:path>
              <a:path w="1614" h="670">
                <a:moveTo>
                  <a:pt x="15999" y="10716"/>
                </a:moveTo>
                <a:cubicBezTo>
                  <a:pt x="16056" y="10753"/>
                  <a:pt x="16071" y="10771"/>
                  <a:pt x="16024" y="10840"/>
                </a:cubicBezTo>
                <a:cubicBezTo>
                  <a:pt x="16001" y="10862"/>
                  <a:pt x="15996" y="10870"/>
                  <a:pt x="1597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65920" y="3616200"/>
            <a:ext cx="758880" cy="331920"/>
          </a:xfrm>
          <a:custGeom>
            <a:avLst/>
            <a:gdLst/>
            <a:ahLst/>
            <a:rect l="l" t="t" r="r" b="b"/>
            <a:pathLst>
              <a:path w="2109" h="919">
                <a:moveTo>
                  <a:pt x="16594" y="10393"/>
                </a:moveTo>
                <a:cubicBezTo>
                  <a:pt x="16594" y="10377"/>
                  <a:pt x="16594" y="10360"/>
                  <a:pt x="16594" y="10344"/>
                </a:cubicBezTo>
                <a:cubicBezTo>
                  <a:pt x="16559" y="10356"/>
                  <a:pt x="16558" y="10420"/>
                  <a:pt x="16570" y="10468"/>
                </a:cubicBezTo>
                <a:cubicBezTo>
                  <a:pt x="16591" y="10553"/>
                  <a:pt x="16666" y="10588"/>
                  <a:pt x="16743" y="10592"/>
                </a:cubicBezTo>
                <a:cubicBezTo>
                  <a:pt x="16792" y="10595"/>
                  <a:pt x="16896" y="10532"/>
                  <a:pt x="16942" y="10567"/>
                </a:cubicBezTo>
                <a:cubicBezTo>
                  <a:pt x="16994" y="10607"/>
                  <a:pt x="17027" y="10781"/>
                  <a:pt x="17016" y="10840"/>
                </a:cubicBezTo>
                <a:cubicBezTo>
                  <a:pt x="16998" y="10938"/>
                  <a:pt x="16912" y="10981"/>
                  <a:pt x="16818" y="10964"/>
                </a:cubicBezTo>
                <a:cubicBezTo>
                  <a:pt x="16777" y="10956"/>
                  <a:pt x="16636" y="10910"/>
                  <a:pt x="16619" y="10864"/>
                </a:cubicBezTo>
                <a:cubicBezTo>
                  <a:pt x="16619" y="10848"/>
                  <a:pt x="16619" y="10831"/>
                  <a:pt x="16619" y="10815"/>
                </a:cubicBezTo>
              </a:path>
              <a:path w="2109" h="919">
                <a:moveTo>
                  <a:pt x="17462" y="10468"/>
                </a:moveTo>
                <a:cubicBezTo>
                  <a:pt x="17470" y="10468"/>
                  <a:pt x="17479" y="10468"/>
                  <a:pt x="17487" y="10468"/>
                </a:cubicBezTo>
                <a:cubicBezTo>
                  <a:pt x="17465" y="10434"/>
                  <a:pt x="17439" y="10443"/>
                  <a:pt x="17388" y="10443"/>
                </a:cubicBezTo>
                <a:cubicBezTo>
                  <a:pt x="17338" y="10443"/>
                  <a:pt x="17289" y="10443"/>
                  <a:pt x="17239" y="10443"/>
                </a:cubicBezTo>
              </a:path>
              <a:path w="2109" h="919">
                <a:moveTo>
                  <a:pt x="17438" y="10492"/>
                </a:moveTo>
                <a:cubicBezTo>
                  <a:pt x="17446" y="10500"/>
                  <a:pt x="17454" y="10509"/>
                  <a:pt x="17462" y="10517"/>
                </a:cubicBezTo>
                <a:cubicBezTo>
                  <a:pt x="17425" y="10546"/>
                  <a:pt x="17387" y="10557"/>
                  <a:pt x="17338" y="10567"/>
                </a:cubicBezTo>
              </a:path>
              <a:path w="2109" h="919">
                <a:moveTo>
                  <a:pt x="17884" y="10220"/>
                </a:moveTo>
                <a:cubicBezTo>
                  <a:pt x="17884" y="10156"/>
                  <a:pt x="17872" y="10095"/>
                  <a:pt x="17909" y="10046"/>
                </a:cubicBezTo>
                <a:cubicBezTo>
                  <a:pt x="17909" y="10119"/>
                  <a:pt x="17869" y="10174"/>
                  <a:pt x="17859" y="10244"/>
                </a:cubicBezTo>
                <a:cubicBezTo>
                  <a:pt x="17848" y="10317"/>
                  <a:pt x="17810" y="10443"/>
                  <a:pt x="17835" y="10517"/>
                </a:cubicBezTo>
                <a:cubicBezTo>
                  <a:pt x="17855" y="10575"/>
                  <a:pt x="17935" y="10589"/>
                  <a:pt x="17983" y="10592"/>
                </a:cubicBezTo>
                <a:cubicBezTo>
                  <a:pt x="18096" y="10598"/>
                  <a:pt x="18453" y="10542"/>
                  <a:pt x="18504" y="10616"/>
                </a:cubicBezTo>
                <a:cubicBezTo>
                  <a:pt x="18479" y="10616"/>
                  <a:pt x="18455" y="10616"/>
                  <a:pt x="18430" y="10616"/>
                </a:cubicBezTo>
              </a:path>
              <a:path w="2109" h="919">
                <a:moveTo>
                  <a:pt x="18281" y="10517"/>
                </a:moveTo>
                <a:cubicBezTo>
                  <a:pt x="18232" y="10484"/>
                  <a:pt x="18243" y="10480"/>
                  <a:pt x="18207" y="10468"/>
                </a:cubicBezTo>
                <a:cubicBezTo>
                  <a:pt x="18166" y="10535"/>
                  <a:pt x="18160" y="10606"/>
                  <a:pt x="18157" y="10691"/>
                </a:cubicBezTo>
                <a:cubicBezTo>
                  <a:pt x="18157" y="10716"/>
                  <a:pt x="18157" y="10740"/>
                  <a:pt x="18157" y="10765"/>
                </a:cubicBezTo>
              </a:path>
              <a:path w="2109" h="919">
                <a:moveTo>
                  <a:pt x="18628" y="10815"/>
                </a:moveTo>
                <a:cubicBezTo>
                  <a:pt x="18645" y="10807"/>
                  <a:pt x="18661" y="10798"/>
                  <a:pt x="1867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0 Ex 3.5 q1-4 a, b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ing direct/inverse proportion to solv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Jones wants to build a patio. It will take 3 men 72 hours to do it. How long will 5 men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direct or inverse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57240" y="383076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5259" y="10840"/>
                </a:moveTo>
                <a:cubicBezTo>
                  <a:pt x="5259" y="10807"/>
                  <a:pt x="5259" y="10773"/>
                  <a:pt x="5259" y="10740"/>
                </a:cubicBezTo>
                <a:cubicBezTo>
                  <a:pt x="5302" y="10755"/>
                  <a:pt x="5283" y="10812"/>
                  <a:pt x="5283" y="10864"/>
                </a:cubicBezTo>
                <a:cubicBezTo>
                  <a:pt x="5283" y="10940"/>
                  <a:pt x="5308" y="11007"/>
                  <a:pt x="5308" y="11088"/>
                </a:cubicBezTo>
                <a:cubicBezTo>
                  <a:pt x="5308" y="11100"/>
                  <a:pt x="5308" y="11204"/>
                  <a:pt x="5308" y="11137"/>
                </a:cubicBezTo>
                <a:cubicBezTo>
                  <a:pt x="5308" y="11040"/>
                  <a:pt x="5274" y="10863"/>
                  <a:pt x="5333" y="10790"/>
                </a:cubicBezTo>
                <a:cubicBezTo>
                  <a:pt x="5356" y="10767"/>
                  <a:pt x="5360" y="10759"/>
                  <a:pt x="5383" y="10765"/>
                </a:cubicBezTo>
                <a:cubicBezTo>
                  <a:pt x="5425" y="10808"/>
                  <a:pt x="5464" y="10854"/>
                  <a:pt x="5482" y="10914"/>
                </a:cubicBezTo>
                <a:cubicBezTo>
                  <a:pt x="5491" y="10942"/>
                  <a:pt x="5500" y="10959"/>
                  <a:pt x="5507" y="10988"/>
                </a:cubicBezTo>
                <a:cubicBezTo>
                  <a:pt x="5507" y="10931"/>
                  <a:pt x="5514" y="10867"/>
                  <a:pt x="5531" y="10815"/>
                </a:cubicBezTo>
                <a:cubicBezTo>
                  <a:pt x="5556" y="10739"/>
                  <a:pt x="5595" y="10685"/>
                  <a:pt x="5655" y="10641"/>
                </a:cubicBezTo>
                <a:cubicBezTo>
                  <a:pt x="5715" y="10671"/>
                  <a:pt x="5752" y="10745"/>
                  <a:pt x="5779" y="10815"/>
                </a:cubicBezTo>
                <a:cubicBezTo>
                  <a:pt x="5804" y="10880"/>
                  <a:pt x="5836" y="10955"/>
                  <a:pt x="5854" y="11013"/>
                </a:cubicBezTo>
                <a:cubicBezTo>
                  <a:pt x="5854" y="11038"/>
                  <a:pt x="5854" y="11046"/>
                  <a:pt x="5854" y="11063"/>
                </a:cubicBezTo>
              </a:path>
              <a:path w="696" h="696">
                <a:moveTo>
                  <a:pt x="5507" y="10840"/>
                </a:moveTo>
                <a:cubicBezTo>
                  <a:pt x="5566" y="10856"/>
                  <a:pt x="5627" y="10883"/>
                  <a:pt x="5680" y="10889"/>
                </a:cubicBezTo>
                <a:cubicBezTo>
                  <a:pt x="5738" y="10895"/>
                  <a:pt x="5617" y="10801"/>
                  <a:pt x="5606" y="10790"/>
                </a:cubicBezTo>
                <a:cubicBezTo>
                  <a:pt x="5564" y="10748"/>
                  <a:pt x="5557" y="10740"/>
                  <a:pt x="5531" y="10716"/>
                </a:cubicBezTo>
                <a:cubicBezTo>
                  <a:pt x="5464" y="10670"/>
                  <a:pt x="5562" y="10783"/>
                  <a:pt x="5581" y="10815"/>
                </a:cubicBezTo>
                <a:cubicBezTo>
                  <a:pt x="5624" y="10887"/>
                  <a:pt x="5702" y="10943"/>
                  <a:pt x="5730" y="11013"/>
                </a:cubicBezTo>
                <a:cubicBezTo>
                  <a:pt x="5648" y="11013"/>
                  <a:pt x="5622" y="10972"/>
                  <a:pt x="5556" y="10939"/>
                </a:cubicBezTo>
                <a:cubicBezTo>
                  <a:pt x="5486" y="10904"/>
                  <a:pt x="5465" y="10845"/>
                  <a:pt x="5407" y="10889"/>
                </a:cubicBezTo>
                <a:cubicBezTo>
                  <a:pt x="5464" y="10973"/>
                  <a:pt x="5493" y="11090"/>
                  <a:pt x="5531" y="11187"/>
                </a:cubicBezTo>
                <a:cubicBezTo>
                  <a:pt x="5559" y="11258"/>
                  <a:pt x="5578" y="11281"/>
                  <a:pt x="5556" y="11336"/>
                </a:cubicBezTo>
                <a:cubicBezTo>
                  <a:pt x="5429" y="11251"/>
                  <a:pt x="5336" y="11174"/>
                  <a:pt x="5234" y="11063"/>
                </a:cubicBezTo>
                <a:cubicBezTo>
                  <a:pt x="5188" y="11017"/>
                  <a:pt x="5173" y="11005"/>
                  <a:pt x="5159" y="10964"/>
                </a:cubicBezTo>
                <a:cubicBezTo>
                  <a:pt x="5226" y="11029"/>
                  <a:pt x="5292" y="11096"/>
                  <a:pt x="5358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36920" y="2751120"/>
            <a:ext cx="1079280" cy="623880"/>
          </a:xfrm>
          <a:custGeom>
            <a:avLst/>
            <a:gdLst/>
            <a:ahLst/>
            <a:rect l="l" t="t" r="r" b="b"/>
            <a:pathLst>
              <a:path w="3002" h="1737">
                <a:moveTo>
                  <a:pt x="9376" y="9128"/>
                </a:moveTo>
                <a:cubicBezTo>
                  <a:pt x="9350" y="9165"/>
                  <a:pt x="9383" y="9161"/>
                  <a:pt x="9302" y="9203"/>
                </a:cubicBezTo>
                <a:cubicBezTo>
                  <a:pt x="9228" y="9241"/>
                  <a:pt x="9137" y="9292"/>
                  <a:pt x="9054" y="9302"/>
                </a:cubicBezTo>
                <a:cubicBezTo>
                  <a:pt x="8929" y="9318"/>
                  <a:pt x="8809" y="9347"/>
                  <a:pt x="8682" y="9351"/>
                </a:cubicBezTo>
                <a:cubicBezTo>
                  <a:pt x="8556" y="9355"/>
                  <a:pt x="8438" y="9376"/>
                  <a:pt x="8310" y="9376"/>
                </a:cubicBezTo>
                <a:cubicBezTo>
                  <a:pt x="8139" y="9376"/>
                  <a:pt x="7923" y="9410"/>
                  <a:pt x="7764" y="9351"/>
                </a:cubicBezTo>
                <a:cubicBezTo>
                  <a:pt x="7697" y="9326"/>
                  <a:pt x="7627" y="9307"/>
                  <a:pt x="7565" y="9277"/>
                </a:cubicBezTo>
                <a:cubicBezTo>
                  <a:pt x="7524" y="9257"/>
                  <a:pt x="7482" y="9221"/>
                  <a:pt x="7441" y="9203"/>
                </a:cubicBezTo>
                <a:cubicBezTo>
                  <a:pt x="7389" y="9181"/>
                  <a:pt x="7356" y="9186"/>
                  <a:pt x="7317" y="9128"/>
                </a:cubicBezTo>
                <a:cubicBezTo>
                  <a:pt x="7288" y="9085"/>
                  <a:pt x="7273" y="9050"/>
                  <a:pt x="7243" y="9004"/>
                </a:cubicBezTo>
                <a:cubicBezTo>
                  <a:pt x="7220" y="8968"/>
                  <a:pt x="7192" y="8943"/>
                  <a:pt x="7169" y="8905"/>
                </a:cubicBezTo>
                <a:cubicBezTo>
                  <a:pt x="7141" y="8858"/>
                  <a:pt x="7114" y="8830"/>
                  <a:pt x="7094" y="8781"/>
                </a:cubicBezTo>
                <a:cubicBezTo>
                  <a:pt x="7078" y="8742"/>
                  <a:pt x="7080" y="8725"/>
                  <a:pt x="7069" y="8682"/>
                </a:cubicBezTo>
                <a:cubicBezTo>
                  <a:pt x="7057" y="8634"/>
                  <a:pt x="7036" y="8593"/>
                  <a:pt x="7045" y="8533"/>
                </a:cubicBezTo>
                <a:cubicBezTo>
                  <a:pt x="7050" y="8497"/>
                  <a:pt x="7083" y="8447"/>
                  <a:pt x="7094" y="8409"/>
                </a:cubicBezTo>
                <a:cubicBezTo>
                  <a:pt x="7102" y="8382"/>
                  <a:pt x="7132" y="8277"/>
                  <a:pt x="7144" y="8260"/>
                </a:cubicBezTo>
                <a:cubicBezTo>
                  <a:pt x="7172" y="8220"/>
                  <a:pt x="7235" y="8142"/>
                  <a:pt x="7268" y="8111"/>
                </a:cubicBezTo>
                <a:cubicBezTo>
                  <a:pt x="7319" y="8065"/>
                  <a:pt x="7370" y="8033"/>
                  <a:pt x="7417" y="7987"/>
                </a:cubicBezTo>
                <a:cubicBezTo>
                  <a:pt x="7485" y="7921"/>
                  <a:pt x="7525" y="7910"/>
                  <a:pt x="7615" y="7863"/>
                </a:cubicBezTo>
                <a:cubicBezTo>
                  <a:pt x="7698" y="7819"/>
                  <a:pt x="7768" y="7772"/>
                  <a:pt x="7863" y="7739"/>
                </a:cubicBezTo>
                <a:cubicBezTo>
                  <a:pt x="7960" y="7706"/>
                  <a:pt x="8032" y="7669"/>
                  <a:pt x="8136" y="7665"/>
                </a:cubicBezTo>
                <a:cubicBezTo>
                  <a:pt x="8244" y="7661"/>
                  <a:pt x="8346" y="7621"/>
                  <a:pt x="8458" y="7640"/>
                </a:cubicBezTo>
                <a:cubicBezTo>
                  <a:pt x="8558" y="7657"/>
                  <a:pt x="8656" y="7699"/>
                  <a:pt x="8756" y="7714"/>
                </a:cubicBezTo>
                <a:cubicBezTo>
                  <a:pt x="8861" y="7730"/>
                  <a:pt x="8951" y="7755"/>
                  <a:pt x="9054" y="7789"/>
                </a:cubicBezTo>
                <a:cubicBezTo>
                  <a:pt x="9146" y="7819"/>
                  <a:pt x="9241" y="7866"/>
                  <a:pt x="9327" y="7913"/>
                </a:cubicBezTo>
                <a:cubicBezTo>
                  <a:pt x="9403" y="7954"/>
                  <a:pt x="9512" y="8012"/>
                  <a:pt x="9575" y="8062"/>
                </a:cubicBezTo>
                <a:cubicBezTo>
                  <a:pt x="9653" y="8123"/>
                  <a:pt x="9719" y="8200"/>
                  <a:pt x="9798" y="8260"/>
                </a:cubicBezTo>
                <a:cubicBezTo>
                  <a:pt x="9894" y="8334"/>
                  <a:pt x="9947" y="8373"/>
                  <a:pt x="9996" y="8483"/>
                </a:cubicBezTo>
                <a:cubicBezTo>
                  <a:pt x="10032" y="8563"/>
                  <a:pt x="10075" y="8666"/>
                  <a:pt x="10046" y="8756"/>
                </a:cubicBezTo>
                <a:cubicBezTo>
                  <a:pt x="9996" y="8913"/>
                  <a:pt x="9880" y="8996"/>
                  <a:pt x="9748" y="9079"/>
                </a:cubicBezTo>
                <a:cubicBezTo>
                  <a:pt x="9590" y="9178"/>
                  <a:pt x="9431" y="9232"/>
                  <a:pt x="9252" y="9277"/>
                </a:cubicBezTo>
                <a:cubicBezTo>
                  <a:pt x="9219" y="9285"/>
                  <a:pt x="9186" y="9294"/>
                  <a:pt x="9153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24120" y="3660840"/>
            <a:ext cx="133560" cy="260280"/>
          </a:xfrm>
          <a:custGeom>
            <a:avLst/>
            <a:gdLst/>
            <a:ahLst/>
            <a:rect l="l" t="t" r="r" b="b"/>
            <a:pathLst>
              <a:path w="374" h="720">
                <a:moveTo>
                  <a:pt x="7565" y="10244"/>
                </a:moveTo>
                <a:cubicBezTo>
                  <a:pt x="7565" y="10219"/>
                  <a:pt x="7565" y="10195"/>
                  <a:pt x="7565" y="10170"/>
                </a:cubicBezTo>
                <a:cubicBezTo>
                  <a:pt x="7565" y="10371"/>
                  <a:pt x="7563" y="10569"/>
                  <a:pt x="7590" y="10765"/>
                </a:cubicBezTo>
                <a:cubicBezTo>
                  <a:pt x="7599" y="10834"/>
                  <a:pt x="7586" y="10822"/>
                  <a:pt x="7615" y="10889"/>
                </a:cubicBezTo>
                <a:cubicBezTo>
                  <a:pt x="7630" y="10815"/>
                  <a:pt x="7643" y="10741"/>
                  <a:pt x="7665" y="10666"/>
                </a:cubicBezTo>
                <a:cubicBezTo>
                  <a:pt x="7687" y="10592"/>
                  <a:pt x="7712" y="10569"/>
                  <a:pt x="7764" y="10517"/>
                </a:cubicBezTo>
                <a:cubicBezTo>
                  <a:pt x="7826" y="10548"/>
                  <a:pt x="7855" y="10623"/>
                  <a:pt x="7888" y="10691"/>
                </a:cubicBezTo>
                <a:cubicBezTo>
                  <a:pt x="7913" y="10740"/>
                  <a:pt x="7922" y="10757"/>
                  <a:pt x="793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94080" y="3751200"/>
            <a:ext cx="133200" cy="7956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9674" y="10443"/>
                </a:moveTo>
                <a:cubicBezTo>
                  <a:pt x="9731" y="10415"/>
                  <a:pt x="9633" y="10418"/>
                  <a:pt x="9599" y="10418"/>
                </a:cubicBezTo>
                <a:cubicBezTo>
                  <a:pt x="9538" y="10418"/>
                  <a:pt x="9517" y="10443"/>
                  <a:pt x="9451" y="10443"/>
                </a:cubicBezTo>
                <a:cubicBezTo>
                  <a:pt x="9443" y="10443"/>
                  <a:pt x="9434" y="10443"/>
                  <a:pt x="9426" y="10443"/>
                </a:cubicBezTo>
              </a:path>
              <a:path w="373" h="224">
                <a:moveTo>
                  <a:pt x="9773" y="10567"/>
                </a:moveTo>
                <a:cubicBezTo>
                  <a:pt x="9781" y="10567"/>
                  <a:pt x="9790" y="10567"/>
                  <a:pt x="9798" y="10567"/>
                </a:cubicBezTo>
                <a:cubicBezTo>
                  <a:pt x="9778" y="10645"/>
                  <a:pt x="9738" y="10598"/>
                  <a:pt x="9674" y="10616"/>
                </a:cubicBezTo>
                <a:cubicBezTo>
                  <a:pt x="9633" y="10636"/>
                  <a:pt x="9627" y="10645"/>
                  <a:pt x="959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9200" y="4268880"/>
            <a:ext cx="519120" cy="2491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6747" y="12105"/>
                </a:moveTo>
                <a:cubicBezTo>
                  <a:pt x="6734" y="12144"/>
                  <a:pt x="6735" y="12115"/>
                  <a:pt x="6722" y="12154"/>
                </a:cubicBezTo>
                <a:cubicBezTo>
                  <a:pt x="6781" y="12142"/>
                  <a:pt x="6818" y="12108"/>
                  <a:pt x="6871" y="12080"/>
                </a:cubicBezTo>
                <a:cubicBezTo>
                  <a:pt x="6958" y="12034"/>
                  <a:pt x="7054" y="12018"/>
                  <a:pt x="7144" y="11981"/>
                </a:cubicBezTo>
                <a:cubicBezTo>
                  <a:pt x="7197" y="11959"/>
                  <a:pt x="7247" y="11923"/>
                  <a:pt x="7268" y="12005"/>
                </a:cubicBezTo>
                <a:cubicBezTo>
                  <a:pt x="7289" y="12088"/>
                  <a:pt x="7218" y="12224"/>
                  <a:pt x="7193" y="12303"/>
                </a:cubicBezTo>
                <a:cubicBezTo>
                  <a:pt x="7169" y="12380"/>
                  <a:pt x="7137" y="12451"/>
                  <a:pt x="7119" y="12526"/>
                </a:cubicBezTo>
                <a:cubicBezTo>
                  <a:pt x="7119" y="12551"/>
                  <a:pt x="7119" y="12559"/>
                  <a:pt x="7094" y="12551"/>
                </a:cubicBezTo>
              </a:path>
              <a:path w="1440" h="695">
                <a:moveTo>
                  <a:pt x="7565" y="12055"/>
                </a:moveTo>
                <a:cubicBezTo>
                  <a:pt x="7541" y="12055"/>
                  <a:pt x="7532" y="12055"/>
                  <a:pt x="7516" y="12055"/>
                </a:cubicBezTo>
                <a:cubicBezTo>
                  <a:pt x="7516" y="12002"/>
                  <a:pt x="7527" y="11994"/>
                  <a:pt x="7565" y="11956"/>
                </a:cubicBezTo>
                <a:cubicBezTo>
                  <a:pt x="7619" y="11901"/>
                  <a:pt x="7673" y="11851"/>
                  <a:pt x="7739" y="11881"/>
                </a:cubicBezTo>
                <a:cubicBezTo>
                  <a:pt x="7827" y="11922"/>
                  <a:pt x="7829" y="12015"/>
                  <a:pt x="7813" y="12105"/>
                </a:cubicBezTo>
                <a:cubicBezTo>
                  <a:pt x="7797" y="12193"/>
                  <a:pt x="7746" y="12266"/>
                  <a:pt x="7739" y="12353"/>
                </a:cubicBezTo>
                <a:cubicBezTo>
                  <a:pt x="7739" y="12378"/>
                  <a:pt x="7739" y="12386"/>
                  <a:pt x="7739" y="12402"/>
                </a:cubicBezTo>
                <a:cubicBezTo>
                  <a:pt x="7795" y="12394"/>
                  <a:pt x="7888" y="12362"/>
                  <a:pt x="7938" y="12328"/>
                </a:cubicBezTo>
                <a:cubicBezTo>
                  <a:pt x="8010" y="12279"/>
                  <a:pt x="8080" y="12245"/>
                  <a:pt x="8161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0080" y="424188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9525" y="11782"/>
                </a:moveTo>
                <a:cubicBezTo>
                  <a:pt x="9533" y="11782"/>
                  <a:pt x="9542" y="11782"/>
                  <a:pt x="9550" y="11782"/>
                </a:cubicBezTo>
                <a:cubicBezTo>
                  <a:pt x="9484" y="11782"/>
                  <a:pt x="9440" y="11802"/>
                  <a:pt x="9376" y="11807"/>
                </a:cubicBezTo>
                <a:cubicBezTo>
                  <a:pt x="9371" y="11807"/>
                  <a:pt x="9278" y="11831"/>
                  <a:pt x="9277" y="11832"/>
                </a:cubicBezTo>
                <a:cubicBezTo>
                  <a:pt x="9277" y="11840"/>
                  <a:pt x="9277" y="11849"/>
                  <a:pt x="9277" y="11857"/>
                </a:cubicBezTo>
              </a:path>
              <a:path w="348" h="249">
                <a:moveTo>
                  <a:pt x="9599" y="11981"/>
                </a:moveTo>
                <a:cubicBezTo>
                  <a:pt x="9607" y="11981"/>
                  <a:pt x="9616" y="11981"/>
                  <a:pt x="9624" y="11981"/>
                </a:cubicBezTo>
                <a:cubicBezTo>
                  <a:pt x="9592" y="12004"/>
                  <a:pt x="9534" y="12023"/>
                  <a:pt x="9500" y="12030"/>
                </a:cubicBezTo>
                <a:cubicBezTo>
                  <a:pt x="9484" y="12030"/>
                  <a:pt x="9467" y="12030"/>
                  <a:pt x="9451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36920" y="4884840"/>
            <a:ext cx="500040" cy="20628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7193" y="13791"/>
                </a:moveTo>
                <a:cubicBezTo>
                  <a:pt x="7137" y="13791"/>
                  <a:pt x="7160" y="13811"/>
                  <a:pt x="7119" y="13816"/>
                </a:cubicBezTo>
                <a:cubicBezTo>
                  <a:pt x="7095" y="13819"/>
                  <a:pt x="7069" y="13816"/>
                  <a:pt x="7045" y="13816"/>
                </a:cubicBezTo>
                <a:cubicBezTo>
                  <a:pt x="7045" y="13745"/>
                  <a:pt x="7069" y="13719"/>
                  <a:pt x="7119" y="13667"/>
                </a:cubicBezTo>
                <a:cubicBezTo>
                  <a:pt x="7153" y="13631"/>
                  <a:pt x="7257" y="13547"/>
                  <a:pt x="7317" y="13593"/>
                </a:cubicBezTo>
                <a:cubicBezTo>
                  <a:pt x="7369" y="13633"/>
                  <a:pt x="7353" y="13814"/>
                  <a:pt x="7342" y="13866"/>
                </a:cubicBezTo>
                <a:cubicBezTo>
                  <a:pt x="7325" y="13945"/>
                  <a:pt x="7274" y="14007"/>
                  <a:pt x="7268" y="14089"/>
                </a:cubicBezTo>
                <a:cubicBezTo>
                  <a:pt x="7264" y="14143"/>
                  <a:pt x="7324" y="14152"/>
                  <a:pt x="7367" y="14139"/>
                </a:cubicBezTo>
                <a:cubicBezTo>
                  <a:pt x="7430" y="14121"/>
                  <a:pt x="7507" y="14109"/>
                  <a:pt x="7565" y="14089"/>
                </a:cubicBezTo>
                <a:cubicBezTo>
                  <a:pt x="7616" y="14072"/>
                  <a:pt x="7635" y="14064"/>
                  <a:pt x="7689" y="14064"/>
                </a:cubicBezTo>
              </a:path>
              <a:path w="1390" h="572">
                <a:moveTo>
                  <a:pt x="7764" y="13717"/>
                </a:moveTo>
                <a:cubicBezTo>
                  <a:pt x="7764" y="13692"/>
                  <a:pt x="7764" y="13668"/>
                  <a:pt x="7764" y="13643"/>
                </a:cubicBezTo>
                <a:cubicBezTo>
                  <a:pt x="7764" y="13699"/>
                  <a:pt x="7782" y="13741"/>
                  <a:pt x="7789" y="13791"/>
                </a:cubicBezTo>
                <a:cubicBezTo>
                  <a:pt x="7800" y="13871"/>
                  <a:pt x="7798" y="13949"/>
                  <a:pt x="7838" y="14015"/>
                </a:cubicBezTo>
              </a:path>
              <a:path w="1390" h="572">
                <a:moveTo>
                  <a:pt x="8086" y="13643"/>
                </a:moveTo>
                <a:cubicBezTo>
                  <a:pt x="8115" y="13592"/>
                  <a:pt x="8110" y="13581"/>
                  <a:pt x="8161" y="13568"/>
                </a:cubicBezTo>
                <a:cubicBezTo>
                  <a:pt x="8098" y="13589"/>
                  <a:pt x="8102" y="13677"/>
                  <a:pt x="8086" y="13742"/>
                </a:cubicBezTo>
                <a:cubicBezTo>
                  <a:pt x="8062" y="13838"/>
                  <a:pt x="8063" y="13977"/>
                  <a:pt x="8161" y="14039"/>
                </a:cubicBezTo>
                <a:cubicBezTo>
                  <a:pt x="8260" y="14102"/>
                  <a:pt x="8337" y="14056"/>
                  <a:pt x="8409" y="13990"/>
                </a:cubicBezTo>
                <a:cubicBezTo>
                  <a:pt x="8452" y="13951"/>
                  <a:pt x="8446" y="13875"/>
                  <a:pt x="8384" y="13866"/>
                </a:cubicBezTo>
                <a:cubicBezTo>
                  <a:pt x="8301" y="13854"/>
                  <a:pt x="8251" y="13908"/>
                  <a:pt x="8210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2240" y="3357720"/>
            <a:ext cx="519120" cy="1196640"/>
          </a:xfrm>
          <a:custGeom>
            <a:avLst/>
            <a:gdLst/>
            <a:ahLst/>
            <a:rect l="l" t="t" r="r" b="b"/>
            <a:pathLst>
              <a:path w="1440" h="3324">
                <a:moveTo>
                  <a:pt x="11807" y="9401"/>
                </a:moveTo>
                <a:cubicBezTo>
                  <a:pt x="11843" y="9293"/>
                  <a:pt x="11806" y="9396"/>
                  <a:pt x="11782" y="9327"/>
                </a:cubicBezTo>
                <a:cubicBezTo>
                  <a:pt x="11782" y="9509"/>
                  <a:pt x="11782" y="9690"/>
                  <a:pt x="11782" y="9872"/>
                </a:cubicBezTo>
              </a:path>
              <a:path w="1440" h="3324">
                <a:moveTo>
                  <a:pt x="12080" y="9550"/>
                </a:moveTo>
                <a:cubicBezTo>
                  <a:pt x="12032" y="9562"/>
                  <a:pt x="12022" y="9597"/>
                  <a:pt x="11981" y="9624"/>
                </a:cubicBezTo>
                <a:cubicBezTo>
                  <a:pt x="11930" y="9657"/>
                  <a:pt x="11881" y="9688"/>
                  <a:pt x="11857" y="9748"/>
                </a:cubicBezTo>
                <a:cubicBezTo>
                  <a:pt x="11841" y="9790"/>
                  <a:pt x="11867" y="9820"/>
                  <a:pt x="11906" y="9823"/>
                </a:cubicBezTo>
                <a:cubicBezTo>
                  <a:pt x="11988" y="9829"/>
                  <a:pt x="12072" y="9823"/>
                  <a:pt x="12154" y="9823"/>
                </a:cubicBezTo>
              </a:path>
              <a:path w="1440" h="3324">
                <a:moveTo>
                  <a:pt x="12700" y="9971"/>
                </a:moveTo>
                <a:cubicBezTo>
                  <a:pt x="12725" y="9971"/>
                  <a:pt x="12733" y="9971"/>
                  <a:pt x="12725" y="9996"/>
                </a:cubicBezTo>
                <a:cubicBezTo>
                  <a:pt x="12644" y="9996"/>
                  <a:pt x="12581" y="9998"/>
                  <a:pt x="12502" y="10021"/>
                </a:cubicBezTo>
                <a:cubicBezTo>
                  <a:pt x="12366" y="10061"/>
                  <a:pt x="12197" y="10062"/>
                  <a:pt x="12055" y="10071"/>
                </a:cubicBezTo>
                <a:cubicBezTo>
                  <a:pt x="11898" y="10081"/>
                  <a:pt x="11738" y="10068"/>
                  <a:pt x="11584" y="10096"/>
                </a:cubicBezTo>
                <a:cubicBezTo>
                  <a:pt x="11514" y="10109"/>
                  <a:pt x="11426" y="10148"/>
                  <a:pt x="11361" y="10170"/>
                </a:cubicBezTo>
                <a:cubicBezTo>
                  <a:pt x="11320" y="10190"/>
                  <a:pt x="11314" y="10199"/>
                  <a:pt x="11286" y="10195"/>
                </a:cubicBezTo>
              </a:path>
              <a:path w="1440" h="3324">
                <a:moveTo>
                  <a:pt x="11733" y="10592"/>
                </a:moveTo>
                <a:cubicBezTo>
                  <a:pt x="11733" y="10567"/>
                  <a:pt x="11733" y="10542"/>
                  <a:pt x="11733" y="10517"/>
                </a:cubicBezTo>
                <a:cubicBezTo>
                  <a:pt x="11733" y="10579"/>
                  <a:pt x="11741" y="10659"/>
                  <a:pt x="11757" y="10716"/>
                </a:cubicBezTo>
                <a:cubicBezTo>
                  <a:pt x="11770" y="10763"/>
                  <a:pt x="11784" y="10802"/>
                  <a:pt x="11807" y="10840"/>
                </a:cubicBezTo>
                <a:cubicBezTo>
                  <a:pt x="11835" y="10803"/>
                  <a:pt x="11849" y="10738"/>
                  <a:pt x="11857" y="10691"/>
                </a:cubicBezTo>
                <a:cubicBezTo>
                  <a:pt x="11861" y="10666"/>
                  <a:pt x="11872" y="10567"/>
                  <a:pt x="11931" y="10592"/>
                </a:cubicBezTo>
                <a:cubicBezTo>
                  <a:pt x="11968" y="10608"/>
                  <a:pt x="11998" y="10684"/>
                  <a:pt x="12030" y="10716"/>
                </a:cubicBezTo>
                <a:cubicBezTo>
                  <a:pt x="12038" y="10716"/>
                  <a:pt x="12047" y="10716"/>
                  <a:pt x="12055" y="10716"/>
                </a:cubicBezTo>
                <a:cubicBezTo>
                  <a:pt x="12055" y="10612"/>
                  <a:pt x="12044" y="10514"/>
                  <a:pt x="12080" y="10418"/>
                </a:cubicBezTo>
                <a:cubicBezTo>
                  <a:pt x="12175" y="10456"/>
                  <a:pt x="12202" y="10554"/>
                  <a:pt x="12254" y="10641"/>
                </a:cubicBezTo>
                <a:cubicBezTo>
                  <a:pt x="12270" y="10666"/>
                  <a:pt x="12287" y="10691"/>
                  <a:pt x="12303" y="10716"/>
                </a:cubicBezTo>
              </a:path>
              <a:path w="1440" h="3324">
                <a:moveTo>
                  <a:pt x="11336" y="11162"/>
                </a:moveTo>
                <a:cubicBezTo>
                  <a:pt x="11378" y="11176"/>
                  <a:pt x="11383" y="11232"/>
                  <a:pt x="11385" y="11286"/>
                </a:cubicBezTo>
                <a:cubicBezTo>
                  <a:pt x="11389" y="11406"/>
                  <a:pt x="11420" y="11516"/>
                  <a:pt x="11435" y="11633"/>
                </a:cubicBezTo>
                <a:cubicBezTo>
                  <a:pt x="11435" y="11678"/>
                  <a:pt x="11432" y="11691"/>
                  <a:pt x="11460" y="11708"/>
                </a:cubicBezTo>
              </a:path>
              <a:path w="1440" h="3324">
                <a:moveTo>
                  <a:pt x="11584" y="11385"/>
                </a:moveTo>
                <a:cubicBezTo>
                  <a:pt x="11592" y="11369"/>
                  <a:pt x="11601" y="11352"/>
                  <a:pt x="11609" y="11336"/>
                </a:cubicBezTo>
                <a:cubicBezTo>
                  <a:pt x="11590" y="11348"/>
                  <a:pt x="11558" y="11398"/>
                  <a:pt x="11534" y="11435"/>
                </a:cubicBezTo>
                <a:cubicBezTo>
                  <a:pt x="11497" y="11493"/>
                  <a:pt x="11497" y="11566"/>
                  <a:pt x="11559" y="11609"/>
                </a:cubicBezTo>
                <a:cubicBezTo>
                  <a:pt x="11628" y="11657"/>
                  <a:pt x="11712" y="11632"/>
                  <a:pt x="11782" y="11609"/>
                </a:cubicBezTo>
                <a:cubicBezTo>
                  <a:pt x="11807" y="11601"/>
                  <a:pt x="11832" y="11592"/>
                  <a:pt x="11857" y="11584"/>
                </a:cubicBezTo>
              </a:path>
              <a:path w="1440" h="3324">
                <a:moveTo>
                  <a:pt x="12278" y="11881"/>
                </a:moveTo>
                <a:cubicBezTo>
                  <a:pt x="12191" y="11881"/>
                  <a:pt x="12115" y="11900"/>
                  <a:pt x="12030" y="11906"/>
                </a:cubicBezTo>
                <a:cubicBezTo>
                  <a:pt x="11846" y="11920"/>
                  <a:pt x="11665" y="11907"/>
                  <a:pt x="11485" y="11931"/>
                </a:cubicBezTo>
                <a:cubicBezTo>
                  <a:pt x="11436" y="11937"/>
                  <a:pt x="11427" y="11945"/>
                  <a:pt x="11385" y="11956"/>
                </a:cubicBezTo>
              </a:path>
              <a:path w="1440" h="3324">
                <a:moveTo>
                  <a:pt x="11584" y="12204"/>
                </a:moveTo>
                <a:cubicBezTo>
                  <a:pt x="11548" y="12177"/>
                  <a:pt x="11545" y="12187"/>
                  <a:pt x="11534" y="12154"/>
                </a:cubicBezTo>
                <a:cubicBezTo>
                  <a:pt x="11580" y="12108"/>
                  <a:pt x="11624" y="12084"/>
                  <a:pt x="11683" y="12055"/>
                </a:cubicBezTo>
                <a:cubicBezTo>
                  <a:pt x="11767" y="12013"/>
                  <a:pt x="11810" y="12025"/>
                  <a:pt x="11857" y="12105"/>
                </a:cubicBezTo>
                <a:cubicBezTo>
                  <a:pt x="11893" y="12167"/>
                  <a:pt x="11899" y="12266"/>
                  <a:pt x="11857" y="12328"/>
                </a:cubicBezTo>
                <a:cubicBezTo>
                  <a:pt x="11818" y="12386"/>
                  <a:pt x="11738" y="12415"/>
                  <a:pt x="11708" y="12452"/>
                </a:cubicBezTo>
                <a:cubicBezTo>
                  <a:pt x="11708" y="12460"/>
                  <a:pt x="11708" y="12469"/>
                  <a:pt x="11708" y="12477"/>
                </a:cubicBezTo>
                <a:cubicBezTo>
                  <a:pt x="11768" y="12513"/>
                  <a:pt x="11832" y="12502"/>
                  <a:pt x="11906" y="12502"/>
                </a:cubicBezTo>
                <a:cubicBezTo>
                  <a:pt x="11966" y="12502"/>
                  <a:pt x="11985" y="12515"/>
                  <a:pt x="12030" y="12551"/>
                </a:cubicBezTo>
                <a:cubicBezTo>
                  <a:pt x="12019" y="12595"/>
                  <a:pt x="11984" y="12641"/>
                  <a:pt x="11931" y="12650"/>
                </a:cubicBezTo>
                <a:cubicBezTo>
                  <a:pt x="11863" y="12662"/>
                  <a:pt x="11778" y="12650"/>
                  <a:pt x="11708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17920" y="4776840"/>
            <a:ext cx="573120" cy="223920"/>
          </a:xfrm>
          <a:custGeom>
            <a:avLst/>
            <a:gdLst/>
            <a:ahLst/>
            <a:rect l="l" t="t" r="r" b="b"/>
            <a:pathLst>
              <a:path w="1589" h="621">
                <a:moveTo>
                  <a:pt x="10939" y="13320"/>
                </a:moveTo>
                <a:cubicBezTo>
                  <a:pt x="10939" y="13304"/>
                  <a:pt x="10939" y="13287"/>
                  <a:pt x="10939" y="13271"/>
                </a:cubicBezTo>
                <a:cubicBezTo>
                  <a:pt x="10939" y="13470"/>
                  <a:pt x="10923" y="13677"/>
                  <a:pt x="10964" y="13866"/>
                </a:cubicBezTo>
                <a:cubicBezTo>
                  <a:pt x="10964" y="13874"/>
                  <a:pt x="10964" y="13883"/>
                  <a:pt x="10964" y="13891"/>
                </a:cubicBezTo>
              </a:path>
              <a:path w="1589" h="621">
                <a:moveTo>
                  <a:pt x="11063" y="13519"/>
                </a:moveTo>
                <a:cubicBezTo>
                  <a:pt x="11071" y="13502"/>
                  <a:pt x="11080" y="13486"/>
                  <a:pt x="11088" y="13469"/>
                </a:cubicBezTo>
                <a:cubicBezTo>
                  <a:pt x="11040" y="13481"/>
                  <a:pt x="11026" y="13515"/>
                  <a:pt x="11013" y="13568"/>
                </a:cubicBezTo>
                <a:cubicBezTo>
                  <a:pt x="10993" y="13647"/>
                  <a:pt x="11015" y="13674"/>
                  <a:pt x="11063" y="13717"/>
                </a:cubicBezTo>
                <a:cubicBezTo>
                  <a:pt x="11123" y="13771"/>
                  <a:pt x="11171" y="13728"/>
                  <a:pt x="11237" y="13717"/>
                </a:cubicBezTo>
                <a:cubicBezTo>
                  <a:pt x="11291" y="13708"/>
                  <a:pt x="11346" y="13712"/>
                  <a:pt x="11361" y="13667"/>
                </a:cubicBezTo>
              </a:path>
              <a:path w="1589" h="621">
                <a:moveTo>
                  <a:pt x="9996" y="13494"/>
                </a:moveTo>
                <a:cubicBezTo>
                  <a:pt x="10004" y="13494"/>
                  <a:pt x="10013" y="13494"/>
                  <a:pt x="10021" y="13494"/>
                </a:cubicBezTo>
                <a:cubicBezTo>
                  <a:pt x="10008" y="13533"/>
                  <a:pt x="9982" y="13519"/>
                  <a:pt x="9947" y="13543"/>
                </a:cubicBezTo>
                <a:cubicBezTo>
                  <a:pt x="9912" y="13566"/>
                  <a:pt x="9861" y="13580"/>
                  <a:pt x="9823" y="13593"/>
                </a:cubicBezTo>
                <a:cubicBezTo>
                  <a:pt x="9795" y="13593"/>
                  <a:pt x="9784" y="13595"/>
                  <a:pt x="9773" y="13618"/>
                </a:cubicBezTo>
              </a:path>
              <a:path w="1589" h="621">
                <a:moveTo>
                  <a:pt x="9996" y="13667"/>
                </a:moveTo>
                <a:cubicBezTo>
                  <a:pt x="9996" y="13659"/>
                  <a:pt x="9996" y="13651"/>
                  <a:pt x="9996" y="13643"/>
                </a:cubicBezTo>
                <a:cubicBezTo>
                  <a:pt x="9958" y="13671"/>
                  <a:pt x="9916" y="13674"/>
                  <a:pt x="9872" y="13692"/>
                </a:cubicBezTo>
                <a:cubicBezTo>
                  <a:pt x="9832" y="13712"/>
                  <a:pt x="9826" y="13721"/>
                  <a:pt x="979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40320" y="2554200"/>
            <a:ext cx="517680" cy="268200"/>
          </a:xfrm>
          <a:custGeom>
            <a:avLst/>
            <a:gdLst/>
            <a:ahLst/>
            <a:rect l="l" t="t" r="r" b="b"/>
            <a:pathLst>
              <a:path w="1440" h="745">
                <a:moveTo>
                  <a:pt x="17636" y="7193"/>
                </a:moveTo>
                <a:cubicBezTo>
                  <a:pt x="17655" y="7136"/>
                  <a:pt x="17664" y="7129"/>
                  <a:pt x="17661" y="7094"/>
                </a:cubicBezTo>
                <a:cubicBezTo>
                  <a:pt x="17643" y="7182"/>
                  <a:pt x="17618" y="7273"/>
                  <a:pt x="17611" y="7367"/>
                </a:cubicBezTo>
                <a:cubicBezTo>
                  <a:pt x="17601" y="7498"/>
                  <a:pt x="17611" y="7633"/>
                  <a:pt x="17611" y="7764"/>
                </a:cubicBezTo>
                <a:cubicBezTo>
                  <a:pt x="17679" y="7764"/>
                  <a:pt x="17699" y="7698"/>
                  <a:pt x="17735" y="7640"/>
                </a:cubicBezTo>
                <a:cubicBezTo>
                  <a:pt x="17779" y="7571"/>
                  <a:pt x="17783" y="7560"/>
                  <a:pt x="17859" y="7541"/>
                </a:cubicBezTo>
                <a:cubicBezTo>
                  <a:pt x="17928" y="7622"/>
                  <a:pt x="17944" y="7693"/>
                  <a:pt x="17983" y="7789"/>
                </a:cubicBezTo>
                <a:cubicBezTo>
                  <a:pt x="17991" y="7805"/>
                  <a:pt x="18000" y="7822"/>
                  <a:pt x="18008" y="7838"/>
                </a:cubicBezTo>
              </a:path>
              <a:path w="1440" h="745">
                <a:moveTo>
                  <a:pt x="18976" y="7317"/>
                </a:moveTo>
                <a:cubicBezTo>
                  <a:pt x="19005" y="7347"/>
                  <a:pt x="19013" y="7358"/>
                  <a:pt x="19050" y="7367"/>
                </a:cubicBezTo>
                <a:cubicBezTo>
                  <a:pt x="19018" y="7311"/>
                  <a:pt x="18988" y="7246"/>
                  <a:pt x="18951" y="7193"/>
                </a:cubicBezTo>
                <a:cubicBezTo>
                  <a:pt x="18923" y="7152"/>
                  <a:pt x="18826" y="7104"/>
                  <a:pt x="18777" y="7119"/>
                </a:cubicBezTo>
                <a:cubicBezTo>
                  <a:pt x="18715" y="7138"/>
                  <a:pt x="18662" y="7260"/>
                  <a:pt x="18653" y="7317"/>
                </a:cubicBezTo>
                <a:cubicBezTo>
                  <a:pt x="18640" y="7399"/>
                  <a:pt x="18640" y="7487"/>
                  <a:pt x="18628" y="7565"/>
                </a:cubicBezTo>
                <a:cubicBezTo>
                  <a:pt x="18618" y="7626"/>
                  <a:pt x="18617" y="7692"/>
                  <a:pt x="18579" y="7739"/>
                </a:cubicBezTo>
                <a:cubicBezTo>
                  <a:pt x="18556" y="7762"/>
                  <a:pt x="18552" y="7770"/>
                  <a:pt x="18529" y="7764"/>
                </a:cubicBezTo>
                <a:cubicBezTo>
                  <a:pt x="18494" y="7720"/>
                  <a:pt x="18459" y="7673"/>
                  <a:pt x="18455" y="7615"/>
                </a:cubicBezTo>
                <a:cubicBezTo>
                  <a:pt x="18452" y="7570"/>
                  <a:pt x="18440" y="7496"/>
                  <a:pt x="18479" y="7466"/>
                </a:cubicBezTo>
                <a:cubicBezTo>
                  <a:pt x="18520" y="7434"/>
                  <a:pt x="18554" y="7417"/>
                  <a:pt x="18604" y="7417"/>
                </a:cubicBezTo>
                <a:cubicBezTo>
                  <a:pt x="18659" y="7417"/>
                  <a:pt x="18669" y="7480"/>
                  <a:pt x="18703" y="7516"/>
                </a:cubicBezTo>
                <a:cubicBezTo>
                  <a:pt x="18740" y="7556"/>
                  <a:pt x="18796" y="7627"/>
                  <a:pt x="18852" y="7640"/>
                </a:cubicBezTo>
                <a:cubicBezTo>
                  <a:pt x="18893" y="7640"/>
                  <a:pt x="18901" y="7640"/>
                  <a:pt x="18926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53200" y="2401920"/>
            <a:ext cx="347760" cy="376200"/>
          </a:xfrm>
          <a:custGeom>
            <a:avLst/>
            <a:gdLst/>
            <a:ahLst/>
            <a:rect l="l" t="t" r="r" b="b"/>
            <a:pathLst>
              <a:path w="968" h="1043">
                <a:moveTo>
                  <a:pt x="20141" y="6672"/>
                </a:moveTo>
                <a:cubicBezTo>
                  <a:pt x="20141" y="6791"/>
                  <a:pt x="20107" y="6972"/>
                  <a:pt x="20166" y="7069"/>
                </a:cubicBezTo>
              </a:path>
              <a:path w="968" h="1043">
                <a:moveTo>
                  <a:pt x="20836" y="7218"/>
                </a:moveTo>
                <a:cubicBezTo>
                  <a:pt x="20692" y="7218"/>
                  <a:pt x="20555" y="7203"/>
                  <a:pt x="20414" y="7193"/>
                </a:cubicBezTo>
                <a:cubicBezTo>
                  <a:pt x="20277" y="7183"/>
                  <a:pt x="19987" y="7146"/>
                  <a:pt x="19869" y="7218"/>
                </a:cubicBezTo>
              </a:path>
              <a:path w="968" h="1043">
                <a:moveTo>
                  <a:pt x="20017" y="7516"/>
                </a:moveTo>
                <a:cubicBezTo>
                  <a:pt x="20017" y="7488"/>
                  <a:pt x="20019" y="7477"/>
                  <a:pt x="20042" y="7466"/>
                </a:cubicBezTo>
                <a:cubicBezTo>
                  <a:pt x="20042" y="7547"/>
                  <a:pt x="20049" y="7613"/>
                  <a:pt x="20067" y="7689"/>
                </a:cubicBezTo>
                <a:cubicBezTo>
                  <a:pt x="20067" y="7697"/>
                  <a:pt x="20067" y="7706"/>
                  <a:pt x="20067" y="7714"/>
                </a:cubicBezTo>
                <a:cubicBezTo>
                  <a:pt x="20107" y="7701"/>
                  <a:pt x="20099" y="7661"/>
                  <a:pt x="20117" y="7615"/>
                </a:cubicBezTo>
                <a:cubicBezTo>
                  <a:pt x="20139" y="7558"/>
                  <a:pt x="20158" y="7505"/>
                  <a:pt x="20216" y="7491"/>
                </a:cubicBezTo>
                <a:cubicBezTo>
                  <a:pt x="20238" y="7519"/>
                  <a:pt x="20287" y="7626"/>
                  <a:pt x="20315" y="7640"/>
                </a:cubicBezTo>
                <a:cubicBezTo>
                  <a:pt x="20383" y="7674"/>
                  <a:pt x="20412" y="7574"/>
                  <a:pt x="20439" y="7541"/>
                </a:cubicBezTo>
                <a:cubicBezTo>
                  <a:pt x="20503" y="7464"/>
                  <a:pt x="20552" y="7491"/>
                  <a:pt x="20613" y="7565"/>
                </a:cubicBezTo>
                <a:cubicBezTo>
                  <a:pt x="20658" y="7635"/>
                  <a:pt x="20670" y="7655"/>
                  <a:pt x="20712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83200" y="3232080"/>
            <a:ext cx="108000" cy="21600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6619" y="9079"/>
                </a:moveTo>
                <a:cubicBezTo>
                  <a:pt x="16639" y="9014"/>
                  <a:pt x="16628" y="8993"/>
                  <a:pt x="16669" y="8979"/>
                </a:cubicBezTo>
                <a:cubicBezTo>
                  <a:pt x="16669" y="9040"/>
                  <a:pt x="16627" y="9072"/>
                  <a:pt x="16619" y="9128"/>
                </a:cubicBezTo>
                <a:cubicBezTo>
                  <a:pt x="16598" y="9270"/>
                  <a:pt x="16619" y="9431"/>
                  <a:pt x="16619" y="9575"/>
                </a:cubicBezTo>
                <a:cubicBezTo>
                  <a:pt x="16675" y="9575"/>
                  <a:pt x="16691" y="9531"/>
                  <a:pt x="16718" y="9475"/>
                </a:cubicBezTo>
                <a:cubicBezTo>
                  <a:pt x="16759" y="9389"/>
                  <a:pt x="16749" y="9365"/>
                  <a:pt x="16842" y="9351"/>
                </a:cubicBezTo>
                <a:cubicBezTo>
                  <a:pt x="16873" y="9412"/>
                  <a:pt x="16882" y="9480"/>
                  <a:pt x="16917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40320" y="3321000"/>
            <a:ext cx="61920" cy="730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7760" y="9252"/>
                </a:moveTo>
                <a:cubicBezTo>
                  <a:pt x="17768" y="9244"/>
                  <a:pt x="17777" y="9235"/>
                  <a:pt x="17785" y="9227"/>
                </a:cubicBezTo>
                <a:cubicBezTo>
                  <a:pt x="17772" y="9267"/>
                  <a:pt x="17738" y="9273"/>
                  <a:pt x="17686" y="9277"/>
                </a:cubicBezTo>
                <a:cubicBezTo>
                  <a:pt x="17653" y="9277"/>
                  <a:pt x="17636" y="9277"/>
                  <a:pt x="17611" y="9277"/>
                </a:cubicBezTo>
              </a:path>
              <a:path w="175" h="200">
                <a:moveTo>
                  <a:pt x="17735" y="9327"/>
                </a:moveTo>
                <a:cubicBezTo>
                  <a:pt x="17756" y="9355"/>
                  <a:pt x="17785" y="9400"/>
                  <a:pt x="17735" y="9426"/>
                </a:cubicBezTo>
                <a:cubicBezTo>
                  <a:pt x="17711" y="9426"/>
                  <a:pt x="17702" y="9426"/>
                  <a:pt x="17686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0000" y="3044880"/>
            <a:ext cx="457200" cy="53640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18777" y="8706"/>
                </a:moveTo>
                <a:cubicBezTo>
                  <a:pt x="18749" y="8697"/>
                  <a:pt x="18734" y="8650"/>
                  <a:pt x="18752" y="8607"/>
                </a:cubicBezTo>
                <a:cubicBezTo>
                  <a:pt x="18780" y="8539"/>
                  <a:pt x="18840" y="8533"/>
                  <a:pt x="18901" y="8533"/>
                </a:cubicBezTo>
                <a:cubicBezTo>
                  <a:pt x="18992" y="8533"/>
                  <a:pt x="18996" y="8575"/>
                  <a:pt x="19000" y="8657"/>
                </a:cubicBezTo>
                <a:cubicBezTo>
                  <a:pt x="19004" y="8731"/>
                  <a:pt x="18970" y="8876"/>
                  <a:pt x="18926" y="8930"/>
                </a:cubicBezTo>
                <a:cubicBezTo>
                  <a:pt x="18904" y="8957"/>
                  <a:pt x="18876" y="9004"/>
                  <a:pt x="18926" y="9029"/>
                </a:cubicBezTo>
                <a:cubicBezTo>
                  <a:pt x="18975" y="9053"/>
                  <a:pt x="19025" y="9047"/>
                  <a:pt x="19075" y="9029"/>
                </a:cubicBezTo>
                <a:cubicBezTo>
                  <a:pt x="19123" y="9005"/>
                  <a:pt x="19137" y="8996"/>
                  <a:pt x="19174" y="9004"/>
                </a:cubicBezTo>
              </a:path>
              <a:path w="1266" h="1490">
                <a:moveTo>
                  <a:pt x="19298" y="8483"/>
                </a:moveTo>
                <a:cubicBezTo>
                  <a:pt x="19323" y="8433"/>
                  <a:pt x="19323" y="8501"/>
                  <a:pt x="19323" y="8533"/>
                </a:cubicBezTo>
                <a:cubicBezTo>
                  <a:pt x="19323" y="8650"/>
                  <a:pt x="19307" y="8772"/>
                  <a:pt x="19348" y="8880"/>
                </a:cubicBezTo>
              </a:path>
              <a:path w="1266" h="1490">
                <a:moveTo>
                  <a:pt x="19546" y="8508"/>
                </a:moveTo>
                <a:cubicBezTo>
                  <a:pt x="19566" y="8467"/>
                  <a:pt x="19564" y="8451"/>
                  <a:pt x="19596" y="8458"/>
                </a:cubicBezTo>
                <a:cubicBezTo>
                  <a:pt x="19549" y="8553"/>
                  <a:pt x="19525" y="8598"/>
                  <a:pt x="19521" y="8706"/>
                </a:cubicBezTo>
                <a:cubicBezTo>
                  <a:pt x="19518" y="8791"/>
                  <a:pt x="19506" y="8931"/>
                  <a:pt x="19596" y="8979"/>
                </a:cubicBezTo>
                <a:cubicBezTo>
                  <a:pt x="19659" y="9013"/>
                  <a:pt x="19692" y="8954"/>
                  <a:pt x="19695" y="8905"/>
                </a:cubicBezTo>
                <a:cubicBezTo>
                  <a:pt x="19700" y="8837"/>
                  <a:pt x="19687" y="8806"/>
                  <a:pt x="19621" y="8806"/>
                </a:cubicBezTo>
                <a:cubicBezTo>
                  <a:pt x="19580" y="8806"/>
                  <a:pt x="19530" y="8835"/>
                  <a:pt x="19496" y="8855"/>
                </a:cubicBezTo>
              </a:path>
              <a:path w="1266" h="1490">
                <a:moveTo>
                  <a:pt x="20017" y="9227"/>
                </a:moveTo>
                <a:cubicBezTo>
                  <a:pt x="19783" y="9227"/>
                  <a:pt x="19554" y="9220"/>
                  <a:pt x="19323" y="9203"/>
                </a:cubicBezTo>
                <a:cubicBezTo>
                  <a:pt x="19197" y="9194"/>
                  <a:pt x="19078" y="9178"/>
                  <a:pt x="18951" y="9178"/>
                </a:cubicBezTo>
                <a:cubicBezTo>
                  <a:pt x="18885" y="9178"/>
                  <a:pt x="18868" y="9178"/>
                  <a:pt x="18827" y="9178"/>
                </a:cubicBezTo>
              </a:path>
              <a:path w="1266" h="1490">
                <a:moveTo>
                  <a:pt x="19199" y="9525"/>
                </a:moveTo>
                <a:cubicBezTo>
                  <a:pt x="19199" y="9517"/>
                  <a:pt x="19199" y="9508"/>
                  <a:pt x="19199" y="9500"/>
                </a:cubicBezTo>
                <a:cubicBezTo>
                  <a:pt x="19177" y="9530"/>
                  <a:pt x="19156" y="9581"/>
                  <a:pt x="19174" y="9624"/>
                </a:cubicBezTo>
                <a:cubicBezTo>
                  <a:pt x="19199" y="9685"/>
                  <a:pt x="19323" y="9681"/>
                  <a:pt x="19372" y="9699"/>
                </a:cubicBezTo>
                <a:cubicBezTo>
                  <a:pt x="19425" y="9719"/>
                  <a:pt x="19489" y="9749"/>
                  <a:pt x="19521" y="9798"/>
                </a:cubicBezTo>
                <a:cubicBezTo>
                  <a:pt x="19544" y="9833"/>
                  <a:pt x="19574" y="9921"/>
                  <a:pt x="19521" y="9947"/>
                </a:cubicBezTo>
                <a:cubicBezTo>
                  <a:pt x="19478" y="9968"/>
                  <a:pt x="19408" y="9935"/>
                  <a:pt x="19372" y="9922"/>
                </a:cubicBezTo>
                <a:cubicBezTo>
                  <a:pt x="19306" y="9899"/>
                  <a:pt x="19252" y="9870"/>
                  <a:pt x="19199" y="9823"/>
                </a:cubicBezTo>
                <a:cubicBezTo>
                  <a:pt x="19191" y="9815"/>
                  <a:pt x="19182" y="9806"/>
                  <a:pt x="19174" y="9798"/>
                </a:cubicBezTo>
              </a:path>
              <a:path w="1266" h="1490">
                <a:moveTo>
                  <a:pt x="19521" y="9550"/>
                </a:moveTo>
                <a:cubicBezTo>
                  <a:pt x="19544" y="9527"/>
                  <a:pt x="19552" y="9523"/>
                  <a:pt x="19546" y="9500"/>
                </a:cubicBezTo>
                <a:cubicBezTo>
                  <a:pt x="19475" y="9500"/>
                  <a:pt x="19445" y="9521"/>
                  <a:pt x="19372" y="9525"/>
                </a:cubicBezTo>
                <a:cubicBezTo>
                  <a:pt x="19356" y="9525"/>
                  <a:pt x="19339" y="9525"/>
                  <a:pt x="19323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57960" y="3919680"/>
            <a:ext cx="7128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7785" y="10889"/>
                </a:moveTo>
                <a:cubicBezTo>
                  <a:pt x="17814" y="10896"/>
                  <a:pt x="17830" y="10906"/>
                  <a:pt x="17859" y="10914"/>
                </a:cubicBezTo>
                <a:cubicBezTo>
                  <a:pt x="17847" y="10952"/>
                  <a:pt x="17830" y="10939"/>
                  <a:pt x="17785" y="10939"/>
                </a:cubicBezTo>
                <a:cubicBezTo>
                  <a:pt x="17744" y="10939"/>
                  <a:pt x="17702" y="10939"/>
                  <a:pt x="17661" y="10939"/>
                </a:cubicBezTo>
              </a:path>
              <a:path w="199" h="249">
                <a:moveTo>
                  <a:pt x="17835" y="11063"/>
                </a:moveTo>
                <a:cubicBezTo>
                  <a:pt x="17835" y="11071"/>
                  <a:pt x="17835" y="11080"/>
                  <a:pt x="17835" y="11088"/>
                </a:cubicBezTo>
                <a:cubicBezTo>
                  <a:pt x="17794" y="11098"/>
                  <a:pt x="17775" y="11127"/>
                  <a:pt x="17735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88080" y="3857760"/>
            <a:ext cx="831960" cy="233280"/>
          </a:xfrm>
          <a:custGeom>
            <a:avLst/>
            <a:gdLst/>
            <a:ahLst/>
            <a:rect l="l" t="t" r="r" b="b"/>
            <a:pathLst>
              <a:path w="2308" h="646">
                <a:moveTo>
                  <a:pt x="18653" y="10740"/>
                </a:moveTo>
                <a:cubicBezTo>
                  <a:pt x="18661" y="10732"/>
                  <a:pt x="18670" y="10724"/>
                  <a:pt x="18678" y="10716"/>
                </a:cubicBezTo>
                <a:cubicBezTo>
                  <a:pt x="18666" y="10776"/>
                  <a:pt x="18614" y="10829"/>
                  <a:pt x="18604" y="10889"/>
                </a:cubicBezTo>
                <a:cubicBezTo>
                  <a:pt x="18593" y="10955"/>
                  <a:pt x="18561" y="11035"/>
                  <a:pt x="18604" y="11088"/>
                </a:cubicBezTo>
                <a:cubicBezTo>
                  <a:pt x="18660" y="11158"/>
                  <a:pt x="18701" y="11137"/>
                  <a:pt x="18777" y="11112"/>
                </a:cubicBezTo>
                <a:cubicBezTo>
                  <a:pt x="18869" y="11082"/>
                  <a:pt x="18954" y="11088"/>
                  <a:pt x="19050" y="11088"/>
                </a:cubicBezTo>
                <a:cubicBezTo>
                  <a:pt x="19086" y="11088"/>
                  <a:pt x="19178" y="11081"/>
                  <a:pt x="19199" y="11112"/>
                </a:cubicBezTo>
                <a:cubicBezTo>
                  <a:pt x="19199" y="11137"/>
                  <a:pt x="19199" y="11145"/>
                  <a:pt x="19174" y="11137"/>
                </a:cubicBezTo>
              </a:path>
              <a:path w="2308" h="646">
                <a:moveTo>
                  <a:pt x="18876" y="10988"/>
                </a:moveTo>
                <a:cubicBezTo>
                  <a:pt x="18831" y="11004"/>
                  <a:pt x="18852" y="11084"/>
                  <a:pt x="18852" y="11137"/>
                </a:cubicBezTo>
                <a:cubicBezTo>
                  <a:pt x="18852" y="11219"/>
                  <a:pt x="18863" y="11281"/>
                  <a:pt x="18876" y="11361"/>
                </a:cubicBezTo>
              </a:path>
              <a:path w="2308" h="646">
                <a:moveTo>
                  <a:pt x="19273" y="10840"/>
                </a:moveTo>
                <a:cubicBezTo>
                  <a:pt x="19257" y="10832"/>
                  <a:pt x="19240" y="10823"/>
                  <a:pt x="19224" y="10815"/>
                </a:cubicBezTo>
                <a:cubicBezTo>
                  <a:pt x="19274" y="10784"/>
                  <a:pt x="19337" y="10770"/>
                  <a:pt x="19397" y="10740"/>
                </a:cubicBezTo>
                <a:cubicBezTo>
                  <a:pt x="19458" y="10710"/>
                  <a:pt x="19505" y="10701"/>
                  <a:pt x="19546" y="10765"/>
                </a:cubicBezTo>
                <a:cubicBezTo>
                  <a:pt x="19586" y="10828"/>
                  <a:pt x="19587" y="10917"/>
                  <a:pt x="19521" y="10964"/>
                </a:cubicBezTo>
                <a:cubicBezTo>
                  <a:pt x="19471" y="10999"/>
                  <a:pt x="19437" y="11003"/>
                  <a:pt x="19422" y="11063"/>
                </a:cubicBezTo>
                <a:cubicBezTo>
                  <a:pt x="19480" y="11075"/>
                  <a:pt x="19540" y="11087"/>
                  <a:pt x="19596" y="11112"/>
                </a:cubicBezTo>
                <a:cubicBezTo>
                  <a:pt x="19670" y="11145"/>
                  <a:pt x="19670" y="11162"/>
                  <a:pt x="19670" y="11237"/>
                </a:cubicBezTo>
                <a:cubicBezTo>
                  <a:pt x="19670" y="11305"/>
                  <a:pt x="19563" y="11286"/>
                  <a:pt x="19521" y="11286"/>
                </a:cubicBezTo>
                <a:cubicBezTo>
                  <a:pt x="19471" y="11286"/>
                  <a:pt x="19422" y="11286"/>
                  <a:pt x="19372" y="11286"/>
                </a:cubicBezTo>
              </a:path>
              <a:path w="2308" h="646">
                <a:moveTo>
                  <a:pt x="20067" y="11261"/>
                </a:moveTo>
                <a:cubicBezTo>
                  <a:pt x="20090" y="11284"/>
                  <a:pt x="20098" y="11288"/>
                  <a:pt x="20092" y="11311"/>
                </a:cubicBezTo>
              </a:path>
              <a:path w="2308" h="646">
                <a:moveTo>
                  <a:pt x="20340" y="11038"/>
                </a:moveTo>
                <a:cubicBezTo>
                  <a:pt x="20291" y="11010"/>
                  <a:pt x="20263" y="10993"/>
                  <a:pt x="20241" y="10964"/>
                </a:cubicBezTo>
                <a:cubicBezTo>
                  <a:pt x="20205" y="10916"/>
                  <a:pt x="20261" y="10886"/>
                  <a:pt x="20315" y="10864"/>
                </a:cubicBezTo>
                <a:cubicBezTo>
                  <a:pt x="20355" y="10848"/>
                  <a:pt x="20491" y="10780"/>
                  <a:pt x="20538" y="10815"/>
                </a:cubicBezTo>
                <a:cubicBezTo>
                  <a:pt x="20601" y="10863"/>
                  <a:pt x="20597" y="10951"/>
                  <a:pt x="20563" y="11013"/>
                </a:cubicBezTo>
                <a:cubicBezTo>
                  <a:pt x="20519" y="11095"/>
                  <a:pt x="20471" y="11144"/>
                  <a:pt x="20464" y="11237"/>
                </a:cubicBezTo>
                <a:cubicBezTo>
                  <a:pt x="20459" y="11296"/>
                  <a:pt x="20520" y="11309"/>
                  <a:pt x="20563" y="11311"/>
                </a:cubicBezTo>
                <a:cubicBezTo>
                  <a:pt x="20674" y="11316"/>
                  <a:pt x="20777" y="11294"/>
                  <a:pt x="20886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59800" y="3821040"/>
            <a:ext cx="652320" cy="223920"/>
          </a:xfrm>
          <a:custGeom>
            <a:avLst/>
            <a:gdLst/>
            <a:ahLst/>
            <a:rect l="l" t="t" r="r" b="b"/>
            <a:pathLst>
              <a:path w="1812" h="622">
                <a:moveTo>
                  <a:pt x="21580" y="10666"/>
                </a:moveTo>
                <a:cubicBezTo>
                  <a:pt x="21588" y="10649"/>
                  <a:pt x="21597" y="10633"/>
                  <a:pt x="21605" y="10616"/>
                </a:cubicBezTo>
                <a:cubicBezTo>
                  <a:pt x="21589" y="10696"/>
                  <a:pt x="21564" y="10779"/>
                  <a:pt x="21555" y="10864"/>
                </a:cubicBezTo>
                <a:cubicBezTo>
                  <a:pt x="21549" y="10922"/>
                  <a:pt x="21530" y="11075"/>
                  <a:pt x="21580" y="11112"/>
                </a:cubicBezTo>
                <a:cubicBezTo>
                  <a:pt x="21620" y="11141"/>
                  <a:pt x="21655" y="11078"/>
                  <a:pt x="21679" y="11063"/>
                </a:cubicBezTo>
                <a:cubicBezTo>
                  <a:pt x="21731" y="11030"/>
                  <a:pt x="21794" y="10979"/>
                  <a:pt x="21853" y="11038"/>
                </a:cubicBezTo>
                <a:cubicBezTo>
                  <a:pt x="21883" y="11068"/>
                  <a:pt x="21937" y="11174"/>
                  <a:pt x="21952" y="11212"/>
                </a:cubicBezTo>
                <a:cubicBezTo>
                  <a:pt x="21952" y="11237"/>
                  <a:pt x="21952" y="11245"/>
                  <a:pt x="21977" y="11237"/>
                </a:cubicBezTo>
              </a:path>
              <a:path w="1812" h="622">
                <a:moveTo>
                  <a:pt x="22051" y="11038"/>
                </a:moveTo>
                <a:cubicBezTo>
                  <a:pt x="22097" y="11038"/>
                  <a:pt x="22110" y="11018"/>
                  <a:pt x="22151" y="11013"/>
                </a:cubicBezTo>
                <a:cubicBezTo>
                  <a:pt x="22204" y="11007"/>
                  <a:pt x="22236" y="11031"/>
                  <a:pt x="22250" y="11088"/>
                </a:cubicBezTo>
                <a:cubicBezTo>
                  <a:pt x="22261" y="11134"/>
                  <a:pt x="22247" y="11191"/>
                  <a:pt x="22200" y="11212"/>
                </a:cubicBezTo>
                <a:cubicBezTo>
                  <a:pt x="22155" y="11232"/>
                  <a:pt x="22103" y="11164"/>
                  <a:pt x="22076" y="11137"/>
                </a:cubicBezTo>
                <a:cubicBezTo>
                  <a:pt x="22054" y="11115"/>
                  <a:pt x="22045" y="11110"/>
                  <a:pt x="22051" y="11088"/>
                </a:cubicBezTo>
              </a:path>
              <a:path w="1812" h="622">
                <a:moveTo>
                  <a:pt x="22275" y="10988"/>
                </a:moveTo>
                <a:cubicBezTo>
                  <a:pt x="22321" y="11036"/>
                  <a:pt x="22342" y="11078"/>
                  <a:pt x="22399" y="11112"/>
                </a:cubicBezTo>
                <a:cubicBezTo>
                  <a:pt x="22457" y="11146"/>
                  <a:pt x="22506" y="11137"/>
                  <a:pt x="22572" y="11137"/>
                </a:cubicBezTo>
                <a:cubicBezTo>
                  <a:pt x="22617" y="11137"/>
                  <a:pt x="22639" y="11114"/>
                  <a:pt x="22671" y="11088"/>
                </a:cubicBezTo>
              </a:path>
              <a:path w="1812" h="622">
                <a:moveTo>
                  <a:pt x="22771" y="11088"/>
                </a:moveTo>
                <a:cubicBezTo>
                  <a:pt x="22771" y="11132"/>
                  <a:pt x="22768" y="11146"/>
                  <a:pt x="22796" y="11162"/>
                </a:cubicBezTo>
                <a:cubicBezTo>
                  <a:pt x="22788" y="11106"/>
                  <a:pt x="22752" y="11049"/>
                  <a:pt x="22771" y="10988"/>
                </a:cubicBezTo>
                <a:cubicBezTo>
                  <a:pt x="22792" y="10922"/>
                  <a:pt x="22834" y="10901"/>
                  <a:pt x="22895" y="10889"/>
                </a:cubicBezTo>
              </a:path>
              <a:path w="1812" h="622">
                <a:moveTo>
                  <a:pt x="23168" y="10964"/>
                </a:moveTo>
                <a:cubicBezTo>
                  <a:pt x="23205" y="10926"/>
                  <a:pt x="23217" y="10917"/>
                  <a:pt x="23217" y="10864"/>
                </a:cubicBezTo>
                <a:cubicBezTo>
                  <a:pt x="23176" y="10864"/>
                  <a:pt x="23117" y="10843"/>
                  <a:pt x="23143" y="10914"/>
                </a:cubicBezTo>
                <a:cubicBezTo>
                  <a:pt x="23164" y="10971"/>
                  <a:pt x="23243" y="11030"/>
                  <a:pt x="23292" y="11063"/>
                </a:cubicBezTo>
                <a:cubicBezTo>
                  <a:pt x="23374" y="11118"/>
                  <a:pt x="23388" y="11118"/>
                  <a:pt x="23316" y="11187"/>
                </a:cubicBezTo>
                <a:cubicBezTo>
                  <a:pt x="23243" y="11256"/>
                  <a:pt x="23224" y="11237"/>
                  <a:pt x="2311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540216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8235" y="15131"/>
                </a:moveTo>
                <a:cubicBezTo>
                  <a:pt x="8235" y="14993"/>
                  <a:pt x="8235" y="14993"/>
                  <a:pt x="8235" y="15131"/>
                </a:cubicBezTo>
                <a:cubicBezTo>
                  <a:pt x="8235" y="15269"/>
                  <a:pt x="8244" y="15393"/>
                  <a:pt x="8260" y="15528"/>
                </a:cubicBezTo>
                <a:cubicBezTo>
                  <a:pt x="8260" y="15572"/>
                  <a:pt x="8257" y="15586"/>
                  <a:pt x="8285" y="15602"/>
                </a:cubicBezTo>
                <a:cubicBezTo>
                  <a:pt x="8356" y="15567"/>
                  <a:pt x="8333" y="15487"/>
                  <a:pt x="8384" y="15429"/>
                </a:cubicBezTo>
                <a:cubicBezTo>
                  <a:pt x="8445" y="15360"/>
                  <a:pt x="8516" y="15438"/>
                  <a:pt x="8558" y="15478"/>
                </a:cubicBezTo>
                <a:cubicBezTo>
                  <a:pt x="8608" y="15525"/>
                  <a:pt x="8627" y="15567"/>
                  <a:pt x="8657" y="15627"/>
                </a:cubicBezTo>
              </a:path>
              <a:path w="1018" h="621">
                <a:moveTo>
                  <a:pt x="9153" y="15255"/>
                </a:moveTo>
                <a:cubicBezTo>
                  <a:pt x="9161" y="15247"/>
                  <a:pt x="9170" y="15238"/>
                  <a:pt x="9178" y="15230"/>
                </a:cubicBezTo>
                <a:cubicBezTo>
                  <a:pt x="9135" y="15241"/>
                  <a:pt x="9101" y="15272"/>
                  <a:pt x="9054" y="15280"/>
                </a:cubicBezTo>
                <a:cubicBezTo>
                  <a:pt x="9037" y="15280"/>
                  <a:pt x="9021" y="15280"/>
                  <a:pt x="9004" y="15280"/>
                </a:cubicBezTo>
              </a:path>
              <a:path w="1018" h="621">
                <a:moveTo>
                  <a:pt x="9203" y="15280"/>
                </a:moveTo>
                <a:cubicBezTo>
                  <a:pt x="9245" y="15322"/>
                  <a:pt x="9269" y="15330"/>
                  <a:pt x="9227" y="15379"/>
                </a:cubicBezTo>
                <a:cubicBezTo>
                  <a:pt x="9200" y="15410"/>
                  <a:pt x="9189" y="15420"/>
                  <a:pt x="9153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43200" y="5180040"/>
            <a:ext cx="492120" cy="463680"/>
          </a:xfrm>
          <a:custGeom>
            <a:avLst/>
            <a:gdLst/>
            <a:ahLst/>
            <a:rect l="l" t="t" r="r" b="b"/>
            <a:pathLst>
              <a:path w="1366" h="1291">
                <a:moveTo>
                  <a:pt x="10195" y="14759"/>
                </a:moveTo>
                <a:cubicBezTo>
                  <a:pt x="10153" y="14759"/>
                  <a:pt x="10145" y="14759"/>
                  <a:pt x="10120" y="14759"/>
                </a:cubicBezTo>
                <a:cubicBezTo>
                  <a:pt x="10131" y="14713"/>
                  <a:pt x="10178" y="14665"/>
                  <a:pt x="10220" y="14635"/>
                </a:cubicBezTo>
                <a:cubicBezTo>
                  <a:pt x="10261" y="14606"/>
                  <a:pt x="10374" y="14589"/>
                  <a:pt x="10393" y="14660"/>
                </a:cubicBezTo>
                <a:cubicBezTo>
                  <a:pt x="10413" y="14734"/>
                  <a:pt x="10398" y="14840"/>
                  <a:pt x="10368" y="14908"/>
                </a:cubicBezTo>
                <a:cubicBezTo>
                  <a:pt x="10348" y="14954"/>
                  <a:pt x="10328" y="14973"/>
                  <a:pt x="10294" y="15007"/>
                </a:cubicBezTo>
                <a:cubicBezTo>
                  <a:pt x="10339" y="14996"/>
                  <a:pt x="10401" y="14961"/>
                  <a:pt x="10443" y="14932"/>
                </a:cubicBezTo>
                <a:cubicBezTo>
                  <a:pt x="10473" y="14903"/>
                  <a:pt x="10487" y="14892"/>
                  <a:pt x="10517" y="14883"/>
                </a:cubicBezTo>
              </a:path>
              <a:path w="1366" h="1291">
                <a:moveTo>
                  <a:pt x="10691" y="14684"/>
                </a:moveTo>
                <a:cubicBezTo>
                  <a:pt x="10691" y="14668"/>
                  <a:pt x="10691" y="14651"/>
                  <a:pt x="10691" y="14635"/>
                </a:cubicBezTo>
                <a:cubicBezTo>
                  <a:pt x="10720" y="14712"/>
                  <a:pt x="10716" y="14773"/>
                  <a:pt x="10716" y="14858"/>
                </a:cubicBezTo>
                <a:cubicBezTo>
                  <a:pt x="10716" y="14875"/>
                  <a:pt x="10716" y="14891"/>
                  <a:pt x="10716" y="14908"/>
                </a:cubicBezTo>
              </a:path>
              <a:path w="1366" h="1291">
                <a:moveTo>
                  <a:pt x="10939" y="14436"/>
                </a:moveTo>
                <a:cubicBezTo>
                  <a:pt x="10939" y="14420"/>
                  <a:pt x="10939" y="14403"/>
                  <a:pt x="10939" y="14387"/>
                </a:cubicBezTo>
                <a:cubicBezTo>
                  <a:pt x="10905" y="14477"/>
                  <a:pt x="10892" y="14561"/>
                  <a:pt x="10889" y="14660"/>
                </a:cubicBezTo>
                <a:cubicBezTo>
                  <a:pt x="10886" y="14754"/>
                  <a:pt x="10909" y="14854"/>
                  <a:pt x="11013" y="14883"/>
                </a:cubicBezTo>
                <a:cubicBezTo>
                  <a:pt x="11070" y="14899"/>
                  <a:pt x="11131" y="14862"/>
                  <a:pt x="11137" y="14808"/>
                </a:cubicBezTo>
                <a:cubicBezTo>
                  <a:pt x="11144" y="14745"/>
                  <a:pt x="11080" y="14759"/>
                  <a:pt x="11038" y="14759"/>
                </a:cubicBezTo>
                <a:cubicBezTo>
                  <a:pt x="11021" y="14759"/>
                  <a:pt x="11005" y="14759"/>
                  <a:pt x="10988" y="14759"/>
                </a:cubicBezTo>
              </a:path>
              <a:path w="1366" h="1291">
                <a:moveTo>
                  <a:pt x="11485" y="15156"/>
                </a:moveTo>
                <a:cubicBezTo>
                  <a:pt x="11358" y="15156"/>
                  <a:pt x="11238" y="15172"/>
                  <a:pt x="11112" y="15180"/>
                </a:cubicBezTo>
                <a:cubicBezTo>
                  <a:pt x="10947" y="15190"/>
                  <a:pt x="10781" y="15200"/>
                  <a:pt x="10616" y="15205"/>
                </a:cubicBezTo>
                <a:cubicBezTo>
                  <a:pt x="10541" y="15205"/>
                  <a:pt x="10515" y="15205"/>
                  <a:pt x="10468" y="15230"/>
                </a:cubicBezTo>
              </a:path>
              <a:path w="1366" h="1291">
                <a:moveTo>
                  <a:pt x="10666" y="15503"/>
                </a:moveTo>
                <a:cubicBezTo>
                  <a:pt x="10666" y="15478"/>
                  <a:pt x="10666" y="15454"/>
                  <a:pt x="10666" y="15429"/>
                </a:cubicBezTo>
                <a:cubicBezTo>
                  <a:pt x="10666" y="15512"/>
                  <a:pt x="10666" y="15594"/>
                  <a:pt x="10666" y="15677"/>
                </a:cubicBezTo>
                <a:cubicBezTo>
                  <a:pt x="10705" y="15625"/>
                  <a:pt x="10677" y="15591"/>
                  <a:pt x="10691" y="15528"/>
                </a:cubicBezTo>
                <a:cubicBezTo>
                  <a:pt x="10707" y="15453"/>
                  <a:pt x="10738" y="15406"/>
                  <a:pt x="10790" y="15354"/>
                </a:cubicBezTo>
                <a:cubicBezTo>
                  <a:pt x="10840" y="15404"/>
                  <a:pt x="10853" y="15458"/>
                  <a:pt x="10864" y="15528"/>
                </a:cubicBezTo>
                <a:cubicBezTo>
                  <a:pt x="10864" y="15569"/>
                  <a:pt x="10864" y="15577"/>
                  <a:pt x="10864" y="15602"/>
                </a:cubicBezTo>
                <a:cubicBezTo>
                  <a:pt x="10875" y="15548"/>
                  <a:pt x="10893" y="15482"/>
                  <a:pt x="10914" y="15429"/>
                </a:cubicBezTo>
                <a:cubicBezTo>
                  <a:pt x="10936" y="15385"/>
                  <a:pt x="10939" y="15373"/>
                  <a:pt x="10964" y="15354"/>
                </a:cubicBezTo>
                <a:cubicBezTo>
                  <a:pt x="11032" y="15354"/>
                  <a:pt x="11061" y="15390"/>
                  <a:pt x="11088" y="15453"/>
                </a:cubicBezTo>
                <a:cubicBezTo>
                  <a:pt x="11110" y="15520"/>
                  <a:pt x="11114" y="15538"/>
                  <a:pt x="1113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03880" y="3224160"/>
            <a:ext cx="322200" cy="2589120"/>
          </a:xfrm>
          <a:custGeom>
            <a:avLst/>
            <a:gdLst/>
            <a:ahLst/>
            <a:rect l="l" t="t" r="r" b="b"/>
            <a:pathLst>
              <a:path w="894" h="7195">
                <a:moveTo>
                  <a:pt x="14734" y="9054"/>
                </a:moveTo>
                <a:cubicBezTo>
                  <a:pt x="14747" y="9029"/>
                  <a:pt x="14778" y="8966"/>
                  <a:pt x="14784" y="8954"/>
                </a:cubicBezTo>
                <a:cubicBezTo>
                  <a:pt x="14793" y="8982"/>
                  <a:pt x="14824" y="8991"/>
                  <a:pt x="14833" y="9054"/>
                </a:cubicBezTo>
                <a:cubicBezTo>
                  <a:pt x="14873" y="9336"/>
                  <a:pt x="14855" y="9638"/>
                  <a:pt x="14883" y="9922"/>
                </a:cubicBezTo>
                <a:cubicBezTo>
                  <a:pt x="14910" y="10195"/>
                  <a:pt x="14913" y="10467"/>
                  <a:pt x="14932" y="10740"/>
                </a:cubicBezTo>
                <a:cubicBezTo>
                  <a:pt x="14956" y="11082"/>
                  <a:pt x="15019" y="11417"/>
                  <a:pt x="15056" y="11757"/>
                </a:cubicBezTo>
                <a:cubicBezTo>
                  <a:pt x="15092" y="12090"/>
                  <a:pt x="15145" y="12418"/>
                  <a:pt x="15180" y="12750"/>
                </a:cubicBezTo>
                <a:cubicBezTo>
                  <a:pt x="15231" y="13240"/>
                  <a:pt x="15282" y="13727"/>
                  <a:pt x="15354" y="14213"/>
                </a:cubicBezTo>
                <a:cubicBezTo>
                  <a:pt x="15398" y="14510"/>
                  <a:pt x="15416" y="14813"/>
                  <a:pt x="15478" y="15106"/>
                </a:cubicBezTo>
                <a:cubicBezTo>
                  <a:pt x="15524" y="15320"/>
                  <a:pt x="15608" y="15531"/>
                  <a:pt x="15627" y="15751"/>
                </a:cubicBezTo>
                <a:cubicBezTo>
                  <a:pt x="15639" y="15889"/>
                  <a:pt x="15615" y="16020"/>
                  <a:pt x="15602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ing direct/inverse proportion to solv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(P) generated in an electrical circuit is proportional to the square of the current (I) am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 = 108, I = 6. Find I when P = 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25760" y="3187800"/>
            <a:ext cx="133200" cy="268200"/>
          </a:xfrm>
          <a:custGeom>
            <a:avLst/>
            <a:gdLst/>
            <a:ahLst/>
            <a:rect l="l" t="t" r="r" b="b"/>
            <a:pathLst>
              <a:path w="374" h="745">
                <a:moveTo>
                  <a:pt x="4564" y="9079"/>
                </a:moveTo>
                <a:cubicBezTo>
                  <a:pt x="4564" y="9022"/>
                  <a:pt x="4587" y="9118"/>
                  <a:pt x="4589" y="9128"/>
                </a:cubicBezTo>
                <a:cubicBezTo>
                  <a:pt x="4603" y="9195"/>
                  <a:pt x="4604" y="9284"/>
                  <a:pt x="4614" y="9351"/>
                </a:cubicBezTo>
                <a:cubicBezTo>
                  <a:pt x="4624" y="9418"/>
                  <a:pt x="4633" y="9484"/>
                  <a:pt x="4638" y="9550"/>
                </a:cubicBezTo>
                <a:cubicBezTo>
                  <a:pt x="4638" y="9575"/>
                  <a:pt x="4638" y="9583"/>
                  <a:pt x="4638" y="9599"/>
                </a:cubicBezTo>
              </a:path>
              <a:path w="374" h="745">
                <a:moveTo>
                  <a:pt x="4539" y="9079"/>
                </a:moveTo>
                <a:cubicBezTo>
                  <a:pt x="4526" y="9041"/>
                  <a:pt x="4514" y="9058"/>
                  <a:pt x="4514" y="9004"/>
                </a:cubicBezTo>
                <a:cubicBezTo>
                  <a:pt x="4514" y="8965"/>
                  <a:pt x="4550" y="8948"/>
                  <a:pt x="4564" y="8930"/>
                </a:cubicBezTo>
                <a:cubicBezTo>
                  <a:pt x="4585" y="8903"/>
                  <a:pt x="4658" y="8861"/>
                  <a:pt x="4688" y="8855"/>
                </a:cubicBezTo>
                <a:cubicBezTo>
                  <a:pt x="4735" y="8845"/>
                  <a:pt x="4809" y="8892"/>
                  <a:pt x="4837" y="8930"/>
                </a:cubicBezTo>
                <a:cubicBezTo>
                  <a:pt x="4877" y="8986"/>
                  <a:pt x="4887" y="9037"/>
                  <a:pt x="4887" y="9103"/>
                </a:cubicBezTo>
                <a:cubicBezTo>
                  <a:pt x="4887" y="9161"/>
                  <a:pt x="4891" y="9214"/>
                  <a:pt x="4837" y="9252"/>
                </a:cubicBezTo>
                <a:cubicBezTo>
                  <a:pt x="4787" y="9287"/>
                  <a:pt x="4697" y="9297"/>
                  <a:pt x="4638" y="9302"/>
                </a:cubicBezTo>
                <a:cubicBezTo>
                  <a:pt x="4605" y="9305"/>
                  <a:pt x="4572" y="9302"/>
                  <a:pt x="4539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71800" y="3251160"/>
            <a:ext cx="2584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375" y="9029"/>
                </a:moveTo>
                <a:cubicBezTo>
                  <a:pt x="6414" y="9042"/>
                  <a:pt x="6385" y="9041"/>
                  <a:pt x="6424" y="9054"/>
                </a:cubicBezTo>
                <a:cubicBezTo>
                  <a:pt x="6370" y="9054"/>
                  <a:pt x="6342" y="9038"/>
                  <a:pt x="6300" y="9029"/>
                </a:cubicBezTo>
                <a:cubicBezTo>
                  <a:pt x="6261" y="9021"/>
                  <a:pt x="6122" y="9013"/>
                  <a:pt x="6102" y="9054"/>
                </a:cubicBezTo>
                <a:cubicBezTo>
                  <a:pt x="6091" y="9075"/>
                  <a:pt x="6079" y="9131"/>
                  <a:pt x="6077" y="9153"/>
                </a:cubicBezTo>
                <a:cubicBezTo>
                  <a:pt x="6070" y="9214"/>
                  <a:pt x="6086" y="9254"/>
                  <a:pt x="6102" y="9302"/>
                </a:cubicBezTo>
                <a:cubicBezTo>
                  <a:pt x="6116" y="9344"/>
                  <a:pt x="6102" y="9389"/>
                  <a:pt x="6127" y="9426"/>
                </a:cubicBezTo>
                <a:cubicBezTo>
                  <a:pt x="6152" y="9463"/>
                  <a:pt x="6164" y="9509"/>
                  <a:pt x="6176" y="9550"/>
                </a:cubicBezTo>
                <a:cubicBezTo>
                  <a:pt x="6189" y="9596"/>
                  <a:pt x="6163" y="9615"/>
                  <a:pt x="6152" y="9649"/>
                </a:cubicBezTo>
                <a:cubicBezTo>
                  <a:pt x="6142" y="9681"/>
                  <a:pt x="6115" y="9731"/>
                  <a:pt x="6077" y="9748"/>
                </a:cubicBezTo>
                <a:cubicBezTo>
                  <a:pt x="6036" y="9766"/>
                  <a:pt x="5956" y="9748"/>
                  <a:pt x="5928" y="9723"/>
                </a:cubicBezTo>
                <a:cubicBezTo>
                  <a:pt x="5887" y="9686"/>
                  <a:pt x="5891" y="9691"/>
                  <a:pt x="5854" y="9649"/>
                </a:cubicBezTo>
                <a:cubicBezTo>
                  <a:pt x="5829" y="9621"/>
                  <a:pt x="5808" y="9586"/>
                  <a:pt x="5804" y="9550"/>
                </a:cubicBezTo>
                <a:cubicBezTo>
                  <a:pt x="5802" y="9529"/>
                  <a:pt x="5789" y="9470"/>
                  <a:pt x="5779" y="9451"/>
                </a:cubicBezTo>
                <a:cubicBezTo>
                  <a:pt x="5757" y="9410"/>
                  <a:pt x="5755" y="9401"/>
                  <a:pt x="5755" y="9351"/>
                </a:cubicBezTo>
                <a:cubicBezTo>
                  <a:pt x="5755" y="9302"/>
                  <a:pt x="5770" y="9296"/>
                  <a:pt x="5779" y="9277"/>
                </a:cubicBezTo>
                <a:cubicBezTo>
                  <a:pt x="5779" y="9252"/>
                  <a:pt x="5779" y="9244"/>
                  <a:pt x="5779" y="9227"/>
                </a:cubicBezTo>
                <a:cubicBezTo>
                  <a:pt x="5810" y="9227"/>
                  <a:pt x="5846" y="9235"/>
                  <a:pt x="5854" y="9252"/>
                </a:cubicBezTo>
                <a:cubicBezTo>
                  <a:pt x="5873" y="9290"/>
                  <a:pt x="5886" y="9339"/>
                  <a:pt x="5904" y="9376"/>
                </a:cubicBezTo>
                <a:cubicBezTo>
                  <a:pt x="5920" y="9408"/>
                  <a:pt x="5975" y="9480"/>
                  <a:pt x="6003" y="9500"/>
                </a:cubicBezTo>
                <a:cubicBezTo>
                  <a:pt x="6035" y="9523"/>
                  <a:pt x="6136" y="9586"/>
                  <a:pt x="6176" y="9575"/>
                </a:cubicBezTo>
                <a:cubicBezTo>
                  <a:pt x="6219" y="9563"/>
                  <a:pt x="6320" y="9509"/>
                  <a:pt x="6350" y="9475"/>
                </a:cubicBezTo>
                <a:cubicBezTo>
                  <a:pt x="6394" y="9425"/>
                  <a:pt x="6430" y="9380"/>
                  <a:pt x="6474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84320" y="3214800"/>
            <a:ext cx="196920" cy="241200"/>
          </a:xfrm>
          <a:custGeom>
            <a:avLst/>
            <a:gdLst/>
            <a:ahLst/>
            <a:rect l="l" t="t" r="r" b="b"/>
            <a:pathLst>
              <a:path w="547" h="670">
                <a:moveTo>
                  <a:pt x="8012" y="9029"/>
                </a:moveTo>
                <a:cubicBezTo>
                  <a:pt x="8012" y="8996"/>
                  <a:pt x="8012" y="8963"/>
                  <a:pt x="8012" y="8930"/>
                </a:cubicBezTo>
                <a:cubicBezTo>
                  <a:pt x="8012" y="9002"/>
                  <a:pt x="8053" y="9058"/>
                  <a:pt x="8062" y="9128"/>
                </a:cubicBezTo>
                <a:cubicBezTo>
                  <a:pt x="8077" y="9249"/>
                  <a:pt x="8114" y="9356"/>
                  <a:pt x="8136" y="9475"/>
                </a:cubicBezTo>
                <a:cubicBezTo>
                  <a:pt x="8144" y="9521"/>
                  <a:pt x="8151" y="9534"/>
                  <a:pt x="8161" y="9575"/>
                </a:cubicBezTo>
              </a:path>
              <a:path w="547" h="670">
                <a:moveTo>
                  <a:pt x="8235" y="9203"/>
                </a:moveTo>
                <a:cubicBezTo>
                  <a:pt x="8243" y="9186"/>
                  <a:pt x="8252" y="9170"/>
                  <a:pt x="8260" y="9153"/>
                </a:cubicBezTo>
                <a:cubicBezTo>
                  <a:pt x="8248" y="9202"/>
                  <a:pt x="8233" y="9250"/>
                  <a:pt x="8210" y="9302"/>
                </a:cubicBezTo>
                <a:cubicBezTo>
                  <a:pt x="8183" y="9363"/>
                  <a:pt x="8170" y="9415"/>
                  <a:pt x="8210" y="9475"/>
                </a:cubicBezTo>
                <a:cubicBezTo>
                  <a:pt x="8238" y="9517"/>
                  <a:pt x="8291" y="9500"/>
                  <a:pt x="8334" y="9500"/>
                </a:cubicBezTo>
                <a:cubicBezTo>
                  <a:pt x="8415" y="9500"/>
                  <a:pt x="8459" y="9449"/>
                  <a:pt x="8533" y="9426"/>
                </a:cubicBezTo>
                <a:cubicBezTo>
                  <a:pt x="8541" y="9426"/>
                  <a:pt x="8550" y="9426"/>
                  <a:pt x="8558" y="9426"/>
                </a:cubicBezTo>
              </a:path>
              <a:path w="547" h="670">
                <a:moveTo>
                  <a:pt x="8384" y="9153"/>
                </a:moveTo>
                <a:cubicBezTo>
                  <a:pt x="8408" y="9080"/>
                  <a:pt x="8468" y="9220"/>
                  <a:pt x="8483" y="9252"/>
                </a:cubicBezTo>
                <a:cubicBezTo>
                  <a:pt x="8527" y="9349"/>
                  <a:pt x="8551" y="9470"/>
                  <a:pt x="8558" y="9575"/>
                </a:cubicBezTo>
                <a:cubicBezTo>
                  <a:pt x="8558" y="9583"/>
                  <a:pt x="8558" y="9591"/>
                  <a:pt x="8558" y="9599"/>
                </a:cubicBezTo>
                <a:cubicBezTo>
                  <a:pt x="8430" y="9571"/>
                  <a:pt x="8395" y="9496"/>
                  <a:pt x="8310" y="9401"/>
                </a:cubicBezTo>
                <a:cubicBezTo>
                  <a:pt x="8247" y="9339"/>
                  <a:pt x="8229" y="9329"/>
                  <a:pt x="8210" y="9277"/>
                </a:cubicBezTo>
                <a:cubicBezTo>
                  <a:pt x="8142" y="9206"/>
                  <a:pt x="8285" y="9376"/>
                  <a:pt x="8285" y="9376"/>
                </a:cubicBezTo>
                <a:cubicBezTo>
                  <a:pt x="8325" y="9447"/>
                  <a:pt x="8466" y="9597"/>
                  <a:pt x="8384" y="9599"/>
                </a:cubicBezTo>
                <a:cubicBezTo>
                  <a:pt x="8331" y="9600"/>
                  <a:pt x="8231" y="9412"/>
                  <a:pt x="8210" y="9376"/>
                </a:cubicBezTo>
                <a:cubicBezTo>
                  <a:pt x="8189" y="9333"/>
                  <a:pt x="8185" y="9321"/>
                  <a:pt x="8161" y="9302"/>
                </a:cubicBezTo>
                <a:cubicBezTo>
                  <a:pt x="8091" y="9255"/>
                  <a:pt x="8171" y="9348"/>
                  <a:pt x="8186" y="9376"/>
                </a:cubicBezTo>
                <a:cubicBezTo>
                  <a:pt x="8209" y="9424"/>
                  <a:pt x="8217" y="9439"/>
                  <a:pt x="8210" y="9475"/>
                </a:cubicBezTo>
                <a:cubicBezTo>
                  <a:pt x="8160" y="9412"/>
                  <a:pt x="8092" y="9327"/>
                  <a:pt x="8062" y="9252"/>
                </a:cubicBezTo>
                <a:cubicBezTo>
                  <a:pt x="8029" y="9170"/>
                  <a:pt x="8037" y="9090"/>
                  <a:pt x="8037" y="9004"/>
                </a:cubicBezTo>
                <a:cubicBezTo>
                  <a:pt x="8136" y="8944"/>
                  <a:pt x="8160" y="9011"/>
                  <a:pt x="8210" y="9103"/>
                </a:cubicBezTo>
                <a:cubicBezTo>
                  <a:pt x="8252" y="9180"/>
                  <a:pt x="8386" y="9387"/>
                  <a:pt x="8359" y="9475"/>
                </a:cubicBezTo>
                <a:cubicBezTo>
                  <a:pt x="8351" y="9475"/>
                  <a:pt x="8342" y="9475"/>
                  <a:pt x="8334" y="9475"/>
                </a:cubicBezTo>
                <a:cubicBezTo>
                  <a:pt x="8252" y="9383"/>
                  <a:pt x="8203" y="9295"/>
                  <a:pt x="8161" y="9178"/>
                </a:cubicBezTo>
                <a:cubicBezTo>
                  <a:pt x="8139" y="9113"/>
                  <a:pt x="8131" y="9098"/>
                  <a:pt x="8136" y="9054"/>
                </a:cubicBezTo>
                <a:cubicBezTo>
                  <a:pt x="8224" y="9072"/>
                  <a:pt x="8236" y="9128"/>
                  <a:pt x="8285" y="9203"/>
                </a:cubicBezTo>
                <a:cubicBezTo>
                  <a:pt x="8328" y="9268"/>
                  <a:pt x="8339" y="9283"/>
                  <a:pt x="8359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0080" y="3116160"/>
            <a:ext cx="473040" cy="3319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9451" y="8954"/>
                </a:moveTo>
                <a:cubicBezTo>
                  <a:pt x="9501" y="8967"/>
                  <a:pt x="9519" y="9025"/>
                  <a:pt x="9525" y="9079"/>
                </a:cubicBezTo>
                <a:cubicBezTo>
                  <a:pt x="9540" y="9214"/>
                  <a:pt x="9560" y="9304"/>
                  <a:pt x="9624" y="9426"/>
                </a:cubicBezTo>
                <a:cubicBezTo>
                  <a:pt x="9646" y="9469"/>
                  <a:pt x="9650" y="9481"/>
                  <a:pt x="9674" y="9500"/>
                </a:cubicBezTo>
              </a:path>
              <a:path w="1316" h="919">
                <a:moveTo>
                  <a:pt x="9748" y="8979"/>
                </a:moveTo>
                <a:cubicBezTo>
                  <a:pt x="9797" y="8964"/>
                  <a:pt x="9864" y="8993"/>
                  <a:pt x="9897" y="8954"/>
                </a:cubicBezTo>
                <a:cubicBezTo>
                  <a:pt x="9897" y="8946"/>
                  <a:pt x="9897" y="8938"/>
                  <a:pt x="9897" y="8930"/>
                </a:cubicBezTo>
                <a:cubicBezTo>
                  <a:pt x="9831" y="8943"/>
                  <a:pt x="9766" y="8958"/>
                  <a:pt x="9699" y="8979"/>
                </a:cubicBezTo>
                <a:cubicBezTo>
                  <a:pt x="9591" y="9012"/>
                  <a:pt x="9483" y="9061"/>
                  <a:pt x="9376" y="9103"/>
                </a:cubicBezTo>
                <a:cubicBezTo>
                  <a:pt x="9332" y="9120"/>
                  <a:pt x="9317" y="9143"/>
                  <a:pt x="9277" y="9153"/>
                </a:cubicBezTo>
              </a:path>
              <a:path w="1316" h="919">
                <a:moveTo>
                  <a:pt x="10021" y="9302"/>
                </a:moveTo>
                <a:cubicBezTo>
                  <a:pt x="10063" y="9343"/>
                  <a:pt x="10071" y="9351"/>
                  <a:pt x="10096" y="9376"/>
                </a:cubicBezTo>
                <a:cubicBezTo>
                  <a:pt x="10081" y="9422"/>
                  <a:pt x="10048" y="9412"/>
                  <a:pt x="9996" y="9426"/>
                </a:cubicBezTo>
                <a:cubicBezTo>
                  <a:pt x="9889" y="9456"/>
                  <a:pt x="9783" y="9467"/>
                  <a:pt x="9674" y="9500"/>
                </a:cubicBezTo>
                <a:cubicBezTo>
                  <a:pt x="9595" y="9524"/>
                  <a:pt x="9565" y="9546"/>
                  <a:pt x="9500" y="9575"/>
                </a:cubicBezTo>
                <a:cubicBezTo>
                  <a:pt x="9492" y="9575"/>
                  <a:pt x="9483" y="9575"/>
                  <a:pt x="9475" y="9575"/>
                </a:cubicBezTo>
              </a:path>
              <a:path w="1316" h="919">
                <a:moveTo>
                  <a:pt x="10220" y="8806"/>
                </a:moveTo>
                <a:cubicBezTo>
                  <a:pt x="10187" y="8795"/>
                  <a:pt x="10197" y="8792"/>
                  <a:pt x="10170" y="8756"/>
                </a:cubicBezTo>
                <a:cubicBezTo>
                  <a:pt x="10178" y="8733"/>
                  <a:pt x="10211" y="8703"/>
                  <a:pt x="10244" y="8682"/>
                </a:cubicBezTo>
                <a:cubicBezTo>
                  <a:pt x="10276" y="8662"/>
                  <a:pt x="10371" y="8625"/>
                  <a:pt x="10393" y="8682"/>
                </a:cubicBezTo>
                <a:cubicBezTo>
                  <a:pt x="10415" y="8739"/>
                  <a:pt x="10376" y="8806"/>
                  <a:pt x="10368" y="8855"/>
                </a:cubicBezTo>
                <a:cubicBezTo>
                  <a:pt x="10360" y="8901"/>
                  <a:pt x="10354" y="8914"/>
                  <a:pt x="10344" y="8954"/>
                </a:cubicBezTo>
                <a:cubicBezTo>
                  <a:pt x="10410" y="8954"/>
                  <a:pt x="10457" y="8958"/>
                  <a:pt x="10517" y="8930"/>
                </a:cubicBezTo>
                <a:cubicBezTo>
                  <a:pt x="10561" y="8908"/>
                  <a:pt x="10573" y="8905"/>
                  <a:pt x="10592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98760" y="3884760"/>
            <a:ext cx="1332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4440" y="10988"/>
                </a:moveTo>
                <a:cubicBezTo>
                  <a:pt x="4440" y="10944"/>
                  <a:pt x="4437" y="10930"/>
                  <a:pt x="4465" y="10914"/>
                </a:cubicBezTo>
                <a:cubicBezTo>
                  <a:pt x="4465" y="10983"/>
                  <a:pt x="4496" y="11044"/>
                  <a:pt x="4514" y="11112"/>
                </a:cubicBezTo>
                <a:cubicBezTo>
                  <a:pt x="4549" y="11246"/>
                  <a:pt x="4575" y="11364"/>
                  <a:pt x="4638" y="11485"/>
                </a:cubicBezTo>
                <a:cubicBezTo>
                  <a:pt x="4646" y="11501"/>
                  <a:pt x="4655" y="11518"/>
                  <a:pt x="4663" y="11534"/>
                </a:cubicBezTo>
              </a:path>
              <a:path w="373" h="745">
                <a:moveTo>
                  <a:pt x="4465" y="11162"/>
                </a:moveTo>
                <a:cubicBezTo>
                  <a:pt x="4434" y="11049"/>
                  <a:pt x="4450" y="11043"/>
                  <a:pt x="4490" y="10939"/>
                </a:cubicBezTo>
                <a:cubicBezTo>
                  <a:pt x="4514" y="10875"/>
                  <a:pt x="4595" y="10753"/>
                  <a:pt x="4688" y="10790"/>
                </a:cubicBezTo>
                <a:cubicBezTo>
                  <a:pt x="4785" y="10828"/>
                  <a:pt x="4807" y="10920"/>
                  <a:pt x="4812" y="11013"/>
                </a:cubicBezTo>
                <a:cubicBezTo>
                  <a:pt x="4816" y="11079"/>
                  <a:pt x="4784" y="11145"/>
                  <a:pt x="4713" y="11162"/>
                </a:cubicBezTo>
                <a:cubicBezTo>
                  <a:pt x="4696" y="11162"/>
                  <a:pt x="4680" y="11162"/>
                  <a:pt x="4663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27160" y="3902040"/>
            <a:ext cx="12564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5904" y="10864"/>
                </a:moveTo>
                <a:cubicBezTo>
                  <a:pt x="5863" y="10834"/>
                  <a:pt x="5845" y="10828"/>
                  <a:pt x="5804" y="10864"/>
                </a:cubicBezTo>
                <a:cubicBezTo>
                  <a:pt x="5753" y="10909"/>
                  <a:pt x="5718" y="10930"/>
                  <a:pt x="5655" y="10939"/>
                </a:cubicBezTo>
                <a:cubicBezTo>
                  <a:pt x="5655" y="10964"/>
                  <a:pt x="5655" y="10972"/>
                  <a:pt x="5631" y="10964"/>
                </a:cubicBezTo>
              </a:path>
              <a:path w="348" h="224">
                <a:moveTo>
                  <a:pt x="5904" y="10964"/>
                </a:moveTo>
                <a:cubicBezTo>
                  <a:pt x="5974" y="10993"/>
                  <a:pt x="5991" y="10977"/>
                  <a:pt x="5928" y="11013"/>
                </a:cubicBezTo>
                <a:cubicBezTo>
                  <a:pt x="5887" y="11037"/>
                  <a:pt x="5848" y="11044"/>
                  <a:pt x="580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08200" y="3803760"/>
            <a:ext cx="196920" cy="1969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7243" y="10592"/>
                </a:moveTo>
                <a:cubicBezTo>
                  <a:pt x="7268" y="10542"/>
                  <a:pt x="7282" y="10656"/>
                  <a:pt x="7293" y="10691"/>
                </a:cubicBezTo>
                <a:cubicBezTo>
                  <a:pt x="7328" y="10804"/>
                  <a:pt x="7393" y="10925"/>
                  <a:pt x="7417" y="11038"/>
                </a:cubicBezTo>
                <a:cubicBezTo>
                  <a:pt x="7417" y="11083"/>
                  <a:pt x="7413" y="11096"/>
                  <a:pt x="7441" y="11112"/>
                </a:cubicBezTo>
              </a:path>
              <a:path w="547" h="546">
                <a:moveTo>
                  <a:pt x="7541" y="10691"/>
                </a:moveTo>
                <a:cubicBezTo>
                  <a:pt x="7541" y="10640"/>
                  <a:pt x="7531" y="10739"/>
                  <a:pt x="7516" y="10765"/>
                </a:cubicBezTo>
                <a:cubicBezTo>
                  <a:pt x="7480" y="10827"/>
                  <a:pt x="7477" y="10902"/>
                  <a:pt x="7516" y="10964"/>
                </a:cubicBezTo>
                <a:cubicBezTo>
                  <a:pt x="7540" y="11002"/>
                  <a:pt x="7595" y="11035"/>
                  <a:pt x="7640" y="11013"/>
                </a:cubicBezTo>
                <a:cubicBezTo>
                  <a:pt x="7690" y="10988"/>
                  <a:pt x="7739" y="10943"/>
                  <a:pt x="7789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63880" y="3759120"/>
            <a:ext cx="438120" cy="258840"/>
          </a:xfrm>
          <a:custGeom>
            <a:avLst/>
            <a:gdLst/>
            <a:ahLst/>
            <a:rect l="l" t="t" r="r" b="b"/>
            <a:pathLst>
              <a:path w="1217" h="720">
                <a:moveTo>
                  <a:pt x="8409" y="10691"/>
                </a:moveTo>
                <a:cubicBezTo>
                  <a:pt x="8417" y="10683"/>
                  <a:pt x="8426" y="10674"/>
                  <a:pt x="8434" y="10666"/>
                </a:cubicBezTo>
                <a:cubicBezTo>
                  <a:pt x="8489" y="10685"/>
                  <a:pt x="8465" y="10729"/>
                  <a:pt x="8483" y="10790"/>
                </a:cubicBezTo>
                <a:cubicBezTo>
                  <a:pt x="8508" y="10872"/>
                  <a:pt x="8509" y="10961"/>
                  <a:pt x="8558" y="11038"/>
                </a:cubicBezTo>
                <a:cubicBezTo>
                  <a:pt x="8566" y="11046"/>
                  <a:pt x="8574" y="11055"/>
                  <a:pt x="8582" y="11063"/>
                </a:cubicBezTo>
              </a:path>
              <a:path w="1217" h="720">
                <a:moveTo>
                  <a:pt x="8756" y="10592"/>
                </a:moveTo>
                <a:cubicBezTo>
                  <a:pt x="8810" y="10618"/>
                  <a:pt x="8667" y="10630"/>
                  <a:pt x="8632" y="10641"/>
                </a:cubicBezTo>
                <a:cubicBezTo>
                  <a:pt x="8532" y="10672"/>
                  <a:pt x="8431" y="10690"/>
                  <a:pt x="8334" y="10716"/>
                </a:cubicBezTo>
                <a:cubicBezTo>
                  <a:pt x="8291" y="10727"/>
                  <a:pt x="8245" y="10736"/>
                  <a:pt x="8235" y="10765"/>
                </a:cubicBezTo>
              </a:path>
              <a:path w="1217" h="720">
                <a:moveTo>
                  <a:pt x="8930" y="11038"/>
                </a:moveTo>
                <a:cubicBezTo>
                  <a:pt x="8938" y="11038"/>
                  <a:pt x="8946" y="11038"/>
                  <a:pt x="8954" y="11038"/>
                </a:cubicBezTo>
                <a:cubicBezTo>
                  <a:pt x="8936" y="11094"/>
                  <a:pt x="8864" y="11075"/>
                  <a:pt x="8806" y="11088"/>
                </a:cubicBezTo>
                <a:cubicBezTo>
                  <a:pt x="8705" y="11111"/>
                  <a:pt x="8610" y="11148"/>
                  <a:pt x="8508" y="11162"/>
                </a:cubicBezTo>
                <a:cubicBezTo>
                  <a:pt x="8458" y="11162"/>
                  <a:pt x="8442" y="11162"/>
                  <a:pt x="8409" y="11162"/>
                </a:cubicBezTo>
              </a:path>
              <a:path w="1217" h="720">
                <a:moveTo>
                  <a:pt x="9178" y="10542"/>
                </a:moveTo>
                <a:cubicBezTo>
                  <a:pt x="9153" y="10542"/>
                  <a:pt x="9145" y="10542"/>
                  <a:pt x="9128" y="10542"/>
                </a:cubicBezTo>
                <a:cubicBezTo>
                  <a:pt x="9141" y="10492"/>
                  <a:pt x="9160" y="10486"/>
                  <a:pt x="9203" y="10468"/>
                </a:cubicBezTo>
                <a:cubicBezTo>
                  <a:pt x="9255" y="10445"/>
                  <a:pt x="9273" y="10443"/>
                  <a:pt x="9327" y="10443"/>
                </a:cubicBezTo>
                <a:cubicBezTo>
                  <a:pt x="9327" y="10504"/>
                  <a:pt x="9338" y="10562"/>
                  <a:pt x="9302" y="10616"/>
                </a:cubicBezTo>
                <a:cubicBezTo>
                  <a:pt x="9276" y="10654"/>
                  <a:pt x="9277" y="10668"/>
                  <a:pt x="9277" y="10716"/>
                </a:cubicBezTo>
                <a:cubicBezTo>
                  <a:pt x="9333" y="10716"/>
                  <a:pt x="9375" y="10722"/>
                  <a:pt x="9426" y="10691"/>
                </a:cubicBezTo>
                <a:cubicBezTo>
                  <a:pt x="9434" y="10683"/>
                  <a:pt x="9443" y="10674"/>
                  <a:pt x="9451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73120" y="4357800"/>
            <a:ext cx="4208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4093" y="12254"/>
                </a:moveTo>
                <a:cubicBezTo>
                  <a:pt x="4093" y="12213"/>
                  <a:pt x="4093" y="12287"/>
                  <a:pt x="4093" y="12328"/>
                </a:cubicBezTo>
                <a:cubicBezTo>
                  <a:pt x="4093" y="12424"/>
                  <a:pt x="4113" y="12508"/>
                  <a:pt x="4118" y="12601"/>
                </a:cubicBezTo>
                <a:cubicBezTo>
                  <a:pt x="4118" y="12645"/>
                  <a:pt x="4115" y="12658"/>
                  <a:pt x="4142" y="12675"/>
                </a:cubicBezTo>
              </a:path>
              <a:path w="1167" h="571">
                <a:moveTo>
                  <a:pt x="4465" y="12378"/>
                </a:moveTo>
                <a:cubicBezTo>
                  <a:pt x="4430" y="12366"/>
                  <a:pt x="4417" y="12308"/>
                  <a:pt x="4465" y="12278"/>
                </a:cubicBezTo>
                <a:cubicBezTo>
                  <a:pt x="4498" y="12258"/>
                  <a:pt x="4612" y="12277"/>
                  <a:pt x="4638" y="12303"/>
                </a:cubicBezTo>
                <a:cubicBezTo>
                  <a:pt x="4685" y="12350"/>
                  <a:pt x="4741" y="12455"/>
                  <a:pt x="4713" y="12526"/>
                </a:cubicBezTo>
                <a:cubicBezTo>
                  <a:pt x="4692" y="12580"/>
                  <a:pt x="4585" y="12589"/>
                  <a:pt x="4539" y="12576"/>
                </a:cubicBezTo>
                <a:cubicBezTo>
                  <a:pt x="4501" y="12565"/>
                  <a:pt x="4417" y="12532"/>
                  <a:pt x="4415" y="12502"/>
                </a:cubicBezTo>
                <a:cubicBezTo>
                  <a:pt x="4415" y="12485"/>
                  <a:pt x="4415" y="12469"/>
                  <a:pt x="4415" y="12452"/>
                </a:cubicBezTo>
              </a:path>
              <a:path w="1167" h="571">
                <a:moveTo>
                  <a:pt x="5110" y="12179"/>
                </a:moveTo>
                <a:cubicBezTo>
                  <a:pt x="5146" y="12152"/>
                  <a:pt x="5148" y="12163"/>
                  <a:pt x="5159" y="12129"/>
                </a:cubicBezTo>
                <a:cubicBezTo>
                  <a:pt x="5144" y="12085"/>
                  <a:pt x="5099" y="12098"/>
                  <a:pt x="5060" y="12129"/>
                </a:cubicBezTo>
                <a:cubicBezTo>
                  <a:pt x="5010" y="12168"/>
                  <a:pt x="4976" y="12217"/>
                  <a:pt x="4961" y="12278"/>
                </a:cubicBezTo>
                <a:cubicBezTo>
                  <a:pt x="4961" y="12303"/>
                  <a:pt x="4961" y="12311"/>
                  <a:pt x="4961" y="12328"/>
                </a:cubicBezTo>
                <a:cubicBezTo>
                  <a:pt x="5016" y="12328"/>
                  <a:pt x="5055" y="12349"/>
                  <a:pt x="5110" y="12353"/>
                </a:cubicBezTo>
                <a:cubicBezTo>
                  <a:pt x="5175" y="12358"/>
                  <a:pt x="5187" y="12355"/>
                  <a:pt x="5234" y="12402"/>
                </a:cubicBezTo>
                <a:cubicBezTo>
                  <a:pt x="5271" y="12439"/>
                  <a:pt x="5267" y="12465"/>
                  <a:pt x="5234" y="12502"/>
                </a:cubicBezTo>
                <a:cubicBezTo>
                  <a:pt x="5219" y="12519"/>
                  <a:pt x="5131" y="12549"/>
                  <a:pt x="5110" y="12526"/>
                </a:cubicBezTo>
                <a:cubicBezTo>
                  <a:pt x="5060" y="12471"/>
                  <a:pt x="5090" y="12409"/>
                  <a:pt x="5110" y="12353"/>
                </a:cubicBezTo>
                <a:cubicBezTo>
                  <a:pt x="5142" y="12261"/>
                  <a:pt x="5170" y="12202"/>
                  <a:pt x="523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8000" y="4384800"/>
            <a:ext cx="127080" cy="6336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6400" y="12179"/>
                </a:moveTo>
                <a:cubicBezTo>
                  <a:pt x="6319" y="12179"/>
                  <a:pt x="6245" y="12190"/>
                  <a:pt x="6176" y="12204"/>
                </a:cubicBezTo>
                <a:cubicBezTo>
                  <a:pt x="6140" y="12211"/>
                  <a:pt x="6090" y="12204"/>
                  <a:pt x="6052" y="12204"/>
                </a:cubicBezTo>
              </a:path>
              <a:path w="349" h="175">
                <a:moveTo>
                  <a:pt x="6375" y="12303"/>
                </a:moveTo>
                <a:cubicBezTo>
                  <a:pt x="6383" y="12303"/>
                  <a:pt x="6392" y="12303"/>
                  <a:pt x="6400" y="12303"/>
                </a:cubicBezTo>
                <a:cubicBezTo>
                  <a:pt x="6364" y="12312"/>
                  <a:pt x="6333" y="12346"/>
                  <a:pt x="6300" y="12353"/>
                </a:cubicBezTo>
                <a:cubicBezTo>
                  <a:pt x="6284" y="12353"/>
                  <a:pt x="6267" y="12353"/>
                  <a:pt x="6251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43120" y="4197240"/>
            <a:ext cx="581040" cy="250920"/>
          </a:xfrm>
          <a:custGeom>
            <a:avLst/>
            <a:gdLst/>
            <a:ahLst/>
            <a:rect l="l" t="t" r="r" b="b"/>
            <a:pathLst>
              <a:path w="1613" h="696">
                <a:moveTo>
                  <a:pt x="8434" y="11658"/>
                </a:moveTo>
                <a:cubicBezTo>
                  <a:pt x="8478" y="11669"/>
                  <a:pt x="8499" y="11706"/>
                  <a:pt x="8508" y="11757"/>
                </a:cubicBezTo>
                <a:cubicBezTo>
                  <a:pt x="8523" y="11841"/>
                  <a:pt x="8525" y="11946"/>
                  <a:pt x="8533" y="12030"/>
                </a:cubicBezTo>
                <a:cubicBezTo>
                  <a:pt x="8540" y="12103"/>
                  <a:pt x="8520" y="12189"/>
                  <a:pt x="8558" y="12254"/>
                </a:cubicBezTo>
                <a:cubicBezTo>
                  <a:pt x="8566" y="12262"/>
                  <a:pt x="8574" y="12270"/>
                  <a:pt x="8582" y="12278"/>
                </a:cubicBezTo>
              </a:path>
              <a:path w="1613" h="696">
                <a:moveTo>
                  <a:pt x="8706" y="11956"/>
                </a:moveTo>
                <a:cubicBezTo>
                  <a:pt x="8731" y="11956"/>
                  <a:pt x="8739" y="11956"/>
                  <a:pt x="8756" y="11956"/>
                </a:cubicBezTo>
                <a:cubicBezTo>
                  <a:pt x="8714" y="11997"/>
                  <a:pt x="8691" y="12034"/>
                  <a:pt x="8657" y="12080"/>
                </a:cubicBezTo>
                <a:cubicBezTo>
                  <a:pt x="8624" y="12125"/>
                  <a:pt x="8607" y="12148"/>
                  <a:pt x="8607" y="12204"/>
                </a:cubicBezTo>
                <a:cubicBezTo>
                  <a:pt x="8607" y="12212"/>
                  <a:pt x="8607" y="12221"/>
                  <a:pt x="8607" y="12229"/>
                </a:cubicBezTo>
                <a:cubicBezTo>
                  <a:pt x="8690" y="12229"/>
                  <a:pt x="8753" y="12222"/>
                  <a:pt x="8830" y="12204"/>
                </a:cubicBezTo>
                <a:cubicBezTo>
                  <a:pt x="8867" y="12195"/>
                  <a:pt x="8915" y="12204"/>
                  <a:pt x="8954" y="12204"/>
                </a:cubicBezTo>
              </a:path>
              <a:path w="1613" h="696">
                <a:moveTo>
                  <a:pt x="7441" y="11956"/>
                </a:moveTo>
                <a:cubicBezTo>
                  <a:pt x="7402" y="11966"/>
                  <a:pt x="7387" y="11981"/>
                  <a:pt x="7342" y="11981"/>
                </a:cubicBezTo>
                <a:cubicBezTo>
                  <a:pt x="7342" y="11931"/>
                  <a:pt x="7333" y="11896"/>
                  <a:pt x="7367" y="11857"/>
                </a:cubicBezTo>
                <a:cubicBezTo>
                  <a:pt x="7421" y="11795"/>
                  <a:pt x="7484" y="11762"/>
                  <a:pt x="7565" y="11757"/>
                </a:cubicBezTo>
                <a:cubicBezTo>
                  <a:pt x="7625" y="11754"/>
                  <a:pt x="7674" y="11794"/>
                  <a:pt x="7689" y="11857"/>
                </a:cubicBezTo>
                <a:cubicBezTo>
                  <a:pt x="7706" y="11930"/>
                  <a:pt x="7645" y="11964"/>
                  <a:pt x="7615" y="12005"/>
                </a:cubicBezTo>
                <a:cubicBezTo>
                  <a:pt x="7589" y="12040"/>
                  <a:pt x="7551" y="12090"/>
                  <a:pt x="7541" y="12129"/>
                </a:cubicBezTo>
                <a:cubicBezTo>
                  <a:pt x="7592" y="12160"/>
                  <a:pt x="7677" y="12169"/>
                  <a:pt x="7739" y="12179"/>
                </a:cubicBezTo>
                <a:cubicBezTo>
                  <a:pt x="7786" y="12186"/>
                  <a:pt x="7839" y="12225"/>
                  <a:pt x="7863" y="12278"/>
                </a:cubicBezTo>
                <a:cubicBezTo>
                  <a:pt x="7885" y="12327"/>
                  <a:pt x="7795" y="12360"/>
                  <a:pt x="7764" y="12353"/>
                </a:cubicBezTo>
                <a:cubicBezTo>
                  <a:pt x="7713" y="12341"/>
                  <a:pt x="7664" y="12322"/>
                  <a:pt x="7615" y="12303"/>
                </a:cubicBezTo>
              </a:path>
              <a:path w="1613" h="696">
                <a:moveTo>
                  <a:pt x="7962" y="11832"/>
                </a:moveTo>
                <a:cubicBezTo>
                  <a:pt x="7995" y="11799"/>
                  <a:pt x="8007" y="11767"/>
                  <a:pt x="8037" y="11757"/>
                </a:cubicBezTo>
                <a:cubicBezTo>
                  <a:pt x="7995" y="11771"/>
                  <a:pt x="7980" y="11854"/>
                  <a:pt x="7962" y="11906"/>
                </a:cubicBezTo>
                <a:cubicBezTo>
                  <a:pt x="7927" y="12008"/>
                  <a:pt x="7926" y="12134"/>
                  <a:pt x="7987" y="12229"/>
                </a:cubicBezTo>
                <a:cubicBezTo>
                  <a:pt x="8029" y="12295"/>
                  <a:pt x="8090" y="12325"/>
                  <a:pt x="8136" y="12254"/>
                </a:cubicBezTo>
                <a:cubicBezTo>
                  <a:pt x="8167" y="12206"/>
                  <a:pt x="8185" y="12115"/>
                  <a:pt x="8111" y="12105"/>
                </a:cubicBezTo>
                <a:cubicBezTo>
                  <a:pt x="8058" y="12098"/>
                  <a:pt x="8049" y="12102"/>
                  <a:pt x="8012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32040" y="46972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7590" y="13097"/>
                </a:moveTo>
                <a:cubicBezTo>
                  <a:pt x="7590" y="13055"/>
                  <a:pt x="7590" y="13030"/>
                  <a:pt x="7590" y="13072"/>
                </a:cubicBezTo>
                <a:cubicBezTo>
                  <a:pt x="7636" y="13148"/>
                  <a:pt x="7600" y="13230"/>
                  <a:pt x="7615" y="13320"/>
                </a:cubicBezTo>
                <a:cubicBezTo>
                  <a:pt x="7631" y="13416"/>
                  <a:pt x="7663" y="13500"/>
                  <a:pt x="7689" y="13593"/>
                </a:cubicBezTo>
                <a:cubicBezTo>
                  <a:pt x="7689" y="13601"/>
                  <a:pt x="7689" y="13610"/>
                  <a:pt x="7689" y="13618"/>
                </a:cubicBezTo>
              </a:path>
              <a:path w="448" h="572">
                <a:moveTo>
                  <a:pt x="7813" y="13246"/>
                </a:moveTo>
                <a:cubicBezTo>
                  <a:pt x="7860" y="13270"/>
                  <a:pt x="7784" y="13276"/>
                  <a:pt x="7764" y="13320"/>
                </a:cubicBezTo>
                <a:cubicBezTo>
                  <a:pt x="7744" y="13364"/>
                  <a:pt x="7764" y="13437"/>
                  <a:pt x="7789" y="13469"/>
                </a:cubicBezTo>
                <a:cubicBezTo>
                  <a:pt x="7834" y="13527"/>
                  <a:pt x="7868" y="13519"/>
                  <a:pt x="7938" y="13519"/>
                </a:cubicBezTo>
                <a:cubicBezTo>
                  <a:pt x="7990" y="13519"/>
                  <a:pt x="7994" y="13505"/>
                  <a:pt x="803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95360" y="4786200"/>
            <a:ext cx="8892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6573" y="13295"/>
                </a:moveTo>
                <a:cubicBezTo>
                  <a:pt x="6581" y="13295"/>
                  <a:pt x="6590" y="13295"/>
                  <a:pt x="6598" y="13295"/>
                </a:cubicBezTo>
                <a:cubicBezTo>
                  <a:pt x="6580" y="13350"/>
                  <a:pt x="6553" y="13297"/>
                  <a:pt x="6499" y="13320"/>
                </a:cubicBezTo>
                <a:cubicBezTo>
                  <a:pt x="6457" y="13338"/>
                  <a:pt x="6451" y="13345"/>
                  <a:pt x="6400" y="13345"/>
                </a:cubicBezTo>
                <a:cubicBezTo>
                  <a:pt x="6392" y="13345"/>
                  <a:pt x="6383" y="13345"/>
                  <a:pt x="6375" y="13345"/>
                </a:cubicBezTo>
              </a:path>
              <a:path w="249" h="200">
                <a:moveTo>
                  <a:pt x="6598" y="13444"/>
                </a:moveTo>
                <a:cubicBezTo>
                  <a:pt x="6606" y="13444"/>
                  <a:pt x="6615" y="13444"/>
                  <a:pt x="6623" y="13444"/>
                </a:cubicBezTo>
                <a:cubicBezTo>
                  <a:pt x="6580" y="13455"/>
                  <a:pt x="6547" y="13484"/>
                  <a:pt x="649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57240" y="4741920"/>
            <a:ext cx="206640" cy="206280"/>
          </a:xfrm>
          <a:custGeom>
            <a:avLst/>
            <a:gdLst/>
            <a:ahLst/>
            <a:rect l="l" t="t" r="r" b="b"/>
            <a:pathLst>
              <a:path w="572" h="572">
                <a:moveTo>
                  <a:pt x="5209" y="13395"/>
                </a:moveTo>
                <a:cubicBezTo>
                  <a:pt x="5169" y="13408"/>
                  <a:pt x="5199" y="13406"/>
                  <a:pt x="5159" y="13419"/>
                </a:cubicBezTo>
                <a:cubicBezTo>
                  <a:pt x="5159" y="13370"/>
                  <a:pt x="5196" y="13326"/>
                  <a:pt x="5234" y="13295"/>
                </a:cubicBezTo>
                <a:cubicBezTo>
                  <a:pt x="5271" y="13266"/>
                  <a:pt x="5379" y="13167"/>
                  <a:pt x="5432" y="13171"/>
                </a:cubicBezTo>
                <a:cubicBezTo>
                  <a:pt x="5487" y="13175"/>
                  <a:pt x="5482" y="13263"/>
                  <a:pt x="5482" y="13295"/>
                </a:cubicBezTo>
                <a:cubicBezTo>
                  <a:pt x="5482" y="13367"/>
                  <a:pt x="5432" y="13383"/>
                  <a:pt x="5407" y="13444"/>
                </a:cubicBezTo>
                <a:cubicBezTo>
                  <a:pt x="5379" y="13514"/>
                  <a:pt x="5462" y="13516"/>
                  <a:pt x="5507" y="13519"/>
                </a:cubicBezTo>
                <a:cubicBezTo>
                  <a:pt x="5557" y="13522"/>
                  <a:pt x="5669" y="13503"/>
                  <a:pt x="5705" y="13543"/>
                </a:cubicBezTo>
                <a:cubicBezTo>
                  <a:pt x="5758" y="13601"/>
                  <a:pt x="5714" y="13660"/>
                  <a:pt x="5655" y="13692"/>
                </a:cubicBezTo>
                <a:cubicBezTo>
                  <a:pt x="5580" y="13733"/>
                  <a:pt x="5465" y="13734"/>
                  <a:pt x="5383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57240" y="5340240"/>
            <a:ext cx="108000" cy="231840"/>
          </a:xfrm>
          <a:custGeom>
            <a:avLst/>
            <a:gdLst/>
            <a:ahLst/>
            <a:rect l="l" t="t" r="r" b="b"/>
            <a:pathLst>
              <a:path w="299" h="646">
                <a:moveTo>
                  <a:pt x="5184" y="15032"/>
                </a:moveTo>
                <a:cubicBezTo>
                  <a:pt x="5184" y="15007"/>
                  <a:pt x="5184" y="14999"/>
                  <a:pt x="5184" y="14982"/>
                </a:cubicBezTo>
                <a:cubicBezTo>
                  <a:pt x="5184" y="15045"/>
                  <a:pt x="5203" y="15095"/>
                  <a:pt x="5209" y="15156"/>
                </a:cubicBezTo>
                <a:cubicBezTo>
                  <a:pt x="5218" y="15251"/>
                  <a:pt x="5243" y="15347"/>
                  <a:pt x="5259" y="15429"/>
                </a:cubicBezTo>
                <a:cubicBezTo>
                  <a:pt x="5259" y="15445"/>
                  <a:pt x="5259" y="15462"/>
                  <a:pt x="5259" y="15478"/>
                </a:cubicBezTo>
              </a:path>
              <a:path w="299" h="646">
                <a:moveTo>
                  <a:pt x="5159" y="15106"/>
                </a:moveTo>
                <a:cubicBezTo>
                  <a:pt x="5159" y="15035"/>
                  <a:pt x="5149" y="14938"/>
                  <a:pt x="5209" y="14883"/>
                </a:cubicBezTo>
                <a:cubicBezTo>
                  <a:pt x="5255" y="14840"/>
                  <a:pt x="5355" y="14805"/>
                  <a:pt x="5407" y="14858"/>
                </a:cubicBezTo>
                <a:cubicBezTo>
                  <a:pt x="5456" y="14908"/>
                  <a:pt x="5474" y="15016"/>
                  <a:pt x="5457" y="15081"/>
                </a:cubicBezTo>
                <a:cubicBezTo>
                  <a:pt x="5444" y="15129"/>
                  <a:pt x="5378" y="15193"/>
                  <a:pt x="5333" y="15205"/>
                </a:cubicBezTo>
                <a:cubicBezTo>
                  <a:pt x="5273" y="15221"/>
                  <a:pt x="5275" y="15181"/>
                  <a:pt x="5259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24080" y="540216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6350" y="15007"/>
                </a:moveTo>
                <a:cubicBezTo>
                  <a:pt x="6358" y="15007"/>
                  <a:pt x="6367" y="15007"/>
                  <a:pt x="6375" y="15007"/>
                </a:cubicBezTo>
                <a:cubicBezTo>
                  <a:pt x="6328" y="15007"/>
                  <a:pt x="6312" y="15024"/>
                  <a:pt x="6276" y="15032"/>
                </a:cubicBezTo>
                <a:cubicBezTo>
                  <a:pt x="6233" y="15041"/>
                  <a:pt x="6215" y="15047"/>
                  <a:pt x="6176" y="15056"/>
                </a:cubicBezTo>
              </a:path>
              <a:path w="274" h="199">
                <a:moveTo>
                  <a:pt x="6424" y="15081"/>
                </a:moveTo>
                <a:cubicBezTo>
                  <a:pt x="6445" y="15109"/>
                  <a:pt x="6475" y="15155"/>
                  <a:pt x="6424" y="15180"/>
                </a:cubicBezTo>
                <a:cubicBezTo>
                  <a:pt x="6389" y="15197"/>
                  <a:pt x="6367" y="15199"/>
                  <a:pt x="6325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516096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7615" y="14784"/>
                </a:moveTo>
                <a:cubicBezTo>
                  <a:pt x="7580" y="14809"/>
                  <a:pt x="7583" y="14808"/>
                  <a:pt x="7541" y="14808"/>
                </a:cubicBezTo>
                <a:cubicBezTo>
                  <a:pt x="7555" y="14753"/>
                  <a:pt x="7617" y="14695"/>
                  <a:pt x="7665" y="14660"/>
                </a:cubicBezTo>
                <a:cubicBezTo>
                  <a:pt x="7740" y="14606"/>
                  <a:pt x="7803" y="14634"/>
                  <a:pt x="7863" y="14684"/>
                </a:cubicBezTo>
                <a:cubicBezTo>
                  <a:pt x="7918" y="14731"/>
                  <a:pt x="7888" y="14805"/>
                  <a:pt x="7863" y="14858"/>
                </a:cubicBezTo>
                <a:cubicBezTo>
                  <a:pt x="7838" y="14910"/>
                  <a:pt x="7793" y="14960"/>
                  <a:pt x="7739" y="14982"/>
                </a:cubicBezTo>
                <a:cubicBezTo>
                  <a:pt x="7714" y="14982"/>
                  <a:pt x="7706" y="14982"/>
                  <a:pt x="7714" y="15007"/>
                </a:cubicBezTo>
                <a:cubicBezTo>
                  <a:pt x="7771" y="15007"/>
                  <a:pt x="7810" y="15023"/>
                  <a:pt x="7863" y="15032"/>
                </a:cubicBezTo>
                <a:cubicBezTo>
                  <a:pt x="7916" y="15041"/>
                  <a:pt x="7955" y="15042"/>
                  <a:pt x="7962" y="15106"/>
                </a:cubicBezTo>
                <a:cubicBezTo>
                  <a:pt x="7962" y="15131"/>
                  <a:pt x="7962" y="15139"/>
                  <a:pt x="7962" y="15156"/>
                </a:cubicBezTo>
                <a:cubicBezTo>
                  <a:pt x="7894" y="15156"/>
                  <a:pt x="7824" y="15168"/>
                  <a:pt x="7764" y="15131"/>
                </a:cubicBezTo>
                <a:cubicBezTo>
                  <a:pt x="7733" y="15112"/>
                  <a:pt x="7719" y="15103"/>
                  <a:pt x="7689" y="15081"/>
                </a:cubicBezTo>
              </a:path>
              <a:path w="1737" h="820">
                <a:moveTo>
                  <a:pt x="8409" y="14759"/>
                </a:moveTo>
                <a:cubicBezTo>
                  <a:pt x="8409" y="14751"/>
                  <a:pt x="8409" y="14742"/>
                  <a:pt x="8409" y="14734"/>
                </a:cubicBezTo>
                <a:cubicBezTo>
                  <a:pt x="8454" y="14749"/>
                  <a:pt x="8426" y="14806"/>
                  <a:pt x="8458" y="14858"/>
                </a:cubicBezTo>
                <a:cubicBezTo>
                  <a:pt x="8482" y="14898"/>
                  <a:pt x="8497" y="14937"/>
                  <a:pt x="8508" y="14982"/>
                </a:cubicBezTo>
              </a:path>
              <a:path w="1737" h="820">
                <a:moveTo>
                  <a:pt x="8607" y="14709"/>
                </a:moveTo>
                <a:cubicBezTo>
                  <a:pt x="8652" y="14643"/>
                  <a:pt x="8668" y="14644"/>
                  <a:pt x="8582" y="14684"/>
                </a:cubicBezTo>
                <a:cubicBezTo>
                  <a:pt x="8504" y="14721"/>
                  <a:pt x="8435" y="14726"/>
                  <a:pt x="8359" y="14759"/>
                </a:cubicBezTo>
                <a:cubicBezTo>
                  <a:pt x="8315" y="14778"/>
                  <a:pt x="8281" y="14799"/>
                  <a:pt x="8235" y="14808"/>
                </a:cubicBezTo>
              </a:path>
              <a:path w="1737" h="820">
                <a:moveTo>
                  <a:pt x="8682" y="14908"/>
                </a:moveTo>
                <a:cubicBezTo>
                  <a:pt x="8690" y="14916"/>
                  <a:pt x="8698" y="14924"/>
                  <a:pt x="8706" y="14932"/>
                </a:cubicBezTo>
                <a:cubicBezTo>
                  <a:pt x="8671" y="14959"/>
                  <a:pt x="8606" y="14975"/>
                  <a:pt x="8558" y="14982"/>
                </a:cubicBezTo>
                <a:cubicBezTo>
                  <a:pt x="8486" y="14993"/>
                  <a:pt x="8407" y="14982"/>
                  <a:pt x="8334" y="14982"/>
                </a:cubicBezTo>
              </a:path>
              <a:path w="1737" h="820">
                <a:moveTo>
                  <a:pt x="8930" y="14412"/>
                </a:moveTo>
                <a:cubicBezTo>
                  <a:pt x="8922" y="14412"/>
                  <a:pt x="8913" y="14412"/>
                  <a:pt x="8905" y="14412"/>
                </a:cubicBezTo>
                <a:cubicBezTo>
                  <a:pt x="8912" y="14390"/>
                  <a:pt x="8970" y="14346"/>
                  <a:pt x="9004" y="14337"/>
                </a:cubicBezTo>
                <a:cubicBezTo>
                  <a:pt x="9089" y="14314"/>
                  <a:pt x="9099" y="14366"/>
                  <a:pt x="9103" y="14436"/>
                </a:cubicBezTo>
                <a:cubicBezTo>
                  <a:pt x="9107" y="14503"/>
                  <a:pt x="9065" y="14556"/>
                  <a:pt x="9054" y="14610"/>
                </a:cubicBezTo>
                <a:cubicBezTo>
                  <a:pt x="9040" y="14679"/>
                  <a:pt x="9076" y="14684"/>
                  <a:pt x="9128" y="14684"/>
                </a:cubicBezTo>
                <a:cubicBezTo>
                  <a:pt x="9189" y="14684"/>
                  <a:pt x="9222" y="14662"/>
                  <a:pt x="9277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76960" y="3938760"/>
            <a:ext cx="162000" cy="8856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7686" y="11013"/>
                </a:moveTo>
                <a:cubicBezTo>
                  <a:pt x="17686" y="11071"/>
                  <a:pt x="17686" y="11129"/>
                  <a:pt x="17686" y="11187"/>
                </a:cubicBezTo>
              </a:path>
              <a:path w="447" h="249">
                <a:moveTo>
                  <a:pt x="17810" y="10988"/>
                </a:moveTo>
                <a:cubicBezTo>
                  <a:pt x="17810" y="10960"/>
                  <a:pt x="17813" y="10950"/>
                  <a:pt x="17835" y="10939"/>
                </a:cubicBezTo>
                <a:cubicBezTo>
                  <a:pt x="17785" y="10952"/>
                  <a:pt x="17771" y="10964"/>
                  <a:pt x="17711" y="10964"/>
                </a:cubicBezTo>
                <a:cubicBezTo>
                  <a:pt x="17641" y="10964"/>
                  <a:pt x="17585" y="10988"/>
                  <a:pt x="17512" y="10988"/>
                </a:cubicBezTo>
                <a:cubicBezTo>
                  <a:pt x="17480" y="10988"/>
                  <a:pt x="17468" y="11005"/>
                  <a:pt x="17438" y="11013"/>
                </a:cubicBezTo>
              </a:path>
              <a:path w="447" h="249">
                <a:moveTo>
                  <a:pt x="17859" y="11112"/>
                </a:moveTo>
                <a:cubicBezTo>
                  <a:pt x="17882" y="11135"/>
                  <a:pt x="17890" y="11139"/>
                  <a:pt x="17884" y="11162"/>
                </a:cubicBezTo>
                <a:cubicBezTo>
                  <a:pt x="17813" y="11176"/>
                  <a:pt x="17764" y="11187"/>
                  <a:pt x="17686" y="11187"/>
                </a:cubicBezTo>
                <a:cubicBezTo>
                  <a:pt x="17618" y="11187"/>
                  <a:pt x="17575" y="11183"/>
                  <a:pt x="175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75200" y="3956040"/>
            <a:ext cx="7164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6446" y="11013"/>
                </a:moveTo>
                <a:cubicBezTo>
                  <a:pt x="16446" y="11005"/>
                  <a:pt x="16446" y="10996"/>
                  <a:pt x="16446" y="10988"/>
                </a:cubicBezTo>
                <a:cubicBezTo>
                  <a:pt x="16393" y="10988"/>
                  <a:pt x="16365" y="10987"/>
                  <a:pt x="16321" y="11013"/>
                </a:cubicBezTo>
              </a:path>
              <a:path w="200" h="125">
                <a:moveTo>
                  <a:pt x="16495" y="11088"/>
                </a:moveTo>
                <a:cubicBezTo>
                  <a:pt x="16503" y="11088"/>
                  <a:pt x="16512" y="11088"/>
                  <a:pt x="16520" y="11088"/>
                </a:cubicBezTo>
                <a:cubicBezTo>
                  <a:pt x="16507" y="11124"/>
                  <a:pt x="16490" y="11112"/>
                  <a:pt x="16446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37160" y="3938760"/>
            <a:ext cx="1238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5429" y="10988"/>
                </a:moveTo>
                <a:cubicBezTo>
                  <a:pt x="15402" y="11021"/>
                  <a:pt x="15362" y="11063"/>
                  <a:pt x="15379" y="11112"/>
                </a:cubicBezTo>
                <a:cubicBezTo>
                  <a:pt x="15418" y="11221"/>
                  <a:pt x="15492" y="11167"/>
                  <a:pt x="15577" y="11187"/>
                </a:cubicBezTo>
                <a:cubicBezTo>
                  <a:pt x="15621" y="11198"/>
                  <a:pt x="15704" y="11211"/>
                  <a:pt x="15726" y="11261"/>
                </a:cubicBezTo>
                <a:cubicBezTo>
                  <a:pt x="15738" y="11289"/>
                  <a:pt x="15728" y="11347"/>
                  <a:pt x="15701" y="11361"/>
                </a:cubicBezTo>
                <a:cubicBezTo>
                  <a:pt x="15656" y="11384"/>
                  <a:pt x="15561" y="11356"/>
                  <a:pt x="15528" y="11336"/>
                </a:cubicBezTo>
              </a:path>
              <a:path w="348" h="423">
                <a:moveTo>
                  <a:pt x="15627" y="10988"/>
                </a:moveTo>
                <a:cubicBezTo>
                  <a:pt x="15627" y="10972"/>
                  <a:pt x="15627" y="10955"/>
                  <a:pt x="15627" y="10939"/>
                </a:cubicBezTo>
                <a:cubicBezTo>
                  <a:pt x="15580" y="10985"/>
                  <a:pt x="15569" y="11007"/>
                  <a:pt x="15503" y="11013"/>
                </a:cubicBezTo>
                <a:cubicBezTo>
                  <a:pt x="15495" y="11013"/>
                  <a:pt x="15486" y="11013"/>
                  <a:pt x="15478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5000" y="3143160"/>
            <a:ext cx="312840" cy="2187720"/>
          </a:xfrm>
          <a:custGeom>
            <a:avLst/>
            <a:gdLst/>
            <a:ahLst/>
            <a:rect l="l" t="t" r="r" b="b"/>
            <a:pathLst>
              <a:path w="869" h="6078">
                <a:moveTo>
                  <a:pt x="12626" y="8806"/>
                </a:moveTo>
                <a:cubicBezTo>
                  <a:pt x="12626" y="8764"/>
                  <a:pt x="12626" y="8823"/>
                  <a:pt x="12626" y="8781"/>
                </a:cubicBezTo>
                <a:cubicBezTo>
                  <a:pt x="12632" y="8931"/>
                  <a:pt x="12631" y="9078"/>
                  <a:pt x="12650" y="9227"/>
                </a:cubicBezTo>
                <a:cubicBezTo>
                  <a:pt x="12675" y="9426"/>
                  <a:pt x="12698" y="9623"/>
                  <a:pt x="12725" y="9823"/>
                </a:cubicBezTo>
                <a:cubicBezTo>
                  <a:pt x="12783" y="10253"/>
                  <a:pt x="12835" y="10684"/>
                  <a:pt x="12898" y="11112"/>
                </a:cubicBezTo>
                <a:cubicBezTo>
                  <a:pt x="12943" y="11418"/>
                  <a:pt x="12966" y="11726"/>
                  <a:pt x="13022" y="12030"/>
                </a:cubicBezTo>
                <a:cubicBezTo>
                  <a:pt x="13071" y="12295"/>
                  <a:pt x="13133" y="12562"/>
                  <a:pt x="13196" y="12824"/>
                </a:cubicBezTo>
                <a:cubicBezTo>
                  <a:pt x="13279" y="13167"/>
                  <a:pt x="13306" y="13519"/>
                  <a:pt x="13370" y="13866"/>
                </a:cubicBezTo>
                <a:cubicBezTo>
                  <a:pt x="13397" y="14012"/>
                  <a:pt x="13436" y="14165"/>
                  <a:pt x="13444" y="14312"/>
                </a:cubicBezTo>
                <a:cubicBezTo>
                  <a:pt x="13451" y="14431"/>
                  <a:pt x="13462" y="14543"/>
                  <a:pt x="13469" y="14660"/>
                </a:cubicBezTo>
                <a:cubicBezTo>
                  <a:pt x="13472" y="14719"/>
                  <a:pt x="13487" y="14764"/>
                  <a:pt x="13494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48160" y="3178080"/>
            <a:ext cx="34920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4883" y="8979"/>
                </a:moveTo>
                <a:cubicBezTo>
                  <a:pt x="14875" y="8987"/>
                  <a:pt x="14866" y="8996"/>
                  <a:pt x="14858" y="9004"/>
                </a:cubicBezTo>
                <a:cubicBezTo>
                  <a:pt x="14908" y="9042"/>
                  <a:pt x="14922" y="9032"/>
                  <a:pt x="14982" y="9004"/>
                </a:cubicBezTo>
                <a:cubicBezTo>
                  <a:pt x="15042" y="8976"/>
                  <a:pt x="15115" y="8949"/>
                  <a:pt x="15180" y="8930"/>
                </a:cubicBezTo>
                <a:cubicBezTo>
                  <a:pt x="15247" y="8910"/>
                  <a:pt x="15261" y="9019"/>
                  <a:pt x="15255" y="9054"/>
                </a:cubicBezTo>
                <a:cubicBezTo>
                  <a:pt x="15239" y="9153"/>
                  <a:pt x="15218" y="9255"/>
                  <a:pt x="15180" y="9351"/>
                </a:cubicBezTo>
                <a:cubicBezTo>
                  <a:pt x="15160" y="9401"/>
                  <a:pt x="15156" y="9422"/>
                  <a:pt x="15156" y="9475"/>
                </a:cubicBezTo>
              </a:path>
              <a:path w="968" h="646">
                <a:moveTo>
                  <a:pt x="15453" y="8930"/>
                </a:moveTo>
                <a:cubicBezTo>
                  <a:pt x="15461" y="8922"/>
                  <a:pt x="15470" y="8913"/>
                  <a:pt x="15478" y="8905"/>
                </a:cubicBezTo>
                <a:cubicBezTo>
                  <a:pt x="15468" y="8936"/>
                  <a:pt x="15442" y="8960"/>
                  <a:pt x="15429" y="9004"/>
                </a:cubicBezTo>
                <a:cubicBezTo>
                  <a:pt x="15408" y="9077"/>
                  <a:pt x="15504" y="9097"/>
                  <a:pt x="15553" y="9103"/>
                </a:cubicBezTo>
                <a:cubicBezTo>
                  <a:pt x="15626" y="9111"/>
                  <a:pt x="15719" y="9111"/>
                  <a:pt x="15776" y="9153"/>
                </a:cubicBezTo>
                <a:cubicBezTo>
                  <a:pt x="15831" y="9193"/>
                  <a:pt x="15837" y="9248"/>
                  <a:pt x="15801" y="9302"/>
                </a:cubicBezTo>
                <a:cubicBezTo>
                  <a:pt x="15768" y="9353"/>
                  <a:pt x="15682" y="9366"/>
                  <a:pt x="15627" y="9351"/>
                </a:cubicBezTo>
                <a:cubicBezTo>
                  <a:pt x="15583" y="9330"/>
                  <a:pt x="15571" y="9327"/>
                  <a:pt x="15553" y="9302"/>
                </a:cubicBezTo>
              </a:path>
              <a:path w="968" h="646">
                <a:moveTo>
                  <a:pt x="15751" y="8880"/>
                </a:moveTo>
                <a:cubicBezTo>
                  <a:pt x="15768" y="8863"/>
                  <a:pt x="15784" y="8847"/>
                  <a:pt x="15801" y="8830"/>
                </a:cubicBezTo>
                <a:cubicBezTo>
                  <a:pt x="15724" y="8830"/>
                  <a:pt x="15720" y="8857"/>
                  <a:pt x="15652" y="8880"/>
                </a:cubicBezTo>
                <a:cubicBezTo>
                  <a:pt x="15624" y="8880"/>
                  <a:pt x="15613" y="8882"/>
                  <a:pt x="15602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30920" y="32418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16371" y="9004"/>
                </a:moveTo>
                <a:cubicBezTo>
                  <a:pt x="16314" y="9004"/>
                  <a:pt x="16213" y="8982"/>
                  <a:pt x="16197" y="9029"/>
                </a:cubicBezTo>
              </a:path>
              <a:path w="175" h="150">
                <a:moveTo>
                  <a:pt x="16346" y="9079"/>
                </a:moveTo>
                <a:cubicBezTo>
                  <a:pt x="16369" y="9101"/>
                  <a:pt x="16377" y="9106"/>
                  <a:pt x="16371" y="9128"/>
                </a:cubicBezTo>
                <a:cubicBezTo>
                  <a:pt x="16327" y="9137"/>
                  <a:pt x="16294" y="9153"/>
                  <a:pt x="1624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34040" y="3089160"/>
            <a:ext cx="644760" cy="206640"/>
          </a:xfrm>
          <a:custGeom>
            <a:avLst/>
            <a:gdLst/>
            <a:ahLst/>
            <a:rect l="l" t="t" r="r" b="b"/>
            <a:pathLst>
              <a:path w="1787" h="572">
                <a:moveTo>
                  <a:pt x="17066" y="8830"/>
                </a:moveTo>
                <a:cubicBezTo>
                  <a:pt x="17042" y="8807"/>
                  <a:pt x="17066" y="8762"/>
                  <a:pt x="17115" y="8731"/>
                </a:cubicBezTo>
                <a:cubicBezTo>
                  <a:pt x="17153" y="8707"/>
                  <a:pt x="17215" y="8658"/>
                  <a:pt x="17264" y="8682"/>
                </a:cubicBezTo>
                <a:cubicBezTo>
                  <a:pt x="17305" y="8702"/>
                  <a:pt x="17336" y="8764"/>
                  <a:pt x="17314" y="8806"/>
                </a:cubicBezTo>
                <a:cubicBezTo>
                  <a:pt x="17295" y="8843"/>
                  <a:pt x="17169" y="8907"/>
                  <a:pt x="17190" y="8954"/>
                </a:cubicBezTo>
                <a:cubicBezTo>
                  <a:pt x="17212" y="9005"/>
                  <a:pt x="17273" y="9013"/>
                  <a:pt x="17314" y="9029"/>
                </a:cubicBezTo>
                <a:cubicBezTo>
                  <a:pt x="17378" y="9055"/>
                  <a:pt x="17363" y="9071"/>
                  <a:pt x="17363" y="9128"/>
                </a:cubicBezTo>
                <a:cubicBezTo>
                  <a:pt x="17363" y="9136"/>
                  <a:pt x="17363" y="9145"/>
                  <a:pt x="17363" y="9153"/>
                </a:cubicBezTo>
                <a:cubicBezTo>
                  <a:pt x="17297" y="9153"/>
                  <a:pt x="17231" y="9153"/>
                  <a:pt x="17165" y="9153"/>
                </a:cubicBezTo>
              </a:path>
              <a:path w="1787" h="572">
                <a:moveTo>
                  <a:pt x="17934" y="8905"/>
                </a:moveTo>
                <a:cubicBezTo>
                  <a:pt x="17934" y="8880"/>
                  <a:pt x="17934" y="8872"/>
                  <a:pt x="17909" y="8880"/>
                </a:cubicBezTo>
                <a:cubicBezTo>
                  <a:pt x="17921" y="8942"/>
                  <a:pt x="17934" y="8987"/>
                  <a:pt x="17934" y="9054"/>
                </a:cubicBezTo>
                <a:cubicBezTo>
                  <a:pt x="17934" y="9106"/>
                  <a:pt x="17948" y="9110"/>
                  <a:pt x="17959" y="9153"/>
                </a:cubicBezTo>
              </a:path>
              <a:path w="1787" h="572">
                <a:moveTo>
                  <a:pt x="18132" y="8756"/>
                </a:moveTo>
                <a:cubicBezTo>
                  <a:pt x="18140" y="8756"/>
                  <a:pt x="18149" y="8756"/>
                  <a:pt x="18157" y="8756"/>
                </a:cubicBezTo>
                <a:cubicBezTo>
                  <a:pt x="18143" y="8798"/>
                  <a:pt x="18109" y="8781"/>
                  <a:pt x="18058" y="8781"/>
                </a:cubicBezTo>
                <a:cubicBezTo>
                  <a:pt x="17990" y="8781"/>
                  <a:pt x="17932" y="8817"/>
                  <a:pt x="17859" y="8830"/>
                </a:cubicBezTo>
                <a:cubicBezTo>
                  <a:pt x="17836" y="8834"/>
                  <a:pt x="17808" y="8830"/>
                  <a:pt x="17785" y="8830"/>
                </a:cubicBezTo>
              </a:path>
              <a:path w="1787" h="572">
                <a:moveTo>
                  <a:pt x="18157" y="9004"/>
                </a:moveTo>
                <a:cubicBezTo>
                  <a:pt x="18189" y="9015"/>
                  <a:pt x="18196" y="9022"/>
                  <a:pt x="18207" y="9054"/>
                </a:cubicBezTo>
                <a:cubicBezTo>
                  <a:pt x="18135" y="9054"/>
                  <a:pt x="18074" y="9070"/>
                  <a:pt x="18008" y="9079"/>
                </a:cubicBezTo>
                <a:cubicBezTo>
                  <a:pt x="17921" y="9090"/>
                  <a:pt x="17844" y="9110"/>
                  <a:pt x="17760" y="9128"/>
                </a:cubicBezTo>
                <a:cubicBezTo>
                  <a:pt x="17735" y="9128"/>
                  <a:pt x="17727" y="9128"/>
                  <a:pt x="17711" y="9128"/>
                </a:cubicBezTo>
              </a:path>
              <a:path w="1787" h="572">
                <a:moveTo>
                  <a:pt x="18430" y="8632"/>
                </a:moveTo>
                <a:cubicBezTo>
                  <a:pt x="18372" y="8632"/>
                  <a:pt x="18463" y="8618"/>
                  <a:pt x="18479" y="8607"/>
                </a:cubicBezTo>
                <a:cubicBezTo>
                  <a:pt x="18522" y="8578"/>
                  <a:pt x="18552" y="8582"/>
                  <a:pt x="18604" y="8582"/>
                </a:cubicBezTo>
                <a:cubicBezTo>
                  <a:pt x="18612" y="8582"/>
                  <a:pt x="18620" y="8582"/>
                  <a:pt x="18628" y="8582"/>
                </a:cubicBezTo>
                <a:cubicBezTo>
                  <a:pt x="18628" y="8640"/>
                  <a:pt x="18618" y="8661"/>
                  <a:pt x="18604" y="8706"/>
                </a:cubicBezTo>
                <a:cubicBezTo>
                  <a:pt x="18592" y="8742"/>
                  <a:pt x="18553" y="8804"/>
                  <a:pt x="18604" y="8830"/>
                </a:cubicBezTo>
                <a:cubicBezTo>
                  <a:pt x="18660" y="8858"/>
                  <a:pt x="18775" y="8827"/>
                  <a:pt x="1882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46800" y="3598920"/>
            <a:ext cx="403200" cy="160200"/>
          </a:xfrm>
          <a:custGeom>
            <a:avLst/>
            <a:gdLst/>
            <a:ahLst/>
            <a:rect l="l" t="t" r="r" b="b"/>
            <a:pathLst>
              <a:path w="1117" h="448">
                <a:moveTo>
                  <a:pt x="15156" y="10170"/>
                </a:moveTo>
                <a:cubicBezTo>
                  <a:pt x="15114" y="10156"/>
                  <a:pt x="15126" y="10130"/>
                  <a:pt x="15156" y="10096"/>
                </a:cubicBezTo>
                <a:cubicBezTo>
                  <a:pt x="15202" y="10044"/>
                  <a:pt x="15235" y="10026"/>
                  <a:pt x="15304" y="10021"/>
                </a:cubicBezTo>
                <a:cubicBezTo>
                  <a:pt x="15357" y="10017"/>
                  <a:pt x="15377" y="10105"/>
                  <a:pt x="15379" y="10145"/>
                </a:cubicBezTo>
                <a:cubicBezTo>
                  <a:pt x="15383" y="10223"/>
                  <a:pt x="15367" y="10281"/>
                  <a:pt x="15354" y="10344"/>
                </a:cubicBezTo>
                <a:cubicBezTo>
                  <a:pt x="15344" y="10395"/>
                  <a:pt x="15349" y="10439"/>
                  <a:pt x="15404" y="10443"/>
                </a:cubicBezTo>
                <a:cubicBezTo>
                  <a:pt x="15494" y="10450"/>
                  <a:pt x="15587" y="10443"/>
                  <a:pt x="15677" y="10443"/>
                </a:cubicBezTo>
              </a:path>
              <a:path w="1117" h="448">
                <a:moveTo>
                  <a:pt x="15875" y="10120"/>
                </a:moveTo>
                <a:cubicBezTo>
                  <a:pt x="15897" y="10077"/>
                  <a:pt x="15901" y="10065"/>
                  <a:pt x="15925" y="10046"/>
                </a:cubicBezTo>
                <a:cubicBezTo>
                  <a:pt x="15874" y="10059"/>
                  <a:pt x="15856" y="10088"/>
                  <a:pt x="15850" y="10145"/>
                </a:cubicBezTo>
                <a:cubicBezTo>
                  <a:pt x="15843" y="10215"/>
                  <a:pt x="15854" y="10245"/>
                  <a:pt x="15925" y="10269"/>
                </a:cubicBezTo>
                <a:cubicBezTo>
                  <a:pt x="15998" y="10293"/>
                  <a:pt x="16031" y="10268"/>
                  <a:pt x="16098" y="10319"/>
                </a:cubicBezTo>
                <a:cubicBezTo>
                  <a:pt x="16124" y="10339"/>
                  <a:pt x="16169" y="10380"/>
                  <a:pt x="16148" y="10418"/>
                </a:cubicBezTo>
                <a:cubicBezTo>
                  <a:pt x="16124" y="10460"/>
                  <a:pt x="16009" y="10451"/>
                  <a:pt x="15974" y="10443"/>
                </a:cubicBezTo>
                <a:cubicBezTo>
                  <a:pt x="15925" y="10418"/>
                  <a:pt x="15908" y="10409"/>
                  <a:pt x="15875" y="10393"/>
                </a:cubicBezTo>
              </a:path>
              <a:path w="1117" h="448">
                <a:moveTo>
                  <a:pt x="16222" y="10021"/>
                </a:moveTo>
                <a:cubicBezTo>
                  <a:pt x="16230" y="10013"/>
                  <a:pt x="16239" y="10004"/>
                  <a:pt x="16247" y="9996"/>
                </a:cubicBezTo>
                <a:cubicBezTo>
                  <a:pt x="16194" y="9996"/>
                  <a:pt x="16177" y="10016"/>
                  <a:pt x="16123" y="10021"/>
                </a:cubicBezTo>
                <a:cubicBezTo>
                  <a:pt x="16090" y="10021"/>
                  <a:pt x="16074" y="10021"/>
                  <a:pt x="16049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00840" y="3643200"/>
            <a:ext cx="63360" cy="4464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6842" y="10120"/>
                </a:moveTo>
                <a:cubicBezTo>
                  <a:pt x="16784" y="10120"/>
                  <a:pt x="16727" y="10120"/>
                  <a:pt x="16669" y="10120"/>
                </a:cubicBezTo>
              </a:path>
              <a:path w="174" h="125">
                <a:moveTo>
                  <a:pt x="16768" y="10170"/>
                </a:moveTo>
                <a:cubicBezTo>
                  <a:pt x="16818" y="10199"/>
                  <a:pt x="16829" y="10193"/>
                  <a:pt x="16842" y="10244"/>
                </a:cubicBezTo>
                <a:cubicBezTo>
                  <a:pt x="16809" y="10244"/>
                  <a:pt x="16776" y="10244"/>
                  <a:pt x="16743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3500280"/>
            <a:ext cx="411120" cy="20664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7611" y="9947"/>
                </a:moveTo>
                <a:cubicBezTo>
                  <a:pt x="17611" y="9879"/>
                  <a:pt x="17611" y="10032"/>
                  <a:pt x="17611" y="10046"/>
                </a:cubicBezTo>
                <a:cubicBezTo>
                  <a:pt x="17611" y="10112"/>
                  <a:pt x="17611" y="10178"/>
                  <a:pt x="17611" y="10244"/>
                </a:cubicBezTo>
              </a:path>
              <a:path w="1142" h="572">
                <a:moveTo>
                  <a:pt x="17810" y="9922"/>
                </a:moveTo>
                <a:cubicBezTo>
                  <a:pt x="17835" y="9922"/>
                  <a:pt x="17843" y="9922"/>
                  <a:pt x="17859" y="9922"/>
                </a:cubicBezTo>
                <a:cubicBezTo>
                  <a:pt x="17765" y="9922"/>
                  <a:pt x="17677" y="9914"/>
                  <a:pt x="17587" y="9947"/>
                </a:cubicBezTo>
                <a:cubicBezTo>
                  <a:pt x="17521" y="9972"/>
                  <a:pt x="17458" y="9991"/>
                  <a:pt x="17388" y="9996"/>
                </a:cubicBezTo>
                <a:cubicBezTo>
                  <a:pt x="17363" y="9996"/>
                  <a:pt x="17355" y="9996"/>
                  <a:pt x="17338" y="9996"/>
                </a:cubicBezTo>
              </a:path>
              <a:path w="1142" h="572">
                <a:moveTo>
                  <a:pt x="17810" y="10195"/>
                </a:moveTo>
                <a:cubicBezTo>
                  <a:pt x="17818" y="10203"/>
                  <a:pt x="17827" y="10212"/>
                  <a:pt x="17835" y="10220"/>
                </a:cubicBezTo>
                <a:cubicBezTo>
                  <a:pt x="17812" y="10265"/>
                  <a:pt x="17746" y="10285"/>
                  <a:pt x="17686" y="10294"/>
                </a:cubicBezTo>
                <a:cubicBezTo>
                  <a:pt x="17615" y="10305"/>
                  <a:pt x="17551" y="10293"/>
                  <a:pt x="17487" y="10269"/>
                </a:cubicBezTo>
              </a:path>
              <a:path w="1142" h="572">
                <a:moveTo>
                  <a:pt x="18231" y="9773"/>
                </a:moveTo>
                <a:cubicBezTo>
                  <a:pt x="18209" y="9796"/>
                  <a:pt x="18204" y="9804"/>
                  <a:pt x="18182" y="9798"/>
                </a:cubicBezTo>
                <a:cubicBezTo>
                  <a:pt x="18199" y="9732"/>
                  <a:pt x="18213" y="9772"/>
                  <a:pt x="18256" y="9748"/>
                </a:cubicBezTo>
                <a:cubicBezTo>
                  <a:pt x="18297" y="9725"/>
                  <a:pt x="18323" y="9705"/>
                  <a:pt x="18331" y="9773"/>
                </a:cubicBezTo>
                <a:cubicBezTo>
                  <a:pt x="18336" y="9814"/>
                  <a:pt x="18292" y="9861"/>
                  <a:pt x="18281" y="9897"/>
                </a:cubicBezTo>
                <a:cubicBezTo>
                  <a:pt x="18281" y="9922"/>
                  <a:pt x="18281" y="9930"/>
                  <a:pt x="18281" y="9947"/>
                </a:cubicBezTo>
                <a:cubicBezTo>
                  <a:pt x="18330" y="9947"/>
                  <a:pt x="18360" y="9952"/>
                  <a:pt x="18405" y="9922"/>
                </a:cubicBezTo>
                <a:cubicBezTo>
                  <a:pt x="18439" y="9899"/>
                  <a:pt x="18441" y="9882"/>
                  <a:pt x="18479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0:54:31Z</dcterms:created>
  <dc:creator>N Holden</dc:creator>
  <dc:description/>
  <dc:language>en-US</dc:language>
  <cp:lastModifiedBy>N Holden</cp:lastModifiedBy>
  <dcterms:modified xsi:type="dcterms:W3CDTF">2009-02-10T18:06:13Z</dcterms:modified>
  <cp:revision>4</cp:revision>
  <dc:subject/>
  <dc:title>IGCSE Revision Lesson 2</dc:title>
</cp:coreProperties>
</file>